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75C-57B1-4CE5-AE30-F2CF50AA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914-E7E5-4D2B-AC79-FB169D82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BA9-BFB7-41B1-8A34-6D650396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C75C-80DE-44E8-96C8-9853320F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70F-F0BA-4E83-A0BF-C6AC39FC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715-C941-4FAD-99A1-48821C85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7CB-455B-4F30-9290-A3C558E8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194-D7C1-4FC1-BF25-85A1F6A9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91E-F3F3-4D88-97EF-42BBDA6D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0F5F-2788-4672-8BC4-4B70D245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FEA-46A1-4E4F-9DE5-8F9887BF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FC0-0816-4385-8092-59C6F56A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4255-69C1-4198-A14B-295866C13BE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4461-9D9D-47BD-9016-1F120C3AD9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WordArt 12"/>
          <p:cNvSpPr txBox="1"/>
          <p:nvPr/>
        </p:nvSpPr>
        <p:spPr>
          <a:xfrm>
            <a:off x="4059360" y="152280"/>
            <a:ext cx="4400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584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有梦就有未来，让心灵首先到达</a:t>
            </a:r>
            <a:endParaRPr b="1" lang="en-US" sz="2400" spc="1" strike="noStrike">
              <a:ln w="1584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" name="Picture 15" descr="梅花 拷贝2"/>
          <p:cNvPicPr/>
          <p:nvPr/>
        </p:nvPicPr>
        <p:blipFill>
          <a:blip r:embed="rId2"/>
          <a:stretch/>
        </p:blipFill>
        <p:spPr>
          <a:xfrm rot="21408000">
            <a:off x="-17640" y="3495240"/>
            <a:ext cx="2860920" cy="338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2000160"/>
            <a:ext cx="831528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有信心有实力有决心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让一测灿烂辉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AD91-A596-4F81-B1CA-2A7B822E070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198B-19BE-4DDA-A8D2-4B60148A9E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5429160" y="59673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7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冲刺一测班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4000" y="2420640"/>
            <a:ext cx="79182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建议二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积极面对生活，获取人生财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0955-4742-4CB9-9335-80F4FE4201F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48CD-D412-43AC-97AF-7BC78BD0F7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李开复先生说：失败者往往在彷徨中丧失千载难逢的机遇，而成功者则善于抓住机遇、果断行动；失败者往往因为半途而废丢掉大好的前程，而成功者总是在坚持不懈中得到幸运之神的眷顾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因此，对计划的执行来说，最重要的就是要果断行动、坚持不懈。不要轻易地改变自己的目标，不要因为困惑和犹豫与一个又一个成功的机会失之交臂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8C61-82F0-4FC8-A236-32171AA37E7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012C-FBE9-4887-90F9-B956C11C9E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人生遇到失败和挫折是难免的事，必须学会从失败中汲取经验和教训，不被挫折击垮，勇敢地重新开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重新开始的勇气和决心是每个成功者必备的基本素质，也是通向成功的决定性力量。这一点是极其重要的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1ECF-DE0B-4E90-8DDF-5DC532B43E4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FAB3-5B3F-4D11-BDB3-B4C74216FC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下面说一下“人生的十二种财富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有一篇题为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人生的十二种财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的文章，据该文介绍，人生有十二种财富最宝贵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3C26-CD91-46E8-B2C1-0D41916CD80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5813-9F39-4412-98B3-D23414847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4000" y="836640"/>
            <a:ext cx="79182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这十二种财富分别是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、积极的精神态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、良好的体格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、和谐的人际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、脱离恐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5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、未来成功的希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6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、信念的容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7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、与人分享幸福的愿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8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、热爱自己的工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9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、对所有的事物有开放的胸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10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、严于律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11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、理解他人的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12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、经济保障能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71640" y="1196640"/>
            <a:ext cx="7632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在这十二种财富中，大多数人最重视的经济保障能力（金钱）仅排在最后一位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这是为什么呢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E6F7-26DA-431D-93CB-C8B4136F68E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E996-5A21-4F4F-8E04-73F827CD67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547280" y="119664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其实，人生的财富有很多种，名利只是其中很小的一部分。金钱是用自己的劳动从别人那里换取的，属于物质财富的范畴，而前面的十一种财富都是精神的财富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B637-9ED5-47DE-8EFF-C33C469CE1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E1EB-4EA5-43C9-A5B2-92CD306BBD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403280" y="1052280"/>
            <a:ext cx="756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只要调整好自己的心态，就可以很容易地获得前面的十一种财富，并获得足够的快乐与幸福。与此相应的是，一旦拥有了前面的十一种财富，也能很容易得到第十二种财富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265E-1188-4341-B7D7-ADF00788C63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2470-26E7-4C55-8F04-78B98DC0E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332000" y="1341360"/>
            <a:ext cx="7200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李开复先生在他的书中探讨人生成功的原因时也说：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态度是一个人行动的前提，也是为人处世的基本原则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EE23-677E-4DDB-9BA4-3D258613998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258F-70D0-43A7-AD07-845526FDD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15640" y="119664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在所有最重要的人生态度中，积极主动应排第一位。消极被动的人与积极主动的人差异最大。前者总是在等待命运安排或贵人相助，无法主导或推动事情的进展；后者则认为命运操纵在自己手中，可以主导事情的发生、发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6089-58B7-472A-9011-BD7D6C233DF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E644-CFE1-4938-8F46-F14623F7D3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CA86-8E1E-4235-A677-E08E0A6069E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8CC4-F2CB-4E23-AC5D-2566B92D7C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8200" y="785880"/>
            <a:ext cx="86058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cc"/>
                </a:solidFill>
                <a:latin typeface="Calibri"/>
              </a:rPr>
              <a:t>1.</a:t>
            </a:r>
            <a:r>
              <a:rPr b="1" lang="zh-CN" sz="2600" spc="-1" strike="noStrike">
                <a:solidFill>
                  <a:srgbClr val="6600cc"/>
                </a:solidFill>
                <a:latin typeface="Calibri"/>
              </a:rPr>
              <a:t>高考为期不远了，但还不知道自己的目标是什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98989"/>
                </a:solidFill>
                <a:latin typeface="Calibri"/>
              </a:rPr>
              <a:t>2.</a:t>
            </a:r>
            <a:r>
              <a:rPr b="1" lang="zh-CN" sz="2600" spc="-1" strike="noStrike">
                <a:solidFill>
                  <a:srgbClr val="898989"/>
                </a:solidFill>
                <a:latin typeface="Calibri"/>
              </a:rPr>
              <a:t>目标倒是有了，但怎么看都看不出可以实现的希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898989"/>
                </a:solidFill>
                <a:latin typeface="Calibri"/>
              </a:rPr>
              <a:t>   </a:t>
            </a:r>
            <a:r>
              <a:rPr b="1" lang="zh-CN" sz="2600" spc="-1" strike="noStrike">
                <a:solidFill>
                  <a:srgbClr val="898989"/>
                </a:solidFill>
                <a:latin typeface="Calibri"/>
              </a:rPr>
              <a:t>每一次月考都无法实现自己的预期目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alibri"/>
              </a:rPr>
              <a:t>3.</a:t>
            </a:r>
            <a:r>
              <a:rPr b="1" lang="zh-CN" sz="2600" spc="-1" strike="noStrike">
                <a:solidFill>
                  <a:srgbClr val="0066ff"/>
                </a:solidFill>
                <a:latin typeface="Calibri"/>
              </a:rPr>
              <a:t>上一个月的问题，在下一个月的时候还会再次出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心情不好，很容易焦虑，看着谁都不顺眼，经常会为一些无关紧要的小事起急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5.</a:t>
            </a:r>
            <a:r>
              <a:rPr b="1" lang="zh-CN" sz="2600" spc="-1" strike="noStrike">
                <a:solidFill>
                  <a:srgbClr val="ff0000"/>
                </a:solidFill>
                <a:latin typeface="Calibri"/>
              </a:rPr>
              <a:t>以前抓得不够紧，现在想紧了，可怎么有那么多的题要做、有那么多的概念要背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cc"/>
                </a:solidFill>
                <a:latin typeface="Calibri"/>
              </a:rPr>
              <a:t>6.</a:t>
            </a:r>
            <a:r>
              <a:rPr b="1" lang="zh-CN" sz="2600" spc="-1" strike="noStrike">
                <a:solidFill>
                  <a:srgbClr val="6600cc"/>
                </a:solidFill>
                <a:latin typeface="Calibri"/>
              </a:rPr>
              <a:t>有些同学在学校里的位置低于老师的期望与估计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一个人在追寻成功时，应该以勇气指导自己追寻理想、以自信培养发现兴趣、以积极的态度去努力学习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E322-DB58-417B-9397-8EBF007DAA0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6EB2-0E34-4A34-B864-864A83E544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00000" y="1196640"/>
            <a:ext cx="784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他还提出：年轻人要拥有一颗积极主动的心，成功的人总是积极乐观地面对人生，因为没有人比你更在乎你的事业，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没有什么东西像积极主动的态度一样更能体现你自己的独立人格；积极地多做尝试，就可能邂逅机遇；充分准备，才可能把握机遇；努力争取，就是在创造机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8686-96ED-4433-819E-B20DE6083AD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7D3D-32CF-4456-A11D-DD1467862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15640" y="119664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在谈到勇气时，李先生指出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勇气就是在挑战面前勇往直前、永不言败的精神力量，而人生最重要的勇气就是不畏失败敢于尝试的精神，因为没有勇气去尝试的人永远都不会拥有机会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70C1-BBA3-4C5C-B18A-F33AAC0129B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24EF-091A-4F0D-BD6B-439F632CEB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26920" y="2276640"/>
            <a:ext cx="79185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建议三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事事尽心、时时自省、天天进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F5ED-7EBB-4310-810F-72E2E713DFA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6E44-0ACA-42AB-BA50-D40D45C36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42920" y="119664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读者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中曾经登载过这样一段话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你不能决定生命的长度，但你可以扩展它的宽度；你不能改变天生的容貌，但你可以时时展现笑容；你不能企望控制他人，但你可以好好掌握自己；你不能全然预知明天，但你可以充分利用今天；你不能要求事事顺利，但你可以做到事事尽心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一个人只要事事尽心，就一定能做到最好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              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的自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C10D-3F45-48B1-AFC6-79FBE95E911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83F2-DFFF-4B66-BE52-BDDA5D4FF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187280" y="1413000"/>
            <a:ext cx="756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自省”就是自我反省或者叫反思，也就是自我提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李开复先生说：懂得时时自省的人才能跟上时代的步伐，不断成长，并且更容易得到他人的信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B554-B354-4686-B250-9D2D77431D6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1DBF-9FDA-4DEB-AC6B-3C63E4036B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71640" y="119664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人要不断追求进步，因为“足够好是不够的”，永远追求进步才是成功的持久动力；经常听取他人意见，接受“良师”指点是自省和进步的先决条件；事后认真反省，努力改进自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实现从优秀到卓越的飞跃是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走向人生成功的关键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942F-7E18-413D-A2C5-A099C937164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6510-24D3-4EA2-900F-025550464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培养自省习惯的简单训练法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准备一个本子和一支笔，在每一个星期的第一天，记下以下内容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6600cc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）上星期的成功与失败有哪些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6600cc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）那些成功与失败的原因是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6600cc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）制定出要在本周进行改进的计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CD0F-371B-4DD2-883F-90311F3917C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2422-593E-4D3C-A04D-E8460D8C3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000" y="1196640"/>
            <a:ext cx="8496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然后，开始按计划实施。到了每周的最后一天，再做两件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6600cc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）自我评估一下改进计划的执行情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6600cc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）请朋友检查自己是否兑现了承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ACA5-CC27-4CFD-B933-B5CC09A3BB5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A957-92D2-4203-87AC-B384B7153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就这样周而复始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一定会天天进步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并且一步步走向成功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1FC2-6588-4162-8BB5-565FF63194F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D796-1F0C-4DD2-9454-398A3EC2BC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857160" y="1571760"/>
            <a:ext cx="79185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的这些问题，应该说都是高三学生常见的一些问题，都不是大问题。但是，如果不及时去解决它们，其危害很大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2276280"/>
            <a:ext cx="79185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建议四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重视基础知识，讲究学习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6AFD-8407-4E21-BF83-F69DD5C27F0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2FBF-7B54-48CC-9E57-F08D1B52D9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619280" y="1196640"/>
            <a:ext cx="734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基础学习不能怕枯燥，生活中有些事情即使不感兴趣也是必须要做的。例如，高考的五门学科都要努力学好，不可偏废。如果你对每一学科都有兴趣，那你就是一个幸运儿了，因为你可以享受学习的乐趣；但如果没有兴趣，也必须掌握好这些基础知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02EC-3C3C-48DD-89F2-D5F63CD243A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28C5-0764-4B0C-AEF5-64484AFBD3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4000" y="2060640"/>
            <a:ext cx="79182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lang="zh-CN" sz="6000" spc="-1" strike="noStrike">
                <a:solidFill>
                  <a:srgbClr val="ff0000"/>
                </a:solidFill>
                <a:latin typeface="Calibri"/>
              </a:rPr>
              <a:t>介绍几个全国高考状元的经验之谈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821E-791A-41AD-8826-C578FD60C12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2E1C-BB70-43E2-9A0E-6012BFAE80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4000" y="404280"/>
            <a:ext cx="8820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状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北京大学法学院 张坤义（山东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努力提高效率，在提高效率的过程中，提高学习成绩，抓紧时间，在有效的时间里学习更多、更新的知识。不要无原则地利用时间，该休息时休息，要尽可能节约点滴时间，节约小时间。我们那儿中午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钟的吃饭时间，我只用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钟就吃完，然后剩下时间尽量看一会儿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高三的一年是有效的一年，但是你再怎么利用，时间也不会变成两年。这样在有效的时间内必须提高效率，才能提高复习成绩。说到学习方法，一是平时学得比较扎实，一步一步来，不要好高骛远，一个是学用的有机结合。再就是不停地针对自己的弱点找出有效的方式去攻克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BB69-97FC-4C88-98DB-318AA68961E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B1C7-616C-4ECE-9EAD-7C23E3BC40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状元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、北京大学经济学院  郑佳（重庆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关于高考的成功，我觉得主要有两条：有恒心、有信心。人在奋斗中都会遇到很多困难，如果没有信心和恒心，是不可能战胜这些困难的。很多很多的挫折、失败、不如意，如果没有坚定的信心来支撑，有可能就退出了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学习方法也很重要，比如：语文是要在平时生活中去学习，光靠书本是学不好的。平时多练、多听、多读、多写，多在生活中学习，积累多了，自然能学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数学是多练，上课听讲之后要大量练题。做每道题都必须认真做，不能只求数量，不求质量。踏踏实实地多练一些题，数学自然就上来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英语和语文差不多，靠语感，平时多读一些，多练一些，多写一写。课文、名著多看一看，语感强了之后，再把语法单词背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0" y="4996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状元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、清华大学法学系   郑静（浙江省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我的体会是要特别重视在学校的学习，在学校的每一分每一秒都不要浪费，而回到家里要适当放松一点，一般不超过十点就睡了，一定要保障在学校要有一个良好的学习状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第二是要正确地对待自己的优势学科与劣势学科。在保持优势学科的基础上，要多花一些时间在劣势学科上。只要持之以恒地坚持多花功夫，弱势也有可能转化为优势，即使不能转化为优势，至少也不会拉你的后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第三是要有良好的考试心态。在高考的第一科考语文时，我觉得语文没考好，心里很沮丧。可是我又一想：“后面的四科都是我的强项，把四科都考好了就可以弥补语文的失利。”于是我赶紧调整心态，后四科都发挥得很好。后来才知道，我的语文考了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30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分。</a:t>
            </a:r>
            <a:r>
              <a:rPr b="1" lang="zh-CN" sz="2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54900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状元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北京大学法学院  崔燕（辽宁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在高考复习时，有一个阶段会出现学习高原期，即学习再怎么努力也上不去，总在一个平台上。有些同学到这个时候会非常着急，有的人甚至放弃努力。实际上经过高原期后，同学们的成绩还会再上一个台阶的。在这个时候一定要咬住牙挺过去，否则必将遗憾终生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47F9-E57A-413A-87F8-62CF8A75CE1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160A-7F54-4D74-AE41-5786A7921B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1700280"/>
            <a:ext cx="79185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从这些高考状元的体会中，我可以发现：综合素质和全面基础是十分重要的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4D56-C24A-4AEA-B785-46AEB8FBDC0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3444-C048-4D86-B3C7-1BEBD9A518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00000" y="2276280"/>
            <a:ext cx="79185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建议一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学会计划人生，做最好的自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8A43-B747-4F12-B808-804034AEEB2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7143-8F26-4820-AA24-946F9C646E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01440" y="1196640"/>
            <a:ext cx="79182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人生并不长，真正有价值的生命只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——5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真正能做事业的时间大约就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年左右，而三十年在人的一生中并不太长，稍纵即逝。所以，一定要在人生的基础阶段，做好人生的计划，打好人生的基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7BC2-4FD1-4E78-B26A-B81CA8838C3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2714760" y="485784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两句话与大家共勉，希望大家都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此学会时时为自己制订出切实可行的计划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0160" y="1628640"/>
            <a:ext cx="79185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这两句话是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赢家总是有计划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输家总是有借口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50AD-1149-4A6E-B039-DE5BDD193E1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D282-47DF-4644-B60D-17775B19C8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500" autoRev="1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5" dur="500" autoRev="1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500" autoRev="1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0" dur="500" autoRev="1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1" dur="500" autoRev="1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首先要成为每一天的赢家，所以你每天都要为明天做计划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然后是成为高考的赢家，并随后一步步成为人生的赢家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9959-D39E-427E-AB17-7F4E5FE5095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1B54-A619-4069-90C5-D9A2717EEC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做最好的自己封面"/>
          <p:cNvPicPr/>
          <p:nvPr/>
        </p:nvPicPr>
        <p:blipFill>
          <a:blip r:embed="rId1"/>
          <a:stretch/>
        </p:blipFill>
        <p:spPr>
          <a:xfrm>
            <a:off x="174600" y="907920"/>
            <a:ext cx="2813040" cy="4103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058920" y="1196640"/>
            <a:ext cx="583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有一本书，名字就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做最好的自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本书的作者就是著名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驻中国总裁李开复先生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李先生对成功作了如下的概括：在多元化的视角下，衡量成功的标准有很多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可以是人的地位和财富，也可以是一个人的创造力和影响力，可以是一个人对他人的帮助或贡献，也可以是一个人在自身基础上的提高和超越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梅花 拷贝2"/>
          <p:cNvPicPr/>
          <p:nvPr/>
        </p:nvPicPr>
        <p:blipFill>
          <a:blip r:embed="rId2"/>
          <a:stretch/>
        </p:blipFill>
        <p:spPr>
          <a:xfrm>
            <a:off x="108000" y="3789360"/>
            <a:ext cx="270036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00000" y="1628640"/>
            <a:ext cx="79185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每个人都有条件在超越自我的基础上不断取得成功，因为成功就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——“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做最好的自己”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194C-2BB4-4B02-9564-2B141A76DBF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9E80-0219-4113-92BC-62967C599E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01:52:1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10:15Z</dcterms:modified>
  <cp:revision>381</cp:revision>
  <dc:subject>主题班会课件(分28大类): http://shop62905894.taobao.com</dc:subject>
  <dc:title>主题班会课件(分28大类): http://shop62905894.taobao.com</dc:title>
</cp:coreProperties>
</file>