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gif" ContentType="image/gif"/>
  <Override PartName="/ppt/media/cashreg.wav" ContentType="audio/x-wav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gif" ContentType="image/gif"/>
  <Override PartName="/ppt/media/image3.jpeg" ContentType="image/jpeg"/>
  <Override PartName="/ppt/media/image4.jpeg" ContentType="image/jpeg"/>
  <Override PartName="/ppt/media/laser.wav" ContentType="audio/x-wav"/>
  <Override PartName="/ppt/media/image17.png" ContentType="image/png"/>
  <Override PartName="/ppt/media/image14.gif" ContentType="image/gif"/>
  <Override PartName="/ppt/media/image2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81C-C3DF-441D-AF0D-5FEE82BE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374-BD33-4FBD-A942-1299BA6F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69BCC-E362-4A3C-922E-5117A9D0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92EAD-9F83-400F-A484-CA2B3368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6BD9F-E62C-4FF8-82CD-3F4C11D0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4A84F-22B8-4667-B54B-94FFE6E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9FFC1-791A-4455-8CAD-C1216AE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8444E-0495-4EBB-903B-8466BD40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32CDD-7232-46D4-B57E-07B8E0F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E8959-5D79-4874-9284-B393B31D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E1F0E-892C-42FC-9A6E-2D707067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0C68B-B579-4376-B888-A121D092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0BC-9EB2-42CA-86EE-7641A49E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287B4-E2C1-4ABD-BACB-CCA998F8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904D7-FA7C-4A02-B9DD-1492A749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A2BE0-FA35-4C29-A9C0-C9C586CB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F8686-24C7-4F95-9F4E-9576DE23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B60A6-0066-487B-AE7D-6E359200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A4B48-ADCD-4546-A5B7-0EECF535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39B96-2ACD-4067-B182-289E08CB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0A7F9-400D-48FF-831E-7195B77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B6F64-201F-4FC8-A5AB-8A638B98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BA016-1A69-4960-B0C6-2A40121A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8D5-A026-470C-8D50-E1DC8BA1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6B4FE-9CD5-43A7-B723-4711B4DD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713E1-A029-4B3C-9420-1960C58C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30BAE-C970-4C9F-A50F-A5FECAD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1D08A-F32D-40A5-9CE9-4E232FB3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65B3E-6393-4C8A-B5C9-C737B5EB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9F799-D67B-44B5-8BB5-AA9EF664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512AD-7C10-47CC-9720-D2549A1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DF9DA-091A-4425-8BFA-FDAF1BC9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9D6B8-A47D-42F5-9C69-81BB5C4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F1D18-1BF0-406C-9D5D-6AEAEF4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B660-0EB1-4ECF-99E2-D9FBD239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B5983-D6B1-47D5-A8FF-2D8D2C3D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BC950-A5C4-4F4F-B701-FA486A37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8A6E5-0F2A-4636-83F7-ACDC3CDD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25FC6-CB14-4D2E-A808-9A3A873F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F5986-A65E-4A1B-BF90-7D1E495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A3031-9AF3-48A5-AEED-7C5CA10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B1BD5-8149-42F6-A8D4-1F1B969A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3DF19-8708-4ADC-A64C-59D74ABC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A9727-2356-48B3-B714-40509FCA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23631-889B-48BE-A234-B1978A4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C35A-BA09-43E4-8B58-B7B4677E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C7C13-E645-4FEF-84D1-30A7F2E5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AC095-AC8E-41B5-A1BE-8A74F93A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BE1AC-18B7-4D74-BA48-49FC703E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804F9-84F4-4872-9EEF-D531F676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4B133-06E4-42A2-876F-C7E941C0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C2679-9C57-4768-BAF4-6630DEF5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0C321-0FDD-4758-98E8-1603EE4A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21224-5E87-4586-BD52-5353EC8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4B812-2A4D-45F0-946B-D644486B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A8CD7-AA4C-449D-9A83-017BBC91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26B-0141-4712-BFCC-CE54F4D5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F7CB9-F7FA-4771-8DA2-8F8A304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F2C2E-C3D1-4981-88F9-107C150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52DF2-6E7F-4885-A888-F74C66A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FB4EF-1B82-4D45-8DFA-CBF1C54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CEF31-3712-40A0-A79F-6EB888C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A6859-D591-40AA-8A78-633AB9C7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3AB03-3740-45EA-913C-F2161CDF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C7D74-CBE0-4A38-A924-C211CAFA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910B4-D774-4507-84CF-CFB0847A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1F210-D427-4D50-B94C-6B550225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20DD-C0E6-499A-ACBD-31AEBBA2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83D18-4606-4C5D-98BE-A1C8FB83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956B0-491B-4421-A7FD-BCC71E1B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04BEC-4666-4CC3-8929-EEA120AA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46F62-1CE7-4346-BF93-E99E569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ABDE2-ADC3-4B0C-A8FD-F2813E6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A2CB7-D967-41D5-BA5E-A51E1C42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BD8B5-CBE1-4AA4-8CC7-0480E063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7C43F-94B6-4325-AE55-93BA7B32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78993-9C13-4810-B01E-FFA934BF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EBD6-7D14-40EF-9DFF-A7A9B490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5BC5-5C42-4A70-A53D-989FDB99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D208-C66B-4FF2-A075-9441A8B0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A65-69B5-46BC-8EB5-D9918D1B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941D-8207-42B3-9077-A14D223F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19A4-1DB5-4698-9283-2EBEA54E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81AE-A2D4-4F07-B6E8-3F75BA55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00DB-DFE6-4AFA-8623-922BCFCF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9E1F-8FBB-45DA-BCD1-336496F7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F4FF-A2FA-4A58-9F43-EF68740B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B6F2-35A3-481D-BF6E-74AE0ABA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BE8C-83A2-4608-B10C-2959CBFB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F925-9229-4712-A905-E757435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D48B-8616-4FA0-97FC-6F9BACBA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A00-7254-4389-82E0-A0828615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46EA-2F7A-453B-B1BF-CB714792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DFD3-1021-4A8F-B228-52EE1538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DCD6-29B1-4F7C-A5EC-BAE7E093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E32E-01F4-4D48-B221-E2EDF44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4939-EB60-40B8-9EA3-C8C39EDB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C6B2-BD4D-4C70-8ED4-8B65FA3F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7434-7F82-4A53-91FB-139481E1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A3101-3022-4C9C-8001-08E1E9CF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433C-F55F-48FB-A2E3-6C771D6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E6CC-9EC5-4D1A-8EF5-9988502E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6D5-6D0D-4AD2-8513-D8BEFEE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6ED0C-E59B-4799-9645-48B2F41A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92AD-1763-47BB-9714-C9341659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5413-1DF3-4EED-8AE2-578E2E52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101D-A43C-440D-A654-E542B5B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7807-0F83-4D33-8083-E23330A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5577-ABAE-4490-8676-8E12B4D4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162E-71F4-4751-89D8-9AAAF7E0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1A45-B0FD-4AFA-BC8F-47381ACE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CA14-14E3-4CBB-82FC-8E9498EC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2AF95-14B7-434B-AD16-580BE963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C7F-85AF-4257-AC4A-B748FEC5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067E-2809-4B63-841C-6750A607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E43E-7FEA-4FE0-B704-93C1C078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5D7F4-F2E5-4C7A-89AF-B6848965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3198-E36B-4D6F-B875-7D6E7A97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E4FAD-ADBA-42FE-87A3-425A9EC2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71B6-C6E8-4DA9-BBD4-5C118964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0B522-E79D-4FF2-B9DB-6839868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9132-9269-425D-9D0F-6DEC1CB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F086-BC74-46FA-A92A-3F60658D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2B28-11E5-42BB-BAB3-30F8FF6D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529-8E2A-4697-9E28-3D1D4227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EBF11-016D-4928-97FC-03FD70B4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709E3-253E-4FB3-84F4-EBEC2B62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64DA-C0F2-41E6-9C46-1B92EAAF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9F9B2-AB9F-4FFD-8AD1-774601D6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13D9-5D11-4D80-A0C7-293E5FDE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955EB-131B-40D1-A42D-299FDD5D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0EB1-ABCF-4C25-A4DD-DAEC3348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DDBB7-3BFF-47AC-B673-62EF176F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8B40-E882-48BE-9746-8853F28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0F50-A8F1-4C82-BFB3-6C067682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7E7-6725-41C5-937D-A4685FE9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EE9ED-26F6-4D1A-B90F-965A2B7C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D206A-C8DB-4C41-B90A-E69B63A4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801D6-6193-4637-A8CA-F4581BBC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3978F-2D76-467D-BC39-5A8BFB2A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D9AC1-261A-4D7E-B3BE-64CC043C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0CB95-D8FD-496A-945C-9D8689EF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ABA68-DC63-4613-9C27-8367DF7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10D5-2049-4375-962F-110D5E61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1EC11-F0FD-4B6C-A593-441DE111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59F8-09EE-4E66-836A-728F050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0B3-01F8-4579-8EB3-0A8B69B6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89A06-318C-44CC-8F99-569A797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5A84D-61A4-4A80-A688-911E6F6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4C02D-160D-4ADF-96B9-966A333B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8B8C-F9C7-42EF-A779-CC18287C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C795-DCDB-43B6-9770-1D3997EE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7896-408E-49B5-8BAE-D3946243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13ED-657E-49C0-BCC5-E1FA250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6375-0CC1-40D7-891A-551E180C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819A-EAD2-4092-81CC-F70E223D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6C437-8B7D-40C4-8C44-957D0FB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485-972A-424E-9F76-04E9D4A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8DDE8-DE2B-4D1B-B42A-7D2ABCCC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756D7-13BF-47BF-A208-2AA26A49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A1B3F-E921-4DF9-954A-E9900E6C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D657E-C441-4024-BF62-CBB412E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62214-5CCC-4705-8E66-B3140E1F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7839E-3CB9-4DEE-AA03-4F631922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AEE2-E497-47DD-9BD6-34520FE7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8966A-02DD-42FB-8BA0-017B5121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CD0A1-90CE-4423-AFC0-1D49DE8E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25A96-7A8C-4033-B0C8-1E0BD5F5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01B5-2987-41F2-A885-7EBFE3D9A2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28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9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30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DE77-A5B5-4214-A4B8-C65E12B64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15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18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21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424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427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1F7D-C4FF-414B-BFBC-F988E8F4690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7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7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7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48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3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3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833B-3650-4E08-ACF8-FEDEC8A4364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1" marL="542160" indent="-2084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2" marL="834120" indent="-166680"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3" marL="1167840" indent="-166680">
              <a:spcBef>
                <a:spcPts val="11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4" marL="1501560" indent="-166680">
              <a:spcBef>
                <a:spcPts val="11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7FC4-7669-4AAF-92B6-5BFEC931D2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7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FC17-A9C4-49C0-92C3-643134AF0D7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6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A128-8D7D-4628-9617-AC5F76E554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9640" y="846000"/>
            <a:ext cx="8604360" cy="1006560"/>
            <a:chOff x="539640" y="846000"/>
            <a:chExt cx="8604360" cy="1006560"/>
          </a:xfrm>
        </p:grpSpPr>
        <p:sp>
          <p:nvSpPr>
            <p:cNvPr id="46" name=""/>
            <p:cNvSpPr/>
            <p:nvPr/>
          </p:nvSpPr>
          <p:spPr>
            <a:xfrm>
              <a:off x="1474920" y="1494000"/>
              <a:ext cx="7418160" cy="134640"/>
            </a:xfrm>
            <a:prstGeom prst="flowChartAlternateProcess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97840" y="846000"/>
              <a:ext cx="1046160" cy="7826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40" y="907920"/>
              <a:ext cx="989280" cy="944640"/>
            </a:xfrm>
            <a:prstGeom prst="ellipse">
              <a:avLst/>
            </a:prstGeom>
            <a:noFill/>
            <a:ln w="88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9280" y="119700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ff"/>
                  </a:solidFill>
                  <a:latin typeface="Vineta BT"/>
                  <a:ea typeface="華康儷簡宋(P)"/>
                </a:rPr>
                <a:t>XDZ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D96F-92C3-4092-8089-060A52FDA8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966-3D4E-4940-9E6C-5ADBB9ADC3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1" marL="549720" indent="-211320">
              <a:spcBef>
                <a:spcPts val="11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2" marL="845640" indent="-168840">
              <a:spcBef>
                <a:spcPts val="11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3" marL="1184040" indent="-168840">
              <a:spcBef>
                <a:spcPts val="1100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4" marL="1522440" indent="-168840">
              <a:spcBef>
                <a:spcPts val="11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5" marL="1522440" indent="-168840">
              <a:spcBef>
                <a:spcPts val="1100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6" marL="1522440" indent="-168840">
              <a:spcBef>
                <a:spcPts val="1100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E78A-65DB-4D0B-9D30-B1DC111B6A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45F6-56A8-4E79-B31C-347E3D5DB4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7ED7-B608-4D4C-9210-E83CF9E69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EF0C-9486-43D4-84E5-AFD04D37772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21B-F91E-4059-956B-2B35C78CB4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file:///tmp/home/.config/libreoffice/4/user/gallery/cashreg.wav" TargetMode="External"/><Relationship Id="rId5" Type="http://schemas.microsoft.com/office/2007/relationships/media" Target="file:///tmp/home/.config/libreoffice/4/user/gallery/cashreg.wav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5654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042920" y="1413000"/>
            <a:ext cx="612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创艺简隶书"/>
              </a:rPr>
              <a:t>战一周磨意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创艺简隶书"/>
              </a:rPr>
              <a:t>    </a:t>
            </a: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创艺简隶书"/>
              </a:rPr>
              <a:t>创期中考辉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创艺简隶书"/>
              </a:rPr>
              <a:t>         </a:t>
            </a: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创艺简隶书"/>
              </a:rPr>
              <a:t>迎接五一长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042920" y="1557360"/>
            <a:ext cx="7777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既然我们选择了远方，就只顾风雨兼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cc"/>
                </a:solidFill>
                <a:latin typeface="华文行楷"/>
                <a:ea typeface="华文行楷"/>
              </a:rPr>
              <a:t>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汪国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拼搏中难免受苦、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要坚定信念！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在风雨之后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5812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我们现在的痛苦比起考试失败后的痛苦，那算得了什么？！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611280" y="3068640"/>
            <a:ext cx="80629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我们现在的欢乐比起考试成功带来的后的幸福，那又算得了什么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心向着自己目标前进的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个世界都给他让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默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" dur="1" fill="hold"/>
                                  <p:tgtEl>
                                    <p:spTgt spid="6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每个人都有潜在的能量，只是很容易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被习惯所掩盖，被时间所迷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被惰性所消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5280" y="4221000"/>
            <a:ext cx="87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吃得苦中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方为人上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2791800" y="1676520"/>
            <a:ext cx="3691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盖士人读书，第一要有志，第二要有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要有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曾国藩家书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失败者寻找借口，推卸责任；成功者承担责任，寻找方法。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你到底是推卸责任，还是承担责任？是寻找借口，还是寻找方法？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不要后悔！</a:t>
            </a: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后悔是一种耗费精神的情绪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后悔是比损失更大的损失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比错误更大的错误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所以不要后悔 。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爸爸妈妈别说再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真实的故事。一个秋天，在某游览区，一辆缆车正悠闲地滑动在大山上空。缆车里的人们说说笑笑，尽情欣赏着窗外的景色，没有人能预料到接下来的厄运。因为缆车超载，在行驶到一半的时候，缆绳突然被缆绳挣断了。缆车倏地跌下了山谷，人们惊恐万分，但是没有人能拯救他们……后来缆车被发现的时候，只有一个小男孩幸存了下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来，在缆车下落的时候，他的父母把他举起来顶到了头上。在生的最后几秒，父母用自己的身躯挽救了孩子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1258920" cy="10494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0" y="6408720"/>
            <a:ext cx="9182160" cy="4492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224314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8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想想我们的父母吧，他们为我们所有付出。我相信，遇到这种情况，任何一个父母都会做出这样的选择。想想我们从小到大，我们生病时父母的焦虑，我们高兴时父母的欣慰。我们为他们做的每一件小事，都会让他们好高兴。（学习进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1258920" cy="10494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0" y="6408720"/>
            <a:ext cx="9182160" cy="4492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94978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有关如何复习：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球王贝利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年的足球生涯里，参加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比赛，共踢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。并创造了一个队员在一场比赛中射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的纪录。他超凡的技艺不仅令万千观众心醉，而且常使球场上的对手拍手称绝。他不仅球艺高超，而且谈吐不凡。当他个人进球记录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时，有人问他：“您哪个球踢得最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贝利笑了，意味深长地说：“下一个。”他的回答含蓄幽默，耐人寻味，像他的球艺一样精彩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启示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迈向成功的道路上，每当实现了一个近期目标，决不应自满，而应迎接新的成功，应把原来的成功当成是新的成功的起点，千万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不能自我满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才永远有新的目标，才能攀登新的高峰，才能获得成功者的无穷无尽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41128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下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5f5f5f"/>
                </a:solidFill>
                <a:latin typeface="Arial"/>
              </a:rPr>
              <a:t>狮子和羚羊的家教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每天，当太阳升起的时候，非洲大草原上的动物们就开始奔跑了。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  狮子妈妈在教育自己的孩子，你必须跑得再快一点，再快一点，你要是跑不过最慢的羚羊，你就会活活地饿死。”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在另外一个场地上，羚羊妈妈也在教育自己的孩子：“孩子，你必须跑得再快一点，再快一点，如果你不能比跑得最快的狮子还要快，那你就肯定会被他们吃掉。”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　秘诀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记住，你跑得快，别人跑得更快。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赶超对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期中考试复习计划与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结历次考试经验和教训，分析自己薄弱学科和优势学科，计划在剩下一个星期的复习重点和策略。（每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自己定下新的目标（超越：同伴；分数；名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自己一个拼搏的理由（一句话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84680" y="551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苦战一星期，实现超越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32000" y="-24336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一、仔细制定一个考前复习计划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 </a:t>
            </a:r>
            <a:endParaRPr b="0" lang="en-US" sz="8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58560" y="981000"/>
            <a:ext cx="762012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复习没计划，西打一捶，东打一棒，肯定事倍功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凡事预则立，不预则废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32000" y="2637000"/>
            <a:ext cx="78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安排学习任务时，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轻重缓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当。学习时间十分有限，要在这有限的时间内分清“重和急”、“轻和缓”。“重和急”指的是自己尚未复习或只要投入时间就可以掌握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重点内容和学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对这部分要重点“扫荡”。“轻和缓”指的是非重点，难度小，占分不多的部分，也可以是自己掌握得比较好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826560" y="-360"/>
            <a:ext cx="83170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有效利用复习时间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恩格斯说：“没有计划的学习简直就是荒唐。”有了复习计划，就要有效地利用时间。离期中考试只有一周的时间了，时间对于我们来说相当重要，所以我们要以迎接期中考试的复习为重心。那么怎样才能在有限的时间内做更多的事情？我认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可以提高学习效率，这样就能完成更多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通过自我控制，养成好习惯，改掉坏习惯。平时，同学们浪费时间的现象非常普遍。如：聊天、没有节制地玩、无目的的东张西望、无目的的看与学习无关的书、为崇拜的人分散精力、看或写不必要的东西等等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58560" y="189000"/>
            <a:ext cx="78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讲究复习方法，提高复习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何讲究复习方法，在复习中要突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五要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对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基础知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概念的来龙去脉要搞清楚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对知识和概念的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易混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就是难点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归纳类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即要辩别易混点的区别与内在联系，建议同学们尽量找出自己的疑难问题，记录在册，及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找老师和同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决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构建学科知识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体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即要归纳总结，经常对知识进行疏理，使学科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知识结构网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逐步清晰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掌握学科的思维方式和思想方法，考试答题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规范有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避免不合符规范而扣分，该得的分没有得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眼高手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只看不做，适当的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练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必要的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87280" y="0"/>
            <a:ext cx="74901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、在回扣复习阶段一定要注意各科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时间上的合理分配，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要齐头并进。一枝独秀不是春，百花齐放春满园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效率第一，劳逸结合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。效率是成功的关键，追求一定时间内的效率是学习的目标，尤其是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课堂效率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和课后自习效率。但劳累决不能过度，决不能学到自己头晕时还硬撑。觉得大脑效率太低了，就要休息片刻，或变换学习科目及方式，自己进行调整。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互帮互学，共同进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独学而无友，则孤陋而寡闻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注意方式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87280" y="249228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宁静致远！心静如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别浮躁，贵在坚持。要立志把凳子坐穿。我要说，谁坐到最后，谁就会胜利，谁坚持到最后，谁就会成功。快到考试了，连凳子都坐不住，还想得高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0" y="2565360"/>
            <a:ext cx="88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的进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老师和父母最大的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35280" y="90792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拼搏的身后是老师和父母默默关注的目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26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5:07Z</dcterms:modified>
  <cp:revision>11</cp:revision>
  <dc:subject>主题班会课件(分28大类): http://shop62905894.taobao.com</dc:subject>
  <dc:title>主题班会课件(分28大类): http://shop62905894.taobao.com</dc:title>
</cp:coreProperties>
</file>