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C4A1-D7A4-4B6A-8B0A-49D65908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3DA-83C9-4D45-8800-DF3758A1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D14E-BF99-466B-9644-926A2FD1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3C74-E05D-4F76-835C-34486327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4D3E-6BAA-4DF6-9452-F29436E0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2B3C-3B98-40BD-8744-B81F68D1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0F88-85C6-4E29-BE88-34F5CC33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9FDC-920B-4CAB-8303-B6C950DE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567-594F-4603-9FA9-94BB716F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56D-6988-4AB2-AE5C-26FE16F1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E7A3-4DF0-4DE1-9FBF-D04C01EF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AF75-497B-4C8D-B19B-C817524E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F48A-76F8-494B-AF57-A62BE5A619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三偏科生全面复习好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偏科生在这段时间内，应该以提高高考总分为出发点进行复习。偏科所形成的弱势科目，已是冰冻三尺，非一日之寒，向弱势科目倾斜大量的时间是得不偿失的，应该对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个科目进行全面有重点的复习。复习主要以看一模以来的模拟试卷、学校自主开发的复习资料为主，还要根据考试说明中所列的知识点进行回忆，在回忆过程中发现问题，带着问题看教材，这样可以提高看书的针对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在复习中要把看、思、做、小结结合起来，反对死记硬背，提倡多动脑，多问几个为什么？提高运用已有的学科知识来解决具体问题的能力，要相信，带进高考考场的不仅是知识，更是能力和智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四 复习重“四基”</a:t>
            </a:r>
            <a:br>
              <a:rPr sz="32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高考试题中有容易题、中等难度题与难题，但以中等难度题为主。容易题与中等难度题要占到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0%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左右，这些题都是基础题，真正的难题只占到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0%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。高考前的自主复习重在复习基础与查漏补缺，解决难题的能力不是一时能提高的和下降的，这是一个能力积淀的过程，高考能不能考出理想成绩，关键是基础题做得怎么样。因此，高考前的复习，反对好高骛远，提倡脚踏实地。基本概念、基本规律、基本公式、基本实验、答题技巧、解题格式，是复习中要特别注意的问题，考前复习一定要回归基础、回归书本、回归基本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五如何提高复习效果</a:t>
            </a:r>
            <a:br>
              <a:rPr sz="4000"/>
            </a:b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1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要提高时间效能。把事情很快地做完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叫做效率；把事情很快又很对地做完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叫做效能。花时间在计划上才是最节省时间的作法，因此，考前的自主复习要制定学习计划，按计划办事，是提高时间效能的有效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2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要提高信心指数。要对自己充满信心，要把握机遇。信心是成功的前提，是取得高考前复习效果的关键，要自己鼓气，精神愉悦地去复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3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要抓关键与重点。不要平均使用力量，要学会抓关键与重点。注意学科的主干知识、核心知识；注意老师强调的重点与关键；注意近来试卷上经常出现的问题；注意自己经常出错误的问题；注意寻找自己的缺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4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要文、理结合，单科与综合科结合进行复习。上午的时间可以复习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个小时的语文、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个多小时的综合科目，下午复习数学、英语各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小时左右。在复习综合科目时，前面几天，可以进行理、化、生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政、史、地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单科查漏补缺性复习，后几天可以复习模拟试卷，这样有利于综合科目之间的思维整合，有利于在同一个时间内，不断交替思考综合科目的问题，为高考做好铺垫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5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要把看、思、读、听、做、小结结合起来。复习中首先强调的是看，在看中进行回忆，在看中思考问题，在看中强化理解，在看中进行记忆，把看与思有机结合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复习中首先强调的是在语文、英语的复习中对重点的章节要默读，要注意听力训练，因为几天没有听读训练，听读能力会下降，在高考中难以有高的兴奋点，不利于高考中语文、英语科目的发挥。对于理科科目的复习，一定不要停笔，要把看、思、做结合起来，停笔几天，解题能力也会下降，影响高考理科科目的发挥。其次，要注意对每天的复习进行小结，增加理性思考，有利于强化对知识的理解记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总之，高考前的复习很重要，希望同学们好好珍惜，注意方法与技巧，提高自主复习的效果，祝愿同学们在今年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月收获的不仅是成绩，还收获成长、收获成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高考前十天左右，高三老师均会把时间归还给同学们，由同学们进行自主复习。而这段自主复习的时间对高三同学来说，是非常重要的，如何有效利用？如何充分发挥学习的主体性，积极提高复习效果？如何调整自身状态，在高考中充分发挥自己的水平，考出理想成绩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我们的最高追求是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优化各科得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让自己的得分值为最大值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30040"/>
            <a:ext cx="7199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积极备考；互相鼓励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轻松赴考；沉着冷静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快乐下考；硕果累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964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一 自主复习在学校更好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经过多年的实践和对比实验，我发现，高考前的自主复习在学校复习效果更好。</a:t>
            </a:r>
            <a:br>
              <a:rPr sz="4000"/>
            </a:b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一 是高考前的复习，最好不要改变学习环境，高三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年上课均在学校，考生已经比较适应学校的环境，能够自然地过渡到高考，心态比较平稳，有利于高考的正常发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二是在学校复习，当遇到问题时，能够问老师与同学，及时解决复习中存在的问题，在解决问题的过程中提高自信心，有利于精神状态的调整，这对高考大有好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三是在学校复习，有很多同学在一起学习、一起努力、一起前进。同学之间又存在竞争心理，有利于个人兴奋点和学习效率的提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四是在学校复习，时间上有规律，生活上有节奏，可以适当参加一些体育活动，还会有来自老师的鼓励与安慰，感觉踏实，有良好的积极进取的心态，利于提升复习效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二 各科复习时间要与考时同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段时间要很好地调节生物钟，要注意把学习与休息有机结合起来。因高考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日上午考语文，下午考数学，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日上午考综合，下午考英语，所以这段自主学习的时间最好是上午复习语文与综合，下午复习数学与英语，这样有利于在相应的时间对相应的科目产生兴趣，提高兴奋点，利于高考生物钟的调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晚上可以进行调节性复习，可以以综合科目与数学为主。但每天要保证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小时睡眠，保证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小时适度的体育锻炼，这样精力充沛，有利于复习效果的提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4T16:02:4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4:18Z</dcterms:modified>
  <cp:revision>4</cp:revision>
  <dc:subject>主题班会课件(分28大类): http://shop62905894.taobao.com</dc:subject>
  <dc:title>主题班会课件(分28大类): http://shop62905894.taobao.com</dc:title>
</cp:coreProperties>
</file>