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35B-8488-4493-A0C0-5FD9E4D0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CD5-52BC-41C1-84B9-E7693333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72A-F9CF-42BE-801D-47F358AD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6F4-2EBF-4E39-A076-4C15344B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B3A2-A215-4F26-85EB-71652CEB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9D95-DE7C-4E63-9779-20F4F7B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50C5-35A1-4AAD-971E-F4983BDF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8FAB-7417-4F8F-B29A-47E44555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E901-8311-4584-B8A0-C7194500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9F1D-5573-482B-90EC-9F672962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84B0-0DF2-4708-9537-0BDB23D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155-73FE-4D4A-B670-B3EB701E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64E6-A493-4FEA-BD2A-075F2C3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A1F2-3041-49D4-A8CA-66A39653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A460-D763-4F6E-A53D-631E5C25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06E-F40C-4488-9359-ED288B8D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78E0-5482-4F4F-AFEC-D87463B3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E0A-A2B4-40B1-8125-C0AC3832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118-D875-42BE-A234-1E7FBC7F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E4A-3D6A-4EB4-8D39-E30AC084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90C-C32E-48CB-92A1-E7846963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B1E-5BCD-4CF6-BAB7-5DA4A00D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D83-03BA-43B7-8797-95AF2D37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0E9-724C-4212-B625-BBE095D4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98ED-E973-4096-99B0-E989CBEC18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DBCF-5A81-4D0A-9CD3-E77DE6E60E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3280" y="1989000"/>
            <a:ext cx="64008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遵守常规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楷体"/>
              </a:rPr>
              <a:t>（纪律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提高成绩的首要保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5960" y="831960"/>
            <a:ext cx="2131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高考冲刺主题班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楷体"/>
              </a:rPr>
              <a:t>作为高三百日冲刺阶段的学生该如何处理好纪律与提高成绩的关系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有人认为，高三复习紧张，纪律常规松一点也没有关系，只要能取得高分就行了，殊不知，没有纪律的保障，也就没有良好的学习环境，取得高分只能是句空话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497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楷体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楷体"/>
              </a:rPr>
              <a:t>现阶段高三学子究竟该如何做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抢时间，抓基础，勤演练定有收获；树自信，誓拼搏，升大学回报父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为失败找借口，要为成功找方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脚踏实地，心无旁骛，珍惜分分秒秒。紧跟老师，夯实基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遇难心不慌，遇易心更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忘时，忘物，忘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诚实，朴实，踏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楷体"/>
              </a:rPr>
              <a:t>最后阶段高三学子一定要做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899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作业考试化，考试高考化，将平时考试当高考，高考考试当平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坚持：贵在坚持、难在坚持、成在坚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太阳每天都是新的，你是否每天都在努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保持平常心，营造好环境，扬起常笑脸，轻松迎高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再苦再难，也要坚强，只为那些期待的眼神 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6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要回避哪怕是一个简单得不好意思的问题，其实它对你很重要，其实它对别人也是一个了不起的难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楷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用以下的话语来激励自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高三高考高目标，苦学善学上好学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拧成一股绳，搏尽一份力，狠下一条心，共圆一个梦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奋起飞翔，路在脚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我自信，我出色：我拼搏，我成功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经风雨，怎见彩虹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6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有志者自有千方百计，无志者只感千难万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7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努力造就实力，态度决定高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8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努力就能成功，坚持确保胜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9.</a:t>
            </a: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回忆很美，尽管过程艰辛：也许结果总有遗憾，但我们无愧于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高三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××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班学生誓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            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高考冲刺在即，作高三学子，我们谨以青春的名义在此庄严宣誓，在未来的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00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天内，决心做到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目标明确，积极向上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勤学苦练，斗志昂扬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讲究方法，保质保量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顽强拼搏，不弃不放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遵守纪律，自信自强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争分夺秒，适度紧张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         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排除干扰，挑战困难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自我调整，身心健康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            </a:t>
            </a: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全力以赴，创造辉煌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</a:t>
            </a:r>
            <a:r>
              <a:rPr b="1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请父母放心，我们是有志气的人，一定不让你们伤心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</a:t>
            </a:r>
            <a:r>
              <a:rPr b="1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请老师放心，我们是有骨气的人，一定不让你们失望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     </a:t>
            </a:r>
            <a:r>
              <a:rPr b="1" lang="zh-CN" sz="2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请学校放心，我们是有潜力的人，一定会为母校争光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7000" y="2201400"/>
            <a:ext cx="760716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遵守常规、提高成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坚持就能成功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楷体"/>
              </a:rPr>
              <a:t>同学们，你们认为世界上最自由的国家是哪个？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8900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76500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素质教育在美国——留美博士眼里的中美教育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尽管在美国的校园里，允许五花八门的观点存在，但是，学生每天必须宣誓，而且人手一册校规。这是做也得做，不做也得做的“没商量”的“天条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它涉及出勤、作业、体育、服装、行为规范等学校生活的各方面，条文繁琐，规定具体。（虽经作者删节，仍有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页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…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所以，我们可以肯定，美国的中小学不但有纪律，而且很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692280"/>
            <a:ext cx="8282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同学们，当“真相大白”以后，大家一定深感意外，在号称最讲民主与人权的美国，中小学竟可以合法地体罚学生，停课是正大光明的，甚至有不让学生吃午点的规定，而且根本不讲道理。相比中国，美国的惩罚更严厉、更无情。这似乎是一个矛盾的结论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华文楷体"/>
                <a:ea typeface="华文楷体"/>
              </a:rPr>
              <a:t>深思一下，其实不然。俗语云“没有规矩，不成方圆”，“没有绝对的自由”。大家只要想想十字路口的人群和车流就会明白，如果都不遵守交通规则而自行其是，必然导致交通堵塞甚至车毁人亡的惨剧，绝对的自由必然带来绝对的混乱。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765000"/>
            <a:ext cx="896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所以，有纪律，才有真正的自由。或者说纪律是自由的保证。对于大家而言，纪律是学习的保证，也是安全的保证。不要一提纪律就只想到罚站、停课，只想到对老师的愤恨，甚至认为纪律</a:t>
            </a: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=</a:t>
            </a: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整人，纪律</a:t>
            </a: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=</a:t>
            </a: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惩罚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换个角度想想吧，严格的作息保证了你多少学习时间，科学的生活方式使你的身体如何强健，全面的防范使你消除了多少安全隐患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3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总之，遵规守纪会给你带来很多的好处，你必须感激纪律，感激惩罚。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569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美国的中学有没有严厉的惩罚措施，比如罚站、停课、体罚甚至开除？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628640"/>
            <a:ext cx="8713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罚站”，可能是一种具有世界性的惩罚手段……比起中国的学校来，美国学校里的罚站恐怕要来得容易些，量也更多些……而且站的姿势是有规定的。比如脚跟靠墙根或鼻子正对圆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抽烟严重危害健康。任何香烟或烟叶制品，以及打火机、火柴在学校的建筑、校车和学校的范围内任何时间都是禁止出现的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初犯被罚两个星期六学校；再犯将罚三天不能上学；第三次违犯，将罚五天不能上学；第四次违犯，十天不能上学，并被建议开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（所谓星期六学校，就是在星期六上午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9:00—12:00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来学校学习或上课。因为美国学生实行双休日制度，星期六来校学习是一种仅次于不能来校上课的惩罚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12536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惩罚时根本不注重说理，甚至根本不说理。……既没有争辩的余地，也没有什么耐心细致的政治思想工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惩罚就是惩罚！就像现在国内的许多交警罚违章车辆一样，罚款就是罚款，指出哪一章哪一条，照章办事，按条罚款。通也得通，不通也得通！哪里还有什么思想工作要做的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8:01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4:42Z</dcterms:modified>
  <cp:revision>104</cp:revision>
  <dc:subject>主题班会课件(分28大类): http://shop62905894.taobao.com</dc:subject>
  <dc:title>主题班会课件(分28大类): http://shop62905894.taobao.com</dc:title>
</cp:coreProperties>
</file>