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png" ContentType="image/png"/>
  <Override PartName="/ppt/media/hammer.wav" ContentType="audio/x-wav"/>
  <Override PartName="/ppt/media/image21.png" ContentType="image/png"/>
  <Override PartName="/ppt/media/image19.png" ContentType="image/png"/>
  <Override PartName="/ppt/media/explode.wav" ContentType="audio/x-wav"/>
  <Override PartName="/ppt/media/click.wav" ContentType="audio/x-wav"/>
  <Override PartName="/ppt/media/bomb.wav" ContentType="audio/x-wav"/>
  <Override PartName="/ppt/media/image14.jpeg" ContentType="image/jpeg"/>
  <Override PartName="/ppt/media/image9.wmf" ContentType="image/x-wmf"/>
  <Override PartName="/ppt/media/image10.jpeg" ContentType="image/jpeg"/>
  <Override PartName="/ppt/media/image5.gif" ContentType="image/gif"/>
  <Override PartName="/ppt/media/image28.png" ContentType="image/png"/>
  <Override PartName="/ppt/media/image7.gif" ContentType="image/gif"/>
  <Override PartName="/ppt/media/image8.gif" ContentType="image/gif"/>
  <Override PartName="/ppt/media/image18.jpeg" ContentType="image/jpeg"/>
  <Override PartName="/ppt/media/image12.jpeg" ContentType="image/jpeg"/>
  <Override PartName="/ppt/media/image13.jpeg" ContentType="image/jpeg"/>
  <Override PartName="/ppt/media/image22.png" ContentType="image/png"/>
  <Override PartName="/ppt/media/image24.jpeg" ContentType="image/jpeg"/>
  <Override PartName="/ppt/media/image23.jpeg" ContentType="image/jpeg"/>
  <Override PartName="/ppt/media/image25.png" ContentType="image/png"/>
  <Override PartName="/ppt/media/image2.png" ContentType="image/png"/>
  <Override PartName="/ppt/media/image11.jpeg" ContentType="image/jpeg"/>
  <Override PartName="/ppt/media/image26.png" ContentType="image/png"/>
  <Override PartName="/ppt/media/image3.gif" ContentType="image/gif"/>
  <Override PartName="/ppt/media/image1.png" ContentType="image/png"/>
  <Override PartName="/ppt/media/image15.jpeg" ContentType="image/jpeg"/>
  <Override PartName="/ppt/media/image16.jpeg" ContentType="image/jpeg"/>
  <Override PartName="/ppt/media/chimes.wav" ContentType="audio/x-wav"/>
  <Override PartName="/ppt/media/image6.gif" ContentType="image/gif"/>
  <Override PartName="/ppt/media/image17.gif" ContentType="image/gif"/>
  <Override PartName="/ppt/media/image27.jpeg" ContentType="image/jpeg"/>
  <Override PartName="/ppt/media/applause.wav" ContentType="audio/x-wav"/>
  <Override PartName="/ppt/media/drumroll.wav" ContentType="audio/x-wav"/>
  <Override PartName="/ppt/media/image4.gif" ContentType="image/gif"/>
  <Override PartName="/ppt/media/typ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0A7A-D08A-40AD-9CB8-32EBBDD73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1F24-9875-4650-9010-8C7AFA5D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9E7F-F7C2-43F0-B741-E72FADF8E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600E-9ED2-403F-A4DE-D909284AB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04B3-787D-4DEE-B41F-84306663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766D-7A47-4EB0-B3CB-8E7013C8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9B48-9E81-4DCE-A1F2-3BF17FA5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8C8D-A677-42D7-9A3B-1928D741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023B-4D71-46FD-9048-8B9D4FBC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678E-E994-40D0-A034-0D8BB97F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68F7-F9B2-40A1-AF23-093142A8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F34A-F17E-494C-8B18-268034EF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C440-A47E-4EAC-866B-F961D303E0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audio" Target="../media/hammer.wav"/><Relationship Id="rId4" Type="http://schemas.openxmlformats.org/officeDocument/2006/relationships/audio" Target="../media/typ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type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applause.wav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audio" Target="../media/bomb.wav"/><Relationship Id="rId4" Type="http://schemas.openxmlformats.org/officeDocument/2006/relationships/audio" Target="../media/click.wav"/><Relationship Id="rId5" Type="http://schemas.openxmlformats.org/officeDocument/2006/relationships/audio" Target="../media/explode.wav"/><Relationship Id="rId6" Type="http://schemas.openxmlformats.org/officeDocument/2006/relationships/audio" Target="../media/click.wav"/><Relationship Id="rId7" Type="http://schemas.openxmlformats.org/officeDocument/2006/relationships/audio" Target="../media/explode.wav"/><Relationship Id="rId8" Type="http://schemas.openxmlformats.org/officeDocument/2006/relationships/audio" Target="../media/click.wav"/><Relationship Id="rId9" Type="http://schemas.openxmlformats.org/officeDocument/2006/relationships/audio" Target="../media/hammer.wav"/><Relationship Id="rId10" Type="http://schemas.openxmlformats.org/officeDocument/2006/relationships/audio" Target="../media/chimes.wav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17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file:///tmp/home/.config/libreoffice/4/user/gallery/type.wav" TargetMode="External"/><Relationship Id="rId3" Type="http://schemas.microsoft.com/office/2007/relationships/media" Target="file:///tmp/home/.config/libreoffice/4/user/gallery/type.wav" TargetMode="External"/><Relationship Id="rId4" Type="http://schemas.openxmlformats.org/officeDocument/2006/relationships/image" Target="../media/image22.png"/><Relationship Id="rId5" Type="http://schemas.openxmlformats.org/officeDocument/2006/relationships/audio" Target="file:///usr/lib/libreoffice/share/gallery/sounds/applause.wav" TargetMode="External"/><Relationship Id="rId6" Type="http://schemas.microsoft.com/office/2007/relationships/media" Target="file:///usr/lib/libreoffice/share/gallery/sounds/applause.wav" TargetMode="External"/><Relationship Id="rId7" Type="http://schemas.openxmlformats.org/officeDocument/2006/relationships/image" Target="../media/image22.png"/><Relationship Id="rId8" Type="http://schemas.openxmlformats.org/officeDocument/2006/relationships/audio" Target="file:///tmp/home/.config/libreoffice/4/user/gallery/bomb.wav" TargetMode="External"/><Relationship Id="rId9" Type="http://schemas.microsoft.com/office/2007/relationships/media" Target="file:///tmp/home/.config/libreoffice/4/user/gallery/bomb.wav" TargetMode="External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audio" Target="file:///tmp/home/.config/libreoffice/4/user/gallery/click.wav" TargetMode="External"/><Relationship Id="rId8" Type="http://schemas.microsoft.com/office/2007/relationships/media" Target="file:///tmp/home/.config/libreoffice/4/user/gallery/click.wav" TargetMode="External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hyperlink" Target="http://www.ziqu.com/bbs/660100/2/4713.html" TargetMode="External"/><Relationship Id="rId5" Type="http://schemas.openxmlformats.org/officeDocument/2006/relationships/image" Target="../media/image5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hyperlink" Target="http://www.ziqu.com/bbs/660100/2/4713.html" TargetMode="External"/><Relationship Id="rId14" Type="http://schemas.openxmlformats.org/officeDocument/2006/relationships/image" Target="../media/image6.gif"/><Relationship Id="rId15" Type="http://schemas.openxmlformats.org/officeDocument/2006/relationships/hyperlink" Target="http://www.ziqu.com/bbs/660100/2/4713.html" TargetMode="External"/><Relationship Id="rId16" Type="http://schemas.openxmlformats.org/officeDocument/2006/relationships/image" Target="../media/image5.gif"/><Relationship Id="rId17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1916280"/>
            <a:ext cx="64818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1680">
                  <a:solidFill>
                    <a:srgbClr val="ffcc00"/>
                  </a:solidFill>
                  <a:miter/>
                </a:ln>
                <a:solidFill>
                  <a:srgbClr val="ff0000">
                    <a:alpha val="74000"/>
                  </a:srgbClr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一模动员令</a:t>
            </a:r>
            <a:endParaRPr b="0" lang="en-US" sz="1800" spc="1" strike="noStrike">
              <a:ln w="31680">
                <a:solidFill>
                  <a:srgbClr val="ffcc00"/>
                </a:solidFill>
                <a:miter/>
              </a:ln>
              <a:solidFill>
                <a:srgbClr val="ff0000">
                  <a:alpha val="74000"/>
                </a:srgbClr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ffcc00"/>
                  </a:solidFill>
                  <a:miter/>
                </a:ln>
                <a:solidFill>
                  <a:srgbClr val="ff0000">
                    <a:alpha val="74000"/>
                  </a:srgbClr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   ——</a:t>
            </a:r>
            <a:r>
              <a:rPr b="0" lang="zh-CN" sz="1800" spc="1" strike="noStrike">
                <a:ln w="31680">
                  <a:solidFill>
                    <a:srgbClr val="ffcc00"/>
                  </a:solidFill>
                  <a:miter/>
                </a:ln>
                <a:solidFill>
                  <a:srgbClr val="ff0000">
                    <a:alpha val="74000"/>
                  </a:srgbClr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爱拼才会赢</a:t>
            </a:r>
            <a:endParaRPr b="0" lang="en-US" sz="1800" spc="1" strike="noStrike">
              <a:ln w="31680">
                <a:solidFill>
                  <a:srgbClr val="ffcc00"/>
                </a:solidFill>
                <a:miter/>
              </a:ln>
              <a:solidFill>
                <a:srgbClr val="ff0000">
                  <a:alpha val="74000"/>
                </a:srgbClr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542000" cy="55404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187280" y="988920"/>
            <a:ext cx="6697800" cy="825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隶书"/>
              </a:rPr>
              <a:t>    </a:t>
            </a: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隶书"/>
              </a:rPr>
              <a:t>人的潜能是无限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54360" y="2028960"/>
            <a:ext cx="6102360" cy="25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隶书"/>
              </a:rPr>
              <a:t>坚信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隶书"/>
              </a:rPr>
              <a:t>   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你有多大目标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   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就会有多大收获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79640" y="4765680"/>
            <a:ext cx="5256360" cy="8251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隶书"/>
              </a:rPr>
              <a:t>并坚持为之努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87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人最宝贵的是生命。生命对于每个人只有一次。人的一生应当这样度过：回首往事，他不会因为虚度年华而悔恨，也不会因为碌碌无为而羞愧；临终之际，他能够说：“我的整个生命和全部精力，都献给了世界上最壮丽的事业——为解放全人类而斗争”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84360" y="260280"/>
            <a:ext cx="33829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生命的意义</a:t>
            </a:r>
            <a:endParaRPr b="1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34" name=""/>
          <p:cNvSpPr/>
          <p:nvPr/>
        </p:nvSpPr>
        <p:spPr>
          <a:xfrm>
            <a:off x="4840200" y="5589000"/>
            <a:ext cx="19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钢铁是怎样炼成的》保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柯察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11280" y="170028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　我听说过“勤能补拙”，也知道“天才就是百分之一的灵感加上百分之九十九的勤奋”，我甚至还常常感叹“水滴石穿”的精神。但是我一直没有真正领悟到勤奋所具有的惊人力量，一直没有领悟到勤奋能如此彻底地改变一个人的命运，直到听说这个我身边的真实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116000" y="549360"/>
            <a:ext cx="374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一个真实的故事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187280" y="184464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　　有这样一位同学，无论老师还是同学，没一个说他聪明。他的成绩其实还不错，但所有的人都认为那是他过度使用自己的体力和智力的结果。他是靠勤奋，也就是笨功夫才维持着还说得过去的成绩。如果他稍一松劲，就很难考上大学。但他也许并不知道或许是不理会人们对他的这种评价，一如既往的刻苦学习，即便如此，他仍然没有达到本科分数线，上了一所大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116000" y="549360"/>
            <a:ext cx="374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一个真实的故事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042920" y="1341360"/>
            <a:ext cx="6696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在大学，身边的同学都忙着看电影，谈恋爱，忙着挣钱，忙着看各种课外书，而他还是整天哇里哇里的背单词，做数学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工作了，他分到一家效益还不坏的企业，每月有几百元的收入，他的同学都一个个进入了自己的角色，上班，娱乐，谈婚论嫁。而他，还是只知道做题，背单词，有时下了夜班，别人会睡上一整天，他却强迫自己保持每天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小时的学习时间，他把上下班和吃饭睡觉的时间都压缩在另外的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小时里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116000" y="549360"/>
            <a:ext cx="374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一个真实的故事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187280" y="213372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黑体"/>
              </a:rPr>
              <a:t>两年后，他考上了研究生。这一点，没人感到惊讶，皇天不负有心人嘛！人们羡慕他的同时，无不钦佩他的毅力和勤奋。拿到硕士学位，他到深圳找到了一份月薪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黑体"/>
              </a:rPr>
              <a:t>3000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黑体"/>
              </a:rPr>
              <a:t>多元的工作。户口也迁了过去，按说，这已经是一个因为勤奋而成功的很好故事了，然而故事还没有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116000" y="549360"/>
            <a:ext cx="374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一个真实的故事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87280" y="184464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一年后，他收到了美国一所著名大学博士研究生的录取通知书，并有每年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万美元的奖学金，足够他的学费和生活开销。原来，他在读研究生期间，参加了留学入学考试。他对同事说，厚厚的一本英语词典，我背了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25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遍。他说这话时显得很轻松，可这里面付出的汗水却令每个在场的人惊叹不已。当他飞跃半个地球，在美国进行他的研究时，他那些比他聪明的同学们已经没有一个人能理解他的工作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16000" y="549360"/>
            <a:ext cx="374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一个真实的故事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258920" y="1557360"/>
            <a:ext cx="669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所普通中学毕业的学生，一个大专生，单单靠着勤奋，竟能飞到一般人不能企及，甚至不敢想象的高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们羡慕他的成功的同时，对于他的勤奋只能自叹不如。我从这个故事中发现，持之以恒的勤奋并不是轻易能做得到的，而一旦有了勤奋就能改变一个人的命运，就没有什么能阻挡你的脚步。原来，勤奋不仅是成功的一个要素，勤奋本身是一种成功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549360"/>
            <a:ext cx="374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一个真实的故事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280" y="422064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99"/>
                </a:solidFill>
                <a:latin typeface="Arial"/>
                <a:ea typeface="华文行楷"/>
              </a:rPr>
              <a:t>我们面对一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Arial"/>
                <a:ea typeface="华文行楷"/>
              </a:rPr>
              <a:t>勤奋使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             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华文行楷"/>
              </a:rPr>
              <a:t>青春无悔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732720" y="4365720"/>
            <a:ext cx="10634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1120" y="-360"/>
            <a:ext cx="56851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cc"/>
                </a:solidFill>
                <a:latin typeface="Arial"/>
                <a:ea typeface="隶书"/>
              </a:rPr>
              <a:t>有这样一个人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6280" y="1125360"/>
            <a:ext cx="882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3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当时他失业了，这显然使他很伤心，但他下决心要当政治家，当州议员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9520" y="2924280"/>
            <a:ext cx="88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他着手自己开办企业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1000" y="486900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他再一次参加竞选州议员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1557360"/>
            <a:ext cx="1029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糟糕的是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失败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92752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可一年不到，这家企业又倒闭了。在以后的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17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年间，他不得不为偿还企业倒闭时所欠下的债务而到处奔波，历尽磨难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2360" y="4870440"/>
            <a:ext cx="88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这次他成功了。他内心萌发了一丝希望，以为自己的生活有了转机：“可能我可以成功了！”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00000" y="141300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</a:t>
            </a: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我们在座的同学不存在能否考上大学的问题 </a:t>
            </a: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  </a:t>
            </a: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而是考什么大学的问题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00536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77080" y="54936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5950080"/>
            <a:ext cx="146664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69228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77000" y="624852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3860640"/>
            <a:ext cx="770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</a:t>
            </a: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相对我们将拥有的美好明天来说，我们今天付出的又算的了什么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06280" y="1125360"/>
            <a:ext cx="88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第二年，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3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他订婚了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9520" y="2610000"/>
            <a:ext cx="88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3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他觉得身体状况良好，于是决定竞选州议会议长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370188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4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他又参加竞选美国国会议员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111456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但离结婚还差几个月的时候，未婚妻不幸去世。这对他精神的打击实在太大了，他心里憔悴，数月卧床不起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79640" y="305748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可他失败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10320" y="36878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失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00000" y="450864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4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他又一次参加竞选国会议员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96280" y="449424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当选了。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5840" y="515952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两年任期很快过去了，他决定要争取连任，他认为自己作为国会议员表现是很出色的，相信选民会继续选举他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35200" y="60357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他落选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240" y="189000"/>
            <a:ext cx="5040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cc"/>
                </a:solidFill>
                <a:latin typeface="Arial"/>
                <a:ea typeface="隶书"/>
              </a:rPr>
              <a:t>这样一个人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24000" y="1268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因为这次落选他赔了一大笔钱，他申请当本地的土地官员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7000" y="169236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                  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州政府把他的申请退了回来，上面指出：“作本州的土地官员要求有卓越的才能和超长的智力，你的申请未能满足这些要求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308628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5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他竞选参议员，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0920" y="357336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两年后他竞选美国副总统提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9280" y="4653000"/>
            <a:ext cx="855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又过了两年，他再一次竞选参议员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61240" y="465300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还是失败了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0280" y="5418000"/>
            <a:ext cx="62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1120" y="114480"/>
            <a:ext cx="51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cc"/>
                </a:solidFill>
                <a:latin typeface="Arial"/>
                <a:ea typeface="隶书"/>
              </a:rPr>
              <a:t>这样一个人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529240" y="305604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但失败了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3573360"/>
            <a:ext cx="90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结果被对手击败；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928960" y="5388120"/>
            <a:ext cx="30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当选为美国总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8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995280" y="476280"/>
            <a:ext cx="482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阿伯拉罕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林肯，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一个在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次失败的基础上赢得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次成功的人便是，他 一直没有放弃自己的追求。他一直在做自己生活的主宰。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860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年，他当选为美国总统，成为美国历史上最伟大的总统之一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-397080" y="-360"/>
            <a:ext cx="6337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就是这样一个人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55640" y="765000"/>
            <a:ext cx="2879640" cy="4103640"/>
            <a:chOff x="755640" y="765000"/>
            <a:chExt cx="2879640" cy="4103640"/>
          </a:xfrm>
        </p:grpSpPr>
        <p:sp>
          <p:nvSpPr>
            <p:cNvPr id="192" name=""/>
            <p:cNvSpPr/>
            <p:nvPr/>
          </p:nvSpPr>
          <p:spPr>
            <a:xfrm>
              <a:off x="755640" y="765000"/>
              <a:ext cx="2879640" cy="4103640"/>
            </a:xfrm>
            <a:prstGeom prst="rect">
              <a:avLst/>
            </a:prstGeom>
            <a:solidFill>
              <a:srgbClr val="0000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826920" y="836280"/>
              <a:ext cx="2736720" cy="3960360"/>
              <a:chOff x="826920" y="836280"/>
              <a:chExt cx="2736720" cy="3960360"/>
            </a:xfrm>
          </p:grpSpPr>
          <p:pic>
            <p:nvPicPr>
              <p:cNvPr id="19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26920" y="836280"/>
                <a:ext cx="2736720" cy="396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"/>
              <p:cNvSpPr/>
              <p:nvPr/>
            </p:nvSpPr>
            <p:spPr>
              <a:xfrm>
                <a:off x="899280" y="920880"/>
                <a:ext cx="454680" cy="15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林肯总统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"/>
          <p:cNvSpPr txBox="1"/>
          <p:nvPr/>
        </p:nvSpPr>
        <p:spPr>
          <a:xfrm>
            <a:off x="468360" y="5229360"/>
            <a:ext cx="6697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9966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挫折与成功有什么关系</a:t>
            </a:r>
            <a:endParaRPr b="1" lang="en-US" sz="1800" spc="1" strike="noStrike">
              <a:ln w="9360">
                <a:solidFill>
                  <a:srgbClr val="ff9966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11280" y="5950080"/>
            <a:ext cx="649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这样的人会后悔他的青春吗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7380360" y="5229360"/>
            <a:ext cx="13478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00000" y="4708440"/>
            <a:ext cx="1582920" cy="12906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3492360" y="4797360"/>
            <a:ext cx="1668600" cy="13654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755640" y="1844640"/>
            <a:ext cx="74613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她是成功的！成功的背后是什么？</a:t>
            </a:r>
            <a:endParaRPr b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04" name="" descr="">
            <a:hlinkClick r:id="" action="ppaction://media"/>
          </p:cNvPr>
          <p:cNvPicPr/>
          <p:nvPr>
            <a:audioFile r:link="rId8"/>
            <p:extLst>
              <p:ext uri="{DAA4B4D4-6D71-4841-9C94-3DE7FCFB9230}">
                <p14:media r:link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6372360" y="4797360"/>
            <a:ext cx="177804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9" dur="1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01"/>
                </p:tgtEl>
              </p:cMediaNode>
            </p:audio>
            <p:seq>
              <p:cTn id="430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34" dur="1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02"/>
                </p:tgtEl>
              </p:cMediaNode>
            </p:audio>
            <p:seq>
              <p:cTn id="435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436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39" dur="1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04"/>
                </p:tgtEl>
              </p:cMediaNode>
            </p:audio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24000" y="0"/>
            <a:ext cx="8532720" cy="28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汉仪雪峰体简"/>
              </a:rPr>
              <a:t>成功的秘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开学第一天，古希腊大哲学家苏格拉底对学生们说：“今天咱们只学一件最简单也是最最容易做的事儿。每人把胳膊尽量往前甩，然后再尽量往后甩。”说着，苏格拉底示范了一遍。“从今天开始，每天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。大家能做到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生们都笑了。这么简单的事，有什么做不到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了一个月，苏格拉底问学生们：“每天甩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，哪些同学坚持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％的同学骄傲地举起了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60360" y="0"/>
            <a:ext cx="8532720" cy="33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汉仪雪峰体简"/>
              </a:rPr>
              <a:t>成功的秘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过了一个月，苏格拉底又问，这回，坚持下来的学生只剩下八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年过后，苏格拉底再一次问大家：“请告诉我，最简单的甩手运动，还有哪几位同学坚持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时，整个教室里，只有一人举起了手。这个学生就是后来成为古希腊另一位大哲学家的柏拉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世间最容易的事是坚持，最难的事也是坚持。说它容易，是因为只要愿意做，人人能做到；说它难，是因为真正能做到的，终究只是少数人。成功在于坚持。这是一个并不神秘的秘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900000" y="639720"/>
            <a:ext cx="777564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扪心自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柏拉图为什么能取得成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出人头地？他其实并没有什么惊人之举，没有什么过人的智慧，他只不过是坚持下去了，比一般的人做得好一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请大家记住：只要你比一般人做得好一点——仅仅是好一点——你就一定能出人头地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请同学们扪心自问：我和班上和级里品学兼优的同学相比，我输在哪里？我还会重蹈以往失败之覆辙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模的重要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模的成绩和高考成绩相关度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以在广州市所有考生中进行横向比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利于查漏补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确立后段复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几点要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订好复习计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规范考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端正态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具规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书写规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答题规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严格常规是高考复习的保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1042920" y="907920"/>
            <a:ext cx="6696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3816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阳光总在风雨后</a:t>
            </a:r>
            <a:endParaRPr b="1" lang="en-US" sz="1800" spc="1" strike="noStrike">
              <a:ln w="3816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635280" y="3645000"/>
            <a:ext cx="4392720" cy="13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99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——</a:t>
            </a:r>
            <a:r>
              <a:rPr b="1" lang="zh-CN" sz="1800" spc="1" strike="noStrike">
                <a:ln w="28440">
                  <a:solidFill>
                    <a:srgbClr val="000099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无悔青春</a:t>
            </a:r>
            <a:endParaRPr b="1" lang="en-US" sz="1800" spc="1" strike="noStrike">
              <a:ln w="28440">
                <a:solidFill>
                  <a:srgbClr val="000099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20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5580000" y="3284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4" dur="142846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20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3212640"/>
            <a:ext cx="4248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昨天：</a:t>
            </a: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我们均站在同一起跑线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1181160" cy="857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940360" y="3357720"/>
            <a:ext cx="1181160" cy="857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140360" y="260280"/>
            <a:ext cx="1180800" cy="857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877080" y="4941720"/>
            <a:ext cx="1181160" cy="857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4500720" y="907920"/>
            <a:ext cx="1657080" cy="1022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5364000" y="2492280"/>
            <a:ext cx="1586160" cy="978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6300720" y="4149720"/>
            <a:ext cx="1513080" cy="932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tretch/>
        </p:blipFill>
        <p:spPr>
          <a:xfrm>
            <a:off x="7236000" y="5589720"/>
            <a:ext cx="1657080" cy="1020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995640" y="476280"/>
            <a:ext cx="3529080" cy="638172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92720" y="56610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43640" y="33336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64360" y="2492280"/>
            <a:ext cx="146700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95640" y="1125360"/>
            <a:ext cx="146664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3213000"/>
            <a:ext cx="146664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97040" y="703584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6920" y="213372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77000" y="4076640"/>
            <a:ext cx="146700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93080" y="549360"/>
            <a:ext cx="146664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88000" y="83664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77000" y="1268280"/>
            <a:ext cx="146700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50920" y="0"/>
            <a:ext cx="540072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人生路上甜苦和喜忧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愿与你分担所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难免曾经跌倒和等候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要勇敢的抬头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谁愿常躲在避风的港口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宁有波涛汹涌的自由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愿是你心中灯塔的守候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在迷雾中让你看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阳光总在风雨后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乌云上有睛空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珍惜所有的感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每一份希望在你手中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阳光总在风雨后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请相信有彩虹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风风雨雨都接受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我一直会在你的左右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 rot="5400000">
            <a:off x="3539880" y="2676600"/>
            <a:ext cx="4465440" cy="1249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隶书"/>
              </a:rPr>
              <a:t>阳光总在风雨后</a:t>
            </a:r>
            <a:endParaRPr b="0" lang="en-US" sz="1800" spc="1" strike="noStrike">
              <a:ln w="9360">
                <a:solidFill>
                  <a:srgbClr val="bbe0e3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7" presetSubtype="4">
                                  <p:stCondLst>
                                    <p:cond delay="2600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141560" y="1600200"/>
            <a:ext cx="693864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99"/>
                </a:solidFill>
                <a:latin typeface="Arial"/>
                <a:ea typeface="华文行楷"/>
              </a:rPr>
              <a:t>谢  谢 光 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0"/>
                            </p:stCondLst>
                            <p:childTnLst>
                              <p:par>
                                <p:cTn id="5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3" dur="252524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mingb161.gif (6652 bytes)"/>
          <p:cNvPicPr/>
          <p:nvPr/>
        </p:nvPicPr>
        <p:blipFill>
          <a:blip r:embed="rId1"/>
          <a:stretch/>
        </p:blipFill>
        <p:spPr>
          <a:xfrm>
            <a:off x="-36360" y="2565360"/>
            <a:ext cx="1992240" cy="16668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隶书"/>
              </a:rPr>
              <a:t>今天：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我们正在到达成功的途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171880" y="23875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796000" y="198900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5280" y="5157720"/>
            <a:ext cx="1176480" cy="1176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258920" y="2205000"/>
            <a:ext cx="146664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2720" y="1413000"/>
            <a:ext cx="146664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11970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37440" y="292428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4437000"/>
            <a:ext cx="146664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21440" y="58770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61080" y="1628640"/>
            <a:ext cx="146700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29080" y="155592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84360" y="335592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84360" y="26370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08360" y="494028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65800" y="46530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43280" y="4003560"/>
            <a:ext cx="146700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549360"/>
            <a:ext cx="146664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58920" y="5734080"/>
            <a:ext cx="146664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380360" y="836640"/>
            <a:ext cx="1187280" cy="1187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4932360" y="2997360"/>
            <a:ext cx="1187280" cy="1187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>
            <a:off x="5292720" y="5300640"/>
            <a:ext cx="1187280" cy="1187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>
            <a:off x="6516720" y="2205000"/>
            <a:ext cx="1187280" cy="1187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0"/>
          <a:stretch/>
        </p:blipFill>
        <p:spPr>
          <a:xfrm>
            <a:off x="5867280" y="4005360"/>
            <a:ext cx="1187640" cy="1187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1"/>
          <a:stretch/>
        </p:blipFill>
        <p:spPr>
          <a:xfrm>
            <a:off x="3780000" y="1773360"/>
            <a:ext cx="1187280" cy="1187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2"/>
          <a:stretch/>
        </p:blipFill>
        <p:spPr>
          <a:xfrm>
            <a:off x="3276720" y="3789360"/>
            <a:ext cx="1187280" cy="118728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144360" y="3284640"/>
            <a:ext cx="539640" cy="360360"/>
            <a:chOff x="144360" y="3284640"/>
            <a:chExt cx="539640" cy="360360"/>
          </a:xfrm>
        </p:grpSpPr>
        <p:sp>
          <p:nvSpPr>
            <p:cNvPr id="98" name=""/>
            <p:cNvSpPr/>
            <p:nvPr/>
          </p:nvSpPr>
          <p:spPr>
            <a:xfrm>
              <a:off x="179280" y="3284640"/>
              <a:ext cx="468360" cy="36036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46440 h 360360"/>
                <a:gd name="textAreaBottom" fmla="*/ 3139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4360" y="328464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00"/>
                  </a:solidFill>
                  <a:latin typeface="Arial"/>
                </a:rPr>
                <a:t>成功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0" y="83664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547640" y="4365720"/>
            <a:ext cx="1176480" cy="117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在还没有到达成功的终点之前，我们一直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 flipH="1">
            <a:off x="684360" y="1557360"/>
            <a:ext cx="1116000" cy="685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 flipH="1">
            <a:off x="6227640" y="1268280"/>
            <a:ext cx="2160720" cy="1305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 flipH="1">
            <a:off x="1331640" y="4797360"/>
            <a:ext cx="1152360" cy="685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 flipH="1">
            <a:off x="7092720" y="4365720"/>
            <a:ext cx="1081080" cy="685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 flipH="1">
            <a:off x="324000" y="2852640"/>
            <a:ext cx="2520720" cy="1214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 flipH="1">
            <a:off x="2987280" y="1341360"/>
            <a:ext cx="1800360" cy="1071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 flipH="1">
            <a:off x="3419280" y="3213000"/>
            <a:ext cx="2089080" cy="1177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348000" y="5589720"/>
            <a:ext cx="32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奋力奔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03280" y="551664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35640" y="2852640"/>
            <a:ext cx="146664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77000" y="56610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8"/>
          <a:stretch/>
        </p:blipFill>
        <p:spPr>
          <a:xfrm flipH="1">
            <a:off x="6804000" y="2997360"/>
            <a:ext cx="2016000" cy="1035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9"/>
          <a:stretch/>
        </p:blipFill>
        <p:spPr>
          <a:xfrm flipH="1">
            <a:off x="4284720" y="4724280"/>
            <a:ext cx="1800000" cy="96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6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4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2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8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6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4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2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5029200" cy="3762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203640" y="4221000"/>
            <a:ext cx="1807920" cy="1914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067280" y="836640"/>
            <a:ext cx="4859280" cy="2663640"/>
          </a:xfrm>
          <a:prstGeom prst="cloudCallout">
            <a:avLst>
              <a:gd name="adj1" fmla="val -21513"/>
              <a:gd name="adj2" fmla="val 970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292720" y="1844640"/>
            <a:ext cx="4038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成功是多么辉煌！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rcRect l="3116" t="2582" r="2806" b="2611"/>
          <a:stretch/>
        </p:blipFill>
        <p:spPr>
          <a:xfrm>
            <a:off x="0" y="0"/>
            <a:ext cx="56358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886200" y="404640"/>
            <a:ext cx="5257800" cy="2948040"/>
          </a:xfrm>
          <a:prstGeom prst="cloudCallout">
            <a:avLst>
              <a:gd name="adj1" fmla="val -36018"/>
              <a:gd name="adj2" fmla="val 58453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0" y="1143000"/>
            <a:ext cx="4505400" cy="10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个中辛苦有谁知？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419040"/>
            <a:ext cx="9144000" cy="5889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4572000" y="3500280"/>
            <a:ext cx="4319640" cy="216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26000" y="3881520"/>
            <a:ext cx="230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为了成功，不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不经常这样…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04:37:3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56:54Z</dcterms:modified>
  <cp:revision>1</cp:revision>
  <dc:subject>主题班会课件(分28大类): http://shop62905894.taobao.com</dc:subject>
  <dc:title>主题班会课件(分28大类): http://shop62905894.taobao.com</dc:title>
</cp:coreProperties>
</file>