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6A0-CA48-4613-B017-63BE704E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E85-3088-4709-B6E1-58248A26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38A-5D7D-473C-84F1-A17A498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6AB-4AC9-4F5D-9BC9-C9516728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EC56-2BA2-4B9F-995E-8AD338D9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0E93-6D78-4D84-A2A7-A668B72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8D0C-A3F5-441B-A12A-02ED426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6C1-2F97-4CC0-9593-E467230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8E10-21F3-42FA-94BE-4130348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D5D4-D60F-4CC9-A2BA-A05C8EF0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39E-9930-4089-94D8-54D8D96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49E-901C-4453-9233-648BF5D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E6F-DB61-4A36-9AB2-C1B4C5A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44F-CF71-4A6D-B00E-92DE54F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D42-070D-4A36-A1B0-DA1C1486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A12-32FA-4816-8A99-0B8CCF0D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C1CA-A93B-4184-99BF-660B06F0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A36-33AA-41D5-BBA1-09750CF7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571-7A6B-4814-AF26-99C438E6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831-BFAF-4C06-8B01-477D158D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3AE-869E-4CCE-A94D-9FD92609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BCE-4965-4646-95FA-D3E6D0C1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182-A761-47DD-BA43-1526104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327-3ED1-4ECB-B65B-98F34EA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283-B61C-42F2-A415-B592C33E15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3E88-78CC-4157-8AF0-CB1A53BB445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yjy.com.cn/jxzyk/sck/tpsc/bl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508360" y="5084640"/>
            <a:ext cx="316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8580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35353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cf01"/>
                </a:solidFill>
                <a:latin typeface="华文彩云"/>
                <a:ea typeface="华文彩云"/>
              </a:rPr>
              <a:t>再来看一个正面的例子</a:t>
            </a:r>
            <a:r>
              <a:rPr b="1" lang="zh-CN" sz="3200" spc="-1" strike="noStrike">
                <a:solidFill>
                  <a:srgbClr val="535353"/>
                </a:solidFill>
                <a:latin typeface="华文彩云"/>
                <a:ea typeface="华文彩云"/>
              </a:rPr>
              <a:t>。</a:t>
            </a:r>
            <a:r>
              <a:rPr b="1" lang="zh-CN" sz="2800" spc="-1" strike="noStrike">
                <a:solidFill>
                  <a:srgbClr val="535353"/>
                </a:solidFill>
                <a:latin typeface="_x000b__x000c_"/>
              </a:rPr>
              <a:t>20</a:t>
            </a:r>
            <a:r>
              <a:rPr b="1" lang="zh-CN" sz="2800" spc="-1" strike="noStrike">
                <a:solidFill>
                  <a:srgbClr val="535353"/>
                </a:solidFill>
                <a:latin typeface="宋体"/>
              </a:rPr>
              <a:t>世纪</a:t>
            </a:r>
            <a:r>
              <a:rPr b="1" lang="zh-CN" sz="2800" spc="-1" strike="noStrike">
                <a:solidFill>
                  <a:srgbClr val="535353"/>
                </a:solidFill>
                <a:latin typeface="_x000b__x000c_"/>
              </a:rPr>
              <a:t>60</a:t>
            </a:r>
            <a:r>
              <a:rPr b="1" lang="zh-CN" sz="2800" spc="-1" strike="noStrike">
                <a:solidFill>
                  <a:srgbClr val="535353"/>
                </a:solidFill>
                <a:latin typeface="宋体"/>
              </a:rPr>
              <a:t>年代，苏联发射了第一艘载人宇宙飞船，宇航员我们大家都知道叫加加林。当时挑选第一个上太空的人选时，有这么一个插曲，几十个宇航员去参观他们要乘坐的飞船，进舱门的时候，只有加加林一个人把鞋脱下来了。</a:t>
            </a:r>
            <a:br>
              <a:rPr sz="2800"/>
            </a:br>
            <a:r>
              <a:rPr b="1" lang="zh-CN" sz="2800" spc="-1" strike="noStrike">
                <a:solidFill>
                  <a:srgbClr val="535353"/>
                </a:solidFill>
                <a:latin typeface="宋体"/>
              </a:rPr>
              <a:t>　　他觉得：“这么贵重的一个舱，怎么能穿着鞋进去呢</a:t>
            </a:r>
            <a:r>
              <a:rPr b="1" lang="zh-CN" sz="2800" spc="-1" strike="noStrike">
                <a:solidFill>
                  <a:srgbClr val="535353"/>
                </a:solidFill>
                <a:latin typeface="_x000b__x000c_"/>
              </a:rPr>
              <a:t>?</a:t>
            </a:r>
            <a:r>
              <a:rPr b="1" lang="zh-CN" sz="2800" spc="-1" strike="noStrike">
                <a:solidFill>
                  <a:srgbClr val="535353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535353"/>
                </a:solidFill>
                <a:latin typeface="宋体"/>
              </a:rPr>
              <a:t>就加加林的这一个动作，让主设计师非常感动。他想：只有把这飞船交给一个如此爱惜它的人，我才放心。在他的推荐下，加加林就成了人类第一个飞上太空的宇航员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0" y="40464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所以有人开玩笑说，</a:t>
            </a:r>
            <a:r>
              <a:rPr b="1" lang="zh-CN" sz="2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功从脱鞋开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实际上就是从好的习惯开始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北京一个职业高中的学生。他知道自己学习不太好，不想上大学，就报考了职业高中，毕业后到一个五星级宾馆当服务员，小伙子很开心。这一天，他从总经理门前走过，被总经理给叫住了：“小伙子，过来。”他一看，总经理叫他，很激动啊</a:t>
            </a:r>
            <a:r>
              <a:rPr b="1" lang="zh-CN" sz="2200" spc="-1" strike="noStrike">
                <a:solidFill>
                  <a:srgbClr val="000000"/>
                </a:solidFill>
                <a:latin typeface="_x000b__x000c_"/>
              </a:rPr>
              <a:t>!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五星级饭店，一个总经理不大容易跟一个员工交谈的。“总经理，什么事</a:t>
            </a:r>
            <a:r>
              <a:rPr b="1" lang="zh-CN" sz="2200" spc="-1" strike="noStrike">
                <a:solidFill>
                  <a:srgbClr val="000000"/>
                </a:solidFill>
                <a:latin typeface="_x000b__x000c_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经理说：“小伙子，你会走路吗</a:t>
            </a:r>
            <a:r>
              <a:rPr b="1" lang="zh-CN" sz="2200" spc="-1" strike="noStrike">
                <a:solidFill>
                  <a:srgbClr val="000000"/>
                </a:solidFill>
                <a:latin typeface="_x000b__x000c_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会呀，从小就会</a:t>
            </a:r>
            <a:r>
              <a:rPr b="1" lang="zh-CN" sz="2200" spc="-1" strike="noStrike">
                <a:solidFill>
                  <a:srgbClr val="000000"/>
                </a:solidFill>
                <a:latin typeface="_x000b__x000c_"/>
              </a:rPr>
              <a:t>!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经理说：“那你走一遍给我瞧瞧。”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小伙子两个肩膀一高一低，晃来晃去地走了一个来回。总经理说：“走路就是走路，你两个肩膀一高一低，晃来晃去，是怎么回事？你站着，看我老太太给你走一遍。”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总经理是快</a:t>
            </a:r>
            <a:r>
              <a:rPr b="1" lang="zh-CN" sz="2200" spc="-1" strike="noStrike">
                <a:solidFill>
                  <a:srgbClr val="000000"/>
                </a:solidFill>
                <a:latin typeface="_x000b__x000c_"/>
              </a:rPr>
              <a:t>6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岁的一位女士，她挺胸抬头，目视前方，稳稳当当地走了一个来回，然后告诉小伙子：“这叫走路。给你一个星期的时间回家练习走路。练好了，你就来上班，练不好，你就别来了。”这小伙子一听傻了，往家走的候，不知道是该先迈左脚还是先迈右脚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这样的故事我们还可以讲出很多。我们可以发现根深蒂固的习惯，不好的和好的，我们却越来越忽略这些问题。我们太重视功课怎么样，分数怎么样，名次怎么样，实际上一个人的习惯怎么样可能更重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454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华盛顿是美国历史上最令人尊敬的、堪称美德典范的总统，他的诚实故事家喻户晓。他从小看得最多的一本书，是一本随身携带的小册子———《与人交谈和相处时必须遵循的文明礼貌规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条》。好习惯成就了一个伟大的总统和一个伟大的人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70224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九八八年世界各国诺贝尔奖得主在巴黎聚会。有人问一位诺贝尔科学奖得主：“您在哪所大学、哪个实验室学到了您认为是最主要的东西呢？”这位白发苍苍的老学者回答道：“是幼儿园。”“在幼儿园能学到什么东西呢？”“把自己的东西分一半给小伙伴们，不是自己的东西不要，东西放整齐，吃饭前要洗手，做错事要表示道歉，午饭后安安静静地休息，要观察周围的大自然……”可见养成良好的行为习惯对一个人的成功影响是多么巨大！如果作为道德素养的最重要的真理在青少年时期没有成为习惯，那么，所造成的损失是永远无法弥补的。有人对一个人的良好行为习惯有过恰当的比喻――“良好习惯乃是人在神经系统中存入的道德资本，这个资本不断地在增值，而人在其整个一生中就享受着它的利息。” 中学时期是青少年生理、心理急剧发育、变化的重要时期，正是增长知识，接受良好道德品质和行为习惯养成教育的最佳时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64072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您身上有多少习惯？其中多少是好习惯，多少是坏习惯，成功的程度就取决于好习惯的多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360" y="2057400"/>
            <a:ext cx="8640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生仿佛就是一场好习惯与坏习惯的拉锯战，要能够创造尽其在我的人生，就要让自己的思考习惯、行动习惯、情绪习惯中属于好的比例与日俱增，坏的比例逐日减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5280" y="434340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是人成功的核心。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5445000"/>
            <a:ext cx="7467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对不良习惯，我们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26028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京有一家外资企业招工，对学历、外语、身高、相貌的要求都很高，但薪酬挺高，所以有很多高素质人才都来应聘。这一些年轻人，过五关斩六将，到了最后一关：总经理面试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这些年轻人想，这很简单，只不过是走走过场罢了，准十拿九稳了。没想到，这一面试出问题了。一见面，总经理说：“很抱歉，年轻人，我有点急事，要出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你们能不能等我？”年轻人说：“没问题，您去吧，我们等您。”老板走了，年轻人一个个踌躇满志，得意非凡，闲不着，围着老板的大写字台看，只见上面文件一摞，信一摞，资料一摞。年轻人你看这一摞，我看这一摞，看完了还交换：哎哟，这个好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，总经理回来了，说：“面试已经结束。”“没有啊？我们还在等您啊。”老板说：“我不在的这一段时间，你们的表现就是面试。很遗憾，你们没有一个人被录取。因为，本公司从来不录取那些乱翻别人东西的人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哎呀，这些年轻人一听啊，捶胸顿足。他们为什么这么感慨万千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们说：“我们长这么大，就从来没听说过不能乱翻别人的东西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日下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在武汉某高校研究生考点外，一考生被几个保安人员拦下，被告知超过了规定入场时间（迟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钟），眼睁睁地失去了考试资格。该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，我很有信心考上，老师给我一次机会吧。”类似的情形其他地方也存在。泪水，值得同情；规则，应该遵守。 须知，“守时”，既是一种行为规范，也是一种必不可少的品格修养。某高校的几位学者，有一次到国外参加会议期间，按照约定，拟与某一外国组织成员开个座谈会。不料，我们的这几位学者不知什么缘故迟到了几分钟。结果，对方彬彬有礼地退了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你是否有以下习惯有什么看法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思考问题时一边旋笔一边思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学习中遇到问题题后，习惯先放一边，  以后又忘了解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考试考差了后，开始下定决心认真学习，但几天后又松懈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习课边听音乐边做作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制力差，时间安排不合理，利用率不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６、在自己生活学习方面丢三落四，到校迟到、忘记老师布置的作业、忘记值日、连自己负责的卫生任务都不能和彻底的完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想管住自己为什么管不住呢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你相信吗？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根小小的柱子，一截细细的链子，拴得住一头千斤重的大象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38240"/>
            <a:ext cx="482580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04920" y="549360"/>
            <a:ext cx="911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隶书"/>
              </a:rPr>
              <a:t>征服自我是一种幸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260280"/>
            <a:ext cx="3564000" cy="1366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将不良习惯扼杀于萌芽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1916280"/>
            <a:ext cx="3097080" cy="21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扬愚公移山精神克服阻碍自己发展的陋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84920" y="4419720"/>
            <a:ext cx="2878200" cy="1904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努力养成和保持良好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改掉坏习惯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一定熟悉这样的现象：骑自行车的时候，刚开始是不是很费力气？而一旦骑起来以后，就会感到轻松多了。汽车在发动的时候很慢，而后速度会越来越快……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1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这就是“飞轮效应”。为了使静止的飞轮转动起来，一开始我们必须使很大的力气，一圈一圈反复地推，每转一圈都很费力，但是每一圈的努力都不会白费，飞轮会转动得越来越快。达到某一临界点后，你无须再费更大的力气，飞轮依旧会快速转动，而且不停地转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每个人都想出色，都想让自己发展得更快些，但却往往输在起点上。正如“飞轮效应”一样，一开始我们必须付出数倍的努力，而你一旦开始，就会有一定的惯性推动着你去行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古希腊哲学家亚里士多德说“优秀是一种习惯”，而要想让优秀成为一种习惯。你需要通过下面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三关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一关：是什么阻碍着我们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飞轮一开始转动是很困难的，那么是什么阻碍着？看看下面的故事吧，或许能给我们一些启示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有个懒惰的年轻人，四处寻访能够克服凡事提不起劲的原因，最后终于找到一位大师。大师听完年轻人的来意后，便带着他来到一个火车头旁边。大师将一个木块卡住火车头的轮子，然后让年轻人启动火车。蒸汽火车头马力已全部开启了，可是火车头就是不动。接着，大师拿起了木块，火车头立即动了起来，缓缓加速前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大师笑着对年轻人说：“就这个小小的木块，让这个时速可达一百公里以上的火车头寸步难行。年轻人，你内心的火车头被什么样的小木块阻挡住了呢？除了你自己之外，没有任何人能帮你拿掉你的惰性，当然也包括我在内。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轻人听了大师的话，内心大受震撼。从此以后，他不断地行动，决不让自己停顿下来，不仅克服了自己的惰性，更创造了无比惊人的庞大的事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呀，又是什么挡住了我们追求卓越的道路？是惰性，是缺乏勇气，还是不够自信？你把挡住自己的小木块拿掉了吗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是这样，那么，恭喜你，你已通过了第一关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0280" y="213372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二关：找到适合自己的方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不会像转动飞轮那样简单，需要智慧和毅力，你需要找到适合自己的一套方法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10800000">
            <a:off x="324000" y="4652280"/>
            <a:ext cx="8137440" cy="1800360"/>
          </a:xfrm>
          <a:prstGeom prst="cloudCallout">
            <a:avLst>
              <a:gd name="adj1" fmla="val -28638"/>
              <a:gd name="adj2" fmla="val 700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在印度和泰国，驯象人在大象还是小象的时候，就用一条铁链将它绑在水泥柱或钢柱上，无论小象怎么挣扎都无法挣脱。小象渐渐地习惯了不挣扎，直到长成了大象，可以轻而易举地挣脱链子时，也不挣扎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72428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</a:rPr>
              <a:t>小象是被链子绑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</a:rPr>
              <a:t>而大象则是被习惯绑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听说过五步学习法吗？你不妨试试—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步，课前自学，对于不理解的地方做好标记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步，课堂领悟，掌握基本原理的来龙去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步，课后回顾，加深课堂理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步，检验巩固，做到脱离课本，独立思考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五步，经常总结，能够用自己的语言表述所学的知识并加以运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这也是学习的基本过程，问问自己，有没有做到？千万不要小看这几个步骤，也不要怕麻烦，这是无数成功学子的经验之谈。要知道，一旦你坚持这样做了，你就是已经在转动“飞轮”，接下来的学习就会变得高效而轻松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学习？简单一句话，就是养成习惯。找到令自己满意的方法，并且坚持下去，成为习惯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样你就过了第二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6436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三关：你需要不断调整自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个人都有自己的梦想，在梦想中描绘着自己将来的生活。开始时，我们会满腔热情。然而“事情永远不会百分之百地像我们预计的那样”，总会遇到种种问题，你一旦屈服、妥协，刚刚“旋转的飞轮”就会慢慢停止转动，直到有一天，你无奈地发现梦想和现实是那么的遥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，都有很多架飞机从我们头顶飞过，飞机上的乘客也坚信他们会到达自己的目的地。然而，你知道吗？在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5﹪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飞行时间里，飞机都是偏离航道飞行的，也就是说，没有人控制，飞机几乎一起飞就偏离了航道。区别就在于飞机是由飞行员负责方向的。飞行员有预定的目标，他清楚飞机会被气流吹得偏离航道，所以他监控着飞机的飞行方向，不时地进行调整，最终到达他的目的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4153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也是这样，你所要做的不过是不断地调整自己——向着自己预定的方向努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确，优秀是一种习惯，但是，首先，你必须习惯于优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、习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670120"/>
            <a:ext cx="82706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关：是什么阻碍着我们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是惰性，是缺乏勇气，还是不够自信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关：找到适合自己的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课前自学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课堂领悟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课后回顾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检验巩固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经常总结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关：你需要不断调整自己  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628640"/>
            <a:ext cx="7793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二、让优秀成为一种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47750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衷心希望全体同学意识到习惯的重要性，克服不良习惯，使自己越来越优秀，让优秀成为一种习惯！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59280" y="1052640"/>
            <a:ext cx="2743200" cy="923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结束语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世界上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最可怕的力量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是习惯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世界上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最宝贵的财富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也是习惯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一个企业，一个国家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一个民族是如此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人的一生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，更是如此。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05520" y="3730680"/>
            <a:ext cx="403848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064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f01"/>
                </a:solidFill>
                <a:latin typeface="Tahoma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生而为人，每个人都需要踏踏实实地做人，而良好的做人习惯正是帮助我们构建成功人生所必需的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f01"/>
                </a:solidFill>
                <a:latin typeface="Tahoma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好习惯是一个人终身的财富</a:t>
            </a:r>
            <a:r>
              <a:rPr b="1" lang="zh-CN" sz="4000" spc="-1" strike="noStrike">
                <a:solidFill>
                  <a:srgbClr val="ffcf01"/>
                </a:solidFill>
                <a:latin typeface="Tahoma"/>
                <a:ea typeface="隶书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16064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7696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好习惯是一个人终身的财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341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f01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ahoma"/>
              </a:rPr>
              <a:t>从小到大，你有什么“好习惯”曾让你倍受赞赏、取得小胜利或取得一些事情上的成功？给同学们说说，大家来分享、学习一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3933720"/>
            <a:ext cx="748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良好习惯大家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要用全身心的爱去迎接今天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 --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爱的习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坚持不懈，直到成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</a:t>
            </a:r>
            <a:r>
              <a:rPr b="1" lang="zh-CN" sz="2800" spc="-1" strike="noStrike">
                <a:solidFill>
                  <a:srgbClr val="ffcf01"/>
                </a:solidFill>
                <a:latin typeface="Tahoma"/>
              </a:rPr>
              <a:t>持之以恒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是自然界最伟大的奇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</a:t>
            </a:r>
            <a:r>
              <a:rPr b="1" lang="zh-CN" sz="2800" spc="-1" strike="noStrike">
                <a:solidFill>
                  <a:srgbClr val="669900"/>
                </a:solidFill>
                <a:latin typeface="Tahoma"/>
              </a:rPr>
              <a:t>自信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好我生命中的每一天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</a:t>
            </a: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珍惜时间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今天我要学会控制情绪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- -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制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要笑遍世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--------------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笑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今天我要加倍重视自身的价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-----</a:t>
            </a:r>
            <a:r>
              <a:rPr b="1" lang="zh-CN" sz="2800" spc="-1" strike="noStrike">
                <a:solidFill>
                  <a:srgbClr val="006699"/>
                </a:solidFill>
                <a:latin typeface="Tahoma"/>
              </a:rPr>
              <a:t>发掘自我潜能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现在就付诸行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-------------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立即行动的习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9228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些习惯你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6680" y="2170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4000" y="21708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29040" y="2170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73760" y="220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9760" y="3496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30480" y="3499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0" y="3499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6840" y="3499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60" y="4872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4160" y="4867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67640" y="4867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4872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5080" y="69228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56800" y="148428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做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85160" y="278748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做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2440" y="4149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0:36:0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0:32Z</dcterms:modified>
  <cp:revision>39</cp:revision>
  <dc:subject>主题班会课件(分28大类): http://shop62905894.taobao.com</dc:subject>
  <dc:title>主题班会课件(分28大类): http://shop62905894.taobao.com</dc:title>
</cp:coreProperties>
</file>