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3.png" ContentType="image/png"/>
  <Override PartName="/ppt/media/image5.gif" ContentType="image/gif"/>
  <Override PartName="/ppt/media/image8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4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DEA-307E-4139-AF43-D9F33C31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7F6-F8A1-4243-8825-51D712C2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F7A-F857-443D-8F4F-961C13E0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5B2-51CA-4011-B343-9EEF4B16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DE03-D6B2-4417-8A83-A11DEBED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B58F-29A7-4DC8-B693-A97E4B1D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0CD2-1DD0-4362-B51A-F24E2DC4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2A20-5756-4A3E-A65D-8B0B1704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64C1-4F6A-49B4-9348-84990560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0417-A587-4612-AC77-0B4B6E6A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D254-6A0F-4979-BA38-23037F21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6FA-918F-44FD-90E4-BFEEE724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D452-0B7B-421D-8693-A083E152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9FC6-F330-4ED3-85D9-E6F9BEC2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54BD-75FD-46C7-A7D5-146A7EA1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9A29-338B-40F4-A0C2-A3682A8D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3B60-5CFB-4D89-A953-4D5C0D4F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41A-40A7-464F-AF7F-A8FF25E7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7FE-6205-49BC-BD92-AFCC50AD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3073-8A1B-40B1-AA20-2B04C0E2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263-6793-4481-A558-69A22AB2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6F5-4CB1-4D1F-AB31-5653DC23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EAC-5AC9-42AB-AC6F-9D0DE5AF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BD0-64A1-4424-820B-8B1B7607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5C11-9228-4695-9AFF-F61CA5222C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0D4F-3932-4AD6-8B03-9281E2D371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4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" Target="slide16.xml"/><Relationship Id="rId10" Type="http://schemas.openxmlformats.org/officeDocument/2006/relationships/slide" Target="slide15.xml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573876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高三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主题班会     科学的学习方法是成功的保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11560" y="2657520"/>
            <a:ext cx="4815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三阶段你们是如何学习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们觉得自己的高三跟高一、高二有不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什么困惑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1520" y="249120"/>
            <a:ext cx="16437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谈自己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023840"/>
            <a:ext cx="40165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58080" y="287280"/>
            <a:ext cx="21315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学习好的学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812960"/>
            <a:ext cx="4105440" cy="3021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53040" y="3038040"/>
            <a:ext cx="4667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点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要自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多的科学研究都证明，人的潜力是很大的，但大多数人并没有有效地开发这种潜力，这其中，人的自信力是很重要的一个方面。无论何时何地，你做任何事情，有了这种自信力，你就有了一种必胜的信念，而且能使你很快就摆脱失败的阴影。相反，一个人如果失掉了自信，那他就会一事无成，而且很容易陷入永远的自卑之中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54560" y="1033560"/>
            <a:ext cx="60202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亲爱的高中朋友们，相信自己能做到并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定能做好，自信而潇洒地面对紧张而充实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高中生活吧。生命的历程是只走一次的，你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手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都握着一张单程船票。祝愿你们在若干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后回首这段时光时，为自己曾经的努力而骄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为拥有一份美好的回忆而骄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当然，首先祝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你们顺利走好人生的每一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位高考状元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336840" y="1411200"/>
            <a:ext cx="580716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点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学习的心理素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爱因斯坦有个成功的公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成功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艰苦劳动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正确方法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少说废话。这个公式指明事业成功的三要素。对于学业来说，成功也有三要素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学习成功＝心理素质十学习方法十智能素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600120"/>
            <a:ext cx="3206880" cy="430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52960" y="4514040"/>
            <a:ext cx="5635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积极的情感同学习联系起来，防止消极情绪的滋生，可以促进学习。善于控制自己，是学习意志力培养的关键。控制和约束自己的行动，控制不需要的想法和情绪，可以使思想集中到学习上来，这点是尤为重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30600" y="2178360"/>
            <a:ext cx="53244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三点、掌握科学的学习方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预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在测览教材的总体内容后再细读，充分发挥自己的自学能力，理清哪些内容已经了解，哪些内容有疑问或是看不明白（即找重点、难点）分别标出并记下来。这样既提高了自学能力，又为听课“铺”平了道路，形成期待老师解析的心理定势；这种需求心理定势必将调动起我们的学习热情和高度集中的注意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079640"/>
            <a:ext cx="37987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06640" y="1689120"/>
            <a:ext cx="5205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听课 听老师讲课是获取知识的最佳捷径，老师传授的是经过历史验证的真理；是老师长期学习和教学实践的精华。因为提高课堂效率是尤为重要的，那么课堂效率如何提高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28800" y="2389680"/>
            <a:ext cx="76104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做好课前准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精神上的准备十分重要。保持课内精力旺盛，头脑清醒，是学好知识的前提条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集中注意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思想开小差会分心等一切都要靠理智强制自己专心听讲，靠意志来排除干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认真观察、积极思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不要做一个被动的信息接受者，要充分调动自己的积极性，紧跟老师讲课的思路，对老师的讲解积极思考。结论由学生自己的观察分析和推理而得，会比先听现成结论的学习效果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抓住老师讲课的重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有的同学在听课，往往忽视老师讲课的开头和结尾，这是错误的，开头，往往寥寥数语．但却是全堂讲课的纲。只要抓住这个纲去听课，下面的内容才会眉目清楚。结尾的话虽也不多，但却是对一 节课精要的提炼和复习提示。同时还要注意老师反复强调的部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做好课堂笔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笔记记忆法，是强化记忆的最佳方法之一。笔记，一份永恒的笔录，可以克服大脑记忆方面的限制。当然，最好的做法是堂上记重、难点，课后在复习中充实整体脉络。记住：好记忆不如烂笔头！因此为了充分理解和消化，必须记笔记。同时做笔记充分调动耳、眼、手、心等器官协同工作可帮助学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注意和老师的交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目光交流，提问式交流，都可以促进学习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89160" y="1704960"/>
            <a:ext cx="657540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复习的方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德国教育学家第斯多惠说：“必须时常回复到所学的东西上而加以复习…… 牢固地记住所学会的东西，这比贪学新东西而又很快忘掉好得多。”因此往往考前的“临时抱佛脚”是不起作用的。复习在于平时，如何复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课后回忆，即在听课基础上把所学内容回忆一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精读教材。对教材理解的越透，掌握得越牢，效率也就自然提高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整理笔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补缺补漏，系统掌握知识结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循环复习。将甲复习完后复习乙，在复习完乙后对甲再进行一次复习，然后前进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种循环复习利于记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97240" y="2672280"/>
            <a:ext cx="6286320" cy="12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叉学习效果好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少同学在读书学习时，长时间单一的学习同一内容，表面上看时间用了不少，但效果并不理想，这是为什么呢？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脑卫生学者告诉我们，人的大脑皮层细胞是有分工的，学习不同学科的内容回引起不同部分的兴奋。大脑长久接受同一类信息刺激，使某一部位长久兴奋，就容易产生疲劳，降低学习效率。若及时转换学习内容，合理调节“兴奋灶”，就可以避免大脑某一兴奋区长时间过于紧张，使别的部位出现新的兴奋区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0600" y="2723400"/>
            <a:ext cx="66852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及时做好笔记与作业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性好不如烂比头。记笔记是一种良好的听课习惯，好笔记不是全记，不是漏记，不能只听不记，更不能只记不听。可以记在课本上、教学内容附近，这样记录的内容不易丢失，又易和教学内容相联系，既实用，又利于今后复习。布置作业的目的是巩固学习的知识。多数学生为了完成任务，不复习就急于做作业，这不利于知识的巩固。做作业前首先阅读一遍课本内容，和老师讲课的内容对照一下，看一看是否一致。这样做等于及时地复习了一遍，然后再做作业，既快速又能保证作业质量，达到最佳的学习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61960" y="2829240"/>
            <a:ext cx="788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于学习，很多同学有这样的疑惑：为什么我整天都在学习，可成绩却上不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什么上完课之后，老师讲过的知识我都记住了，可到了第二天，回想老师前一天讲过的知识大多都给忘了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还有的同学回到家，赶忙做作业，一遇问题，赶紧翻书，看一眼书中的例题，然后继续做。就这样，看看书做做作业，总算把作业做完了，他就觉得完成了学习任务。这种做作业的习惯好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效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研究表明：学习的成功不仅要靠能力和勤奋，也要靠有效的学习方法。学习方法不当会极大的降低学习效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32800" y="673200"/>
            <a:ext cx="16239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后、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好的学习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5040" y="2490480"/>
            <a:ext cx="359892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课后两分钟回忆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一节课后，先不出去，利用短暂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--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钟时间，立即回忆一下本节课的内容，在回忆时有想不起来的地方，就马上翻看一下书或笔记，看后再接着回忆，这样记忆才深刻，效果才好。这好比是一堵墙，在坍塌之前就开始修补，总比全部坍塌之后再修补省事得多。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步：做作业前复习一遍  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1680" y="5409720"/>
            <a:ext cx="33987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勤问解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学过的知识，在复习时发现疑点要及时间，问课本、工具书、同学或老师。千万不要把疑问带到下一节课。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78400" y="3142440"/>
            <a:ext cx="3211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独立解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要自己动手动脑独立完成作业，遇到难题，不要急于问，要多想想，如果经长时间仍不能解决，再请教，在得到指点后， 要认真思考症结所在，转化为自己的知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4200" y="1774440"/>
            <a:ext cx="757548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倘若就我们的学习喻作航船，勤奋则是轮船的马达；正确的学习方法便是轮船的方向盘与航线、让我们驾上这艘希冀之船在知识的海洋中畅游，“长风破浪会有时，直挂云帆济沧海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60560" y="950760"/>
            <a:ext cx="668664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检查一下，你的学习习惯怎么样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在固定的时间进行学习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有面对书桌就是没有兴趣，把时间浪费掉的时候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身边经常备有辞典、字典之类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学习时有下意识动作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在学习中有经常沉迷于空想的时候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做过快速读书的练习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学习结束之后，收拾书桌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学完后，背诵所学内容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有一边聊天或听音乐一边学习的时候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开头学习方法好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评分办法：上述第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答“是” 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答“否”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； 第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题答“是”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答“否”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；难以确定的题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。将各题所得分数相加，总分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以下，则说明你的学习习惯非常差，应该从头培养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学习习惯较差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学习习惯一般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习惯较好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以上，说明学习习惯非常好，应继续坚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69360" y="914400"/>
            <a:ext cx="3106800" cy="67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方法不当的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3" action="ppaction://hlinksldjump"/>
              </a:rPr>
              <a:t>－）学习无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4" action="ppaction://hlinksldjump"/>
              </a:rPr>
              <a:t>（二）不会科学利用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5" action="ppaction://hlinksldjump"/>
              </a:rPr>
              <a:t>（三）不求甚解，死记硬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6" action="ppaction://hlinksldjump"/>
              </a:rPr>
              <a:t>（四）不能形成知识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7" action="ppaction://hlinksldjump"/>
              </a:rPr>
              <a:t>（五）不会听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8" action="ppaction://hlinksldjump"/>
              </a:rPr>
              <a:t>（六）不会阅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9" action="ppaction://hlinksldjump"/>
              </a:rPr>
              <a:t>（七）抓不住重点和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10" action="ppaction://hlinksldjump"/>
              </a:rPr>
              <a:t>（八）理论与实际脱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九）不善于科学用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1600200" y="914400"/>
            <a:ext cx="571680" cy="503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305920" y="6324480"/>
            <a:ext cx="761760" cy="533520"/>
          </a:xfrm>
          <a:custGeom>
            <a:avLst/>
            <a:gdLst>
              <a:gd name="textAreaLeft" fmla="*/ 118800 w 761760"/>
              <a:gd name="textAreaRight" fmla="*/ 666720 w 7617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7600" y="425520"/>
            <a:ext cx="573084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不会听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这主要表现在：课前不预习，对上课内容完全陌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无法带着疑问去学，听课时开小差不记笔记，或充当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音机的角色，把老师所讲的一字不漏地记录下来；只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己的记录与教师的讲述保持同步，而不让自己的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与教师保持同步；课后不及时复习，听完课就万事大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0040" y="32868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_x000b__x000c_"/>
              </a:rPr>
              <a:t>学习方法不当的成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35920" y="1165320"/>
            <a:ext cx="573084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－）对学习方法的重要性认识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二）对学习特点认识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三）对自身的状况和条件认识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四）学习动机缺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意志薄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六）缺乏指导与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以上原因分析是从学生个体出发的，是造成学习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当的内因。除此之外，还有来自教师、家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同学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各方面的外因都对学习方法的形成产生影响，也都是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成学习方法不当的可能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52280" y="1096920"/>
            <a:ext cx="571680" cy="503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52280" y="2697120"/>
            <a:ext cx="571680" cy="503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14480" y="3154320"/>
            <a:ext cx="57132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1880" y="6400800"/>
            <a:ext cx="609840" cy="457200"/>
          </a:xfrm>
          <a:custGeom>
            <a:avLst/>
            <a:gdLst>
              <a:gd name="textAreaLeft" fmla="*/ 95040 w 609840"/>
              <a:gd name="textAreaRight" fmla="*/ 533880 w 6098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91800" y="425520"/>
            <a:ext cx="530136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意志薄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掌握和运用科学的学习方法时，需要一定的自制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特别是纠正一些不良的、已经形成习惯的学习方法，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需要毅力和恒心。有的学生有掌握科学方法的愿望，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运用过程中因意志薄弱而半途而废，造成有目标无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果，有计划无行动。在学习上跟着感觉走，自然要省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得多，但学习效果也会糟糕得多。因此，学生在运用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学习方法的过程中，需要教师、家长或同学多鼓励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督促、多提醒，依靠外界力量的支持来克服意志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薄弱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476600" y="2404440"/>
            <a:ext cx="440856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孔子谈学习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伟大的教育家孔子，在学习方法上他主张“学而时习之”，“温故而知新”。他要求学生学习时，要学、思结合提出“学而不思则罔，思而不学则殆”。就是说，光学习而不积极思维，就会迷而不知所向；如果思维不以学习为基础，就会流于空想，会带来知识上的危机。要通过独立思考，学思结合，才能在接受前人知识的基础上，有所创造，有所发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16080" y="893880"/>
            <a:ext cx="4095720" cy="5178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1200" y="6136920"/>
            <a:ext cx="34164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公元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51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7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4720" y="282240"/>
            <a:ext cx="17672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名人谈学习方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9960" y="1814400"/>
            <a:ext cx="4951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1640" y="407880"/>
            <a:ext cx="583236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动笔墨不读书”，他读书时，总是离不开笔墨，边读边写。在延安时读《共产党》《资本论》等马列经典著作，在不少段落都 做了圈点勾画。读《伦理学原理》原书十万字，他的批注就有一万三千字。从五十年代开始，一套线装二十四史一直陪伴毛泽东，八百五十册书，册册都 有他的圈点和批注。现在《毛泽东 评点二十四史》已出版。 此外，毛泽东为培养自己专心读书的习惯，还常常到热闹的地方看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8440" y="1089000"/>
            <a:ext cx="32403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06760" y="2744640"/>
            <a:ext cx="563724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爱因斯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少年智力发展迟缓，上小学、中学时，老师认为他是“笨头笨脑的孩子”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年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的爱因斯坦提出了光量子假说和狭义相对论，并通过对布朗运动的研究证明了原子的存在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又完成了广义相对论，取得了宏伟的成就，被科学界誉为“人类历史上一颗明亮的巨星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爱因斯坦的学习方法，大致可概括成：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依靠自学，独立思考，穷根究底，大胆想象，强调理解，重视实验，弄通数学，研究哲学等八个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149480"/>
            <a:ext cx="3594240" cy="4381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1320" y="5681160"/>
            <a:ext cx="278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79-195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9:17:5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1:32Z</dcterms:modified>
  <cp:revision>11</cp:revision>
  <dc:subject>主题班会课件(分28大类): http://shop62905894.taobao.com</dc:subject>
  <dc:title>主题班会课件(分28大类): http://shop62905894.taobao.com</dc:title>
</cp:coreProperties>
</file>