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0B54-474E-4914-B684-DE89DB75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01F1-9981-4259-BD26-1516F844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3DB-86CD-46A4-A5B6-B82056E8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A2D-D13D-4A05-9975-5E52CCE0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247-6D49-4CEA-B850-24906D52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F21-2BBB-4FF9-9DEC-093F0E88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B8D-CA61-4AB9-AA3D-35F6A5F8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16F3-D965-4D85-BE56-9A9072E0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4125-D523-42D5-BA96-29A3846E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DC49-0D9D-4A51-A5B2-43B1C57B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D2E5-0785-4904-A5C8-C510F251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6FA-1714-4A23-AAC7-F3CE9322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0FE4-7213-4388-B088-A5DE24816D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ashu.net/geography/chengdu/xinjin_13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E:\&#24515;&#29702;\youyongderen.mp3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333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目标在我们的前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眺望胜利的果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6240" y="5373720"/>
            <a:ext cx="38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</a:rPr>
              <a:t>高三（</a:t>
            </a:r>
            <a:r>
              <a:rPr b="0" lang="zh-CN" sz="7200" spc="-1" strike="noStrike">
                <a:solidFill>
                  <a:srgbClr val="ff3399"/>
                </a:solidFill>
                <a:latin typeface="Arial"/>
              </a:rPr>
              <a:t>5</a:t>
            </a:r>
            <a:r>
              <a:rPr b="0" lang="zh-CN" sz="7200" spc="-1" strike="noStrike">
                <a:solidFill>
                  <a:srgbClr val="ff3399"/>
                </a:solidFill>
                <a:latin typeface="Arial"/>
              </a:rPr>
              <a:t>）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843280" y="692280"/>
            <a:ext cx="3313080" cy="117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坚定信念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92360" y="2492280"/>
            <a:ext cx="60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想要，而且是一定要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95640" y="3860640"/>
            <a:ext cx="44640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心动不如行动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8964720" cy="65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9640" y="1413000"/>
            <a:ext cx="8209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位日本马拉松长跑运动员，他的身体条件并不比其他国家的运动员更具优势，但他取得了最后的胜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3284640"/>
            <a:ext cx="8209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我没有什么秘诀，我只是将整个赛程以明显的建筑物标志分成若干个小目标，对于每个小目标，我都以百米冲刺的激情去跑完它，同时又以同样的激情去冲刺下一个目标，直到终点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68360" y="0"/>
            <a:ext cx="45356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目标的精神胜利法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050920" y="620640"/>
            <a:ext cx="48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达到阶段目标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24000" y="2349360"/>
            <a:ext cx="331308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坚持不懈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3933720"/>
            <a:ext cx="64087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只要放弃了就没有成功的机会；坚持不懈，就会拥有成功的希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00000" y="1700280"/>
            <a:ext cx="748836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  <a:ea typeface="黑体"/>
              </a:rPr>
              <a:t>我们身边有哪些同学通过自己的努力并达到既定目标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260280"/>
            <a:ext cx="23335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身边的榜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260280"/>
            <a:ext cx="3024360" cy="568980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1640" y="692280"/>
            <a:ext cx="19908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目标明确 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00000" y="1844640"/>
            <a:ext cx="19908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坚定信念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00000" y="4178160"/>
            <a:ext cx="199080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坚持不懈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00000" y="2997360"/>
            <a:ext cx="19908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达到阶段目标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484280"/>
            <a:ext cx="5688000" cy="1728720"/>
          </a:xfrm>
          <a:prstGeom prst="wedgeRoundRectCallout">
            <a:avLst>
              <a:gd name="adj1" fmla="val 30462"/>
              <a:gd name="adj2" fmla="val 82416"/>
              <a:gd name="adj3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我十分渴望达到既定目标，那么我需要做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flipH="1" rot="194400">
            <a:off x="7243200" y="3789000"/>
            <a:ext cx="14065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549360"/>
            <a:ext cx="3384720" cy="86508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我的目标是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189000"/>
            <a:ext cx="4465440" cy="1728720"/>
          </a:xfrm>
          <a:prstGeom prst="cloudCallout">
            <a:avLst>
              <a:gd name="adj1" fmla="val -59208"/>
              <a:gd name="adj2" fmla="val 6935"/>
            </a:avLst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为什么要达到这个目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1700280"/>
            <a:ext cx="3311640" cy="13683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预计在什么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达到这个目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284640"/>
            <a:ext cx="3311640" cy="165708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预计在过程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遇到什么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2276640"/>
            <a:ext cx="4032000" cy="1871640"/>
          </a:xfrm>
          <a:prstGeom prst="cloudCallout">
            <a:avLst>
              <a:gd name="adj1" fmla="val -56180"/>
              <a:gd name="adj2" fmla="val 52546"/>
            </a:avLst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怎样解决这些问题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5157720"/>
            <a:ext cx="3744720" cy="13413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下一个目标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1341360"/>
            <a:ext cx="647640" cy="50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2997360"/>
            <a:ext cx="64764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2267640" y="4869720"/>
            <a:ext cx="936720" cy="792000"/>
          </a:xfrm>
          <a:custGeom>
            <a:avLst/>
            <a:gdLst>
              <a:gd name="textAreaLeft" fmla="*/ 312120 w 936720"/>
              <a:gd name="textAreaRight" fmla="*/ 802440 w 93672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班是一个团结友爱的集体，其中每一个成员都很聪明，虽然大家在学习方面成绩有差异，但并不能说明谁行谁不行，只能说成绩好的同学走在前面了，大家要向他（她）看齐，奋起直追。暂时落后的，说明学习方法要改进，学习要比以前更用功，向跑在前面的同学学习经验，看他们是怎么样学习的，取长补短，每天进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就是卓越、成功的开始！方法总比困难多，只要肯用心，没有什么困难不能克服的！同学们，你们一定要明确自己的目标：考上大学！考上重点大学！！考大学并不难，难的只是目标不明确！当你感到迷茫时，你就要对自己说：我一定要考上大学！我一定要成功！我是最棒的！我一定要努力超过某某某！这样，你就可以给自己打气，同学们，不妨把这几个字写下来，当作自己的动力源，鼓励自己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908000" y="5300640"/>
            <a:ext cx="619308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努力我拼搏，我要上大学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14400" y="609480"/>
            <a:ext cx="2666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共唱一首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05120" y="2590920"/>
            <a:ext cx="5029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《有用的人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20040" y="954000"/>
            <a:ext cx="493560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谁不希望自己是聪明的人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谁不希望什么都能一百分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谁能希望自己又呆又傻又愚蠢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谁会愿意听到你真的好笨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150640" y="878040"/>
            <a:ext cx="456984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事情就是这样的残忍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道路没有直通那扇门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游戏结果不一定要获胜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收获不在终点只在过程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189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b17d7"/>
                </a:solidFill>
                <a:latin typeface="Tahoma"/>
                <a:ea typeface="隶书"/>
              </a:rPr>
              <a:t>    </a:t>
            </a:r>
            <a:r>
              <a:rPr b="0" lang="zh-CN" sz="2800" spc="-1" strike="noStrike">
                <a:solidFill>
                  <a:srgbClr val="eb17d7"/>
                </a:solidFill>
                <a:latin typeface="Tahoma"/>
                <a:ea typeface="隶书"/>
              </a:rPr>
              <a:t>成功就象攀索桥，失败原因不是力量的薄弱、智商的高低而是没有执着的目标，威慑于险恶的环境，被周围的环境所屈服。</a:t>
            </a:r>
            <a:r>
              <a:rPr b="0" lang="zh-CN" sz="2800" spc="-1" strike="noStrike">
                <a:solidFill>
                  <a:srgbClr val="eb17d7"/>
                </a:solidFill>
                <a:latin typeface="Tahoma"/>
              </a:rPr>
              <a:t> ——高三的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62864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高三对每一个渴望升学的同学而言，都是不简单的一年。在这一年里，得学会坚强，学会忍受，学会品味那无穷无味的寂寞和孤独。所有过来人都应清楚地记得，那三百多个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孤灯夜读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日夜，静静地手捧一卷书，默默地望着窗外无声的世界，心里不停地在祈祷：愿梦想成真。虽然苦涩、孤寂，但内心却充满了希望，满怀憧憬……只能是默默地奋斗着，辛勤在耕耘着，相信皇天不负有心人吧。一次次跌倒，一次次地爬起，为的只是那梦想地实现。不停地鼓励自己：一定要坚持下去，不论前面会遇到何等的挫折，也不能放弃希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990720"/>
            <a:ext cx="685800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们不会心灰意冷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们会给自己掌声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不是你想象的笨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也有我自己的门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66680" y="762120"/>
            <a:ext cx="7315200" cy="67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其实你不是不能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只是你肯不肯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给自己多一个机会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因为我们都是</a:t>
            </a:r>
            <a:r>
              <a:rPr b="0" lang="zh-CN" sz="6600" spc="-1" strike="noStrike">
                <a:solidFill>
                  <a:srgbClr val="e10900"/>
                </a:solidFill>
                <a:latin typeface="Arial"/>
                <a:ea typeface="华文行楷"/>
              </a:rPr>
              <a:t>有用的人</a:t>
            </a:r>
            <a:br>
              <a:rPr sz="48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8964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150640" y="878040"/>
            <a:ext cx="456984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事情就是这样的残忍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道路没有直通那扇门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游戏结果不一定要获胜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收获不在终点只在过程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914400"/>
            <a:ext cx="6858000" cy="74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们不会心灰意冷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们会给自己掌声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不是你想象的笨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也有我自己的门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260280"/>
            <a:ext cx="7775280" cy="74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其实你不是不能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只是你肯不肯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给自己多一个机会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因为我们都是</a:t>
            </a:r>
            <a:r>
              <a:rPr b="0" lang="zh-CN" sz="6600" spc="-1" strike="noStrike">
                <a:solidFill>
                  <a:srgbClr val="e10900"/>
                </a:solidFill>
                <a:latin typeface="Arial"/>
                <a:ea typeface="华文行楷"/>
              </a:rPr>
              <a:t>有用的人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0"/>
            <a:ext cx="856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高三的日子里，一定要给自己一个好的心境，任外界风吹雨打，心中兀自阳光灿烂，保持积极和从容的心境。 这种心境源自什么？首先是源自一种爱，和因这份爱所生的责任。爱父母家人、爱师长朋友、爱自己。因为我爱，所以我要好好地、优秀地活着。我不放纵自己的生命，我不敢，我不能，我也不愿。我想做一个正直的人，一个有智慧的人，一个善良的人，一个积极的人。因此，我要有正当的职业，我要有稳定的收入，我要有足够的能力，我要有不断的支持。所以，我要在我这最好的年华里，为自己选择最有用的知识，最精华的知识，最美好的知识。然后，我发现，除了学习，除了在良师益友的关心下，象树苗深埋地下的根脉贪婪地吸收水分和养料一样的吸收知识以外，我别无他途。这一点上，我们，你、我、他都一样地别无选择。只有这样，才可以快乐地看到自己的前途一天天明朗，自己能予人予已越来越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3880" y="457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4ec0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8a4ec0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8a4ec0"/>
                </a:solidFill>
                <a:latin typeface="Tahoma"/>
              </a:rPr>
              <a:t>）班惠州二模月考成绩分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057400"/>
            <a:ext cx="3733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语文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78.4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数学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1.1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英语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67.2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政治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历史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6.9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地理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886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4ec0"/>
                </a:solidFill>
                <a:latin typeface="Tahoma"/>
              </a:rPr>
              <a:t>分段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572000"/>
            <a:ext cx="3962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A      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人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57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分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B      7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人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17~456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分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A     17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人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59~416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B      17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人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96~358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1600200"/>
            <a:ext cx="4419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B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目标：数学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7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语文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英语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90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政治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历史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4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地理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3276720"/>
            <a:ext cx="4419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A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目标：数学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2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语文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英语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72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政治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历史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5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地理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4876920"/>
            <a:ext cx="4419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B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目标：数学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5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语文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英语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1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政治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历史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6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地理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990720"/>
            <a:ext cx="2743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目标还有多远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8893080" cy="6597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55640" y="69228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I Believe I Can Fly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00536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如何达到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916360" y="1341360"/>
            <a:ext cx="3313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目标明确 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2924280"/>
            <a:ext cx="7920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想获得成功，就必须要确定一个清晰可见的目标，因为目标是人奋勇向前的动力源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4581360"/>
            <a:ext cx="619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冬天来了，高考还会远么！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2920" y="476280"/>
            <a:ext cx="20876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可怜的跳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64000" y="404640"/>
            <a:ext cx="4753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已经默认了一只杯子的高度是自己无法超越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916280"/>
            <a:ext cx="2520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幸运的大黄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1916280"/>
            <a:ext cx="48956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形肥胖笨重，翅膀十分短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2708280"/>
            <a:ext cx="77756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物学家、物理学家断言，大黄蜂是绝对不可能会飞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2000" y="2349360"/>
            <a:ext cx="8352000" cy="4292640"/>
          </a:xfrm>
          <a:prstGeom prst="irregularSeal2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大黄蜂不仅能飞，而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速度远远超过一般蜜蜂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305920" cy="54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0" lang="zh-CN" sz="4000" spc="-1" strike="noStrike">
                <a:solidFill>
                  <a:srgbClr val="000099"/>
                </a:solidFill>
                <a:latin typeface="宋体"/>
              </a:rPr>
              <a:t>世界上有两种人，一种人，虚度年华；另一种人，过着有意义的生活。在第一种人的眼里，生活就是一场睡眠，如果在他看来，是睡在既温暖又柔和的床铺上，那他便十分心满意足了；在第二种人眼里，可以说，生活就是建立功绩……人就在完成这个功绩中享到自己的幸福。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别林斯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42920" y="692280"/>
            <a:ext cx="741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现实生活中，当一件事被认为是不可能时，我们就会为不可能找到许多理由，例如：我的智商没有别人高，我吃不了苦，我天生记忆力差，我不是学数学的那块料……从而使这个不可能显得理所当然，我们也就当然不会采取积极有效的行动，最终的结果肯定是这件事真的成了不可能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58920" y="3933720"/>
            <a:ext cx="712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不怕你做不到，就怕你想不到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8:52:5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6:29Z</dcterms:modified>
  <cp:revision>4</cp:revision>
  <dc:subject>主题班会课件(分28大类): http://shop62905894.taobao.com</dc:subject>
  <dc:title>主题班会课件(分28大类): http://shop62905894.taobao.com</dc:title>
</cp:coreProperties>
</file>