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BFD-A1E6-4B03-9DF5-6CBD0E24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ABA-A333-4766-A773-4DE7CCC3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374-F4FF-47FD-B8A0-FCCB0979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F98F-A438-4797-86F6-41105F2A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F8E9-797D-4239-8B51-9C138865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426A-8292-4FCD-86A3-D1FBC38B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9392-B680-4224-8A47-DCCC876F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B699-C896-443D-A076-7AFAF9A6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7739-E5C1-44D8-A4F4-095498F7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3433-9C6A-45D9-BC50-57731C03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DFF9-05AA-4759-A434-F037397F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B97-AD95-4964-943C-E50277EB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6B49-0F61-4675-ADDC-D0C87395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08C2-4265-4C6C-85AB-2D64454E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B874-ADA5-48E9-A94F-A452671F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FDB5-C98C-4FA6-99A2-ABCB3EAA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4779-CF53-4FD0-83CC-2587B30B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04EE-89DB-4B27-AAD8-4930907B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10F0-2BF8-4446-B931-327A2154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D5B5-E73E-425B-A2BE-9F49E593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B948-8BD9-4808-B053-08008904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74A-6ED9-425A-AFC2-8232168D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1A5-2D80-4B4D-B1CA-674BD73A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549-A377-4559-B26B-BDD62685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639B-F6E2-42BF-992F-C2928025B2C5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C1F3-4644-4E94-8696-6F04BC14A14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Verdana"/>
              </a:rPr>
              <a:t>应试指导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00000" y="4149360"/>
            <a:ext cx="70106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2008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两轮解题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考试成功的标志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一是，只要将自己的水平正常发挥出来了，就是一次成功的考试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正常发挥就是将自己的水平发挥出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80%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，发挥出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80%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已经很不简单了，发挥出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80%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无疑是没考砸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二是，不要横向与其他同学比，要纵向自己与自己比。只要考试中犯的低级错误在逐步减少，那就是成功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两轮解题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第一轮（答题要敢于放弃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当你从前往后答题时，一看这题会，就答。一看这题不会，就不答。一看这题会，答的中间被困住卡壳了，就放弃。这是非常关键的一点。为什么“会答的先答，不会答的后答’到了考场就做不到呢？要害在会与不会之间，难在会与不会的判定上。会的题很清楚。不会的题也很明了。但恰恰有些题是你乍一看会，一做起来就</a:t>
            </a:r>
            <a:r>
              <a:rPr b="1" lang="zh-CN" sz="3000" spc="-1" strike="noStrike">
                <a:solidFill>
                  <a:srgbClr val="0000ff"/>
                </a:solidFill>
                <a:latin typeface="Verdana"/>
              </a:rPr>
              <a:t>卡壳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，或者不能立即得出结论，需要看一看，思考思考，演算演算，琢磨琢磨……真是欲行不能，欲罢不忍。结果是，每每都是在不知不觉中丧失了宝贵的时间，每次考试都觉得时间不够用，稀里糊涂地败下阵来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两轮解题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12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第二轮查缺补漏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第一轮完成之后，你已经将能做的题都做上了，基本发挥除了自己的水平。然后，鼓励一下自己，开始第二轮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实践和理论都证实，做过第一轮后仍旧会有能解出来的题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两轮解题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001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不同的科目，应用两轮解题法也应有所差异。比如数学、综合是这样的三轮，而语文、英语则应该是一卷是一轮，做完就要检查、涂卡。然后二卷作文之前是一轮，最后一轮全身心地写作文。理想状态是作文写完，剩余时间少于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钟。如果剩多了，说明你前边的时间分配不合理，要改进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考试过程中需注意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1752480"/>
            <a:ext cx="810900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Verdana"/>
              </a:rPr>
              <a:t>一、考前准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（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1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）考试用品准备好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碳素笔、笔芯（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2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个）、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2B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铅笔（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2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根）、三角板、直尺、圆规、橡皮、小刀、草稿纸、水，其他用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（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2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）总结以往试卷，设想、规划设想答题程序，书面写出考试过程中必须注意的问题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考试过程中需注意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Verdana"/>
              </a:rPr>
              <a:t>二、发下试卷后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160be9"/>
                </a:solidFill>
                <a:latin typeface="Verdana"/>
              </a:rPr>
              <a:t>（</a:t>
            </a:r>
            <a:r>
              <a:rPr b="1" lang="zh-CN" sz="3800" spc="-1" strike="noStrike">
                <a:solidFill>
                  <a:srgbClr val="160be9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160be9"/>
                </a:solidFill>
                <a:latin typeface="Verdana"/>
              </a:rPr>
              <a:t>）检查试卷，填好卷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160be9"/>
                </a:solidFill>
                <a:latin typeface="Verdana"/>
              </a:rPr>
              <a:t>（</a:t>
            </a:r>
            <a:r>
              <a:rPr b="1" lang="zh-CN" sz="3800" spc="-1" strike="noStrike">
                <a:solidFill>
                  <a:srgbClr val="160be9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160be9"/>
                </a:solidFill>
                <a:latin typeface="Verdana"/>
              </a:rPr>
              <a:t>）浏览试卷，摸清题情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160be9"/>
                </a:solidFill>
                <a:latin typeface="Verdana"/>
              </a:rPr>
              <a:t>（</a:t>
            </a:r>
            <a:r>
              <a:rPr b="1" lang="zh-CN" sz="3800" spc="-1" strike="noStrike">
                <a:solidFill>
                  <a:srgbClr val="160be9"/>
                </a:solidFill>
                <a:latin typeface="Verdana"/>
              </a:rPr>
              <a:t>3</a:t>
            </a:r>
            <a:r>
              <a:rPr b="1" lang="zh-CN" sz="3800" spc="-1" strike="noStrike">
                <a:solidFill>
                  <a:srgbClr val="160be9"/>
                </a:solidFill>
                <a:latin typeface="Verdana"/>
              </a:rPr>
              <a:t>）</a:t>
            </a:r>
            <a:r>
              <a:rPr b="1" lang="zh-CN" sz="3800" spc="-1" strike="noStrike">
                <a:solidFill>
                  <a:srgbClr val="ff00ff"/>
                </a:solidFill>
                <a:latin typeface="Verdana"/>
              </a:rPr>
              <a:t>熟题不大意，生题不心急</a:t>
            </a:r>
            <a:r>
              <a:rPr b="1" lang="zh-CN" sz="3800" spc="-1" strike="noStrike">
                <a:solidFill>
                  <a:srgbClr val="ff00ff"/>
                </a:solidFill>
                <a:latin typeface="Verdana"/>
              </a:rPr>
              <a:t>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考试过程中需注意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9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a50021"/>
                </a:solidFill>
                <a:latin typeface="Verdana"/>
              </a:rPr>
              <a:t>三、答题基本原则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ff"/>
                </a:solidFill>
                <a:latin typeface="Verdana"/>
              </a:rPr>
              <a:t>1</a:t>
            </a:r>
            <a:r>
              <a:rPr b="1" lang="zh-CN" sz="2900" spc="-1" strike="noStrike">
                <a:solidFill>
                  <a:srgbClr val="ff00ff"/>
                </a:solidFill>
                <a:latin typeface="Verdana"/>
              </a:rPr>
              <a:t>、立足</a:t>
            </a:r>
            <a:r>
              <a:rPr b="1" lang="zh-CN" sz="2900" spc="-1" strike="noStrike">
                <a:solidFill>
                  <a:srgbClr val="ff00ff"/>
                </a:solidFill>
                <a:latin typeface="Verdana"/>
              </a:rPr>
              <a:t>3+5</a:t>
            </a:r>
            <a:r>
              <a:rPr b="1" lang="zh-CN" sz="2900" spc="-1" strike="noStrike">
                <a:solidFill>
                  <a:srgbClr val="ff00ff"/>
                </a:solidFill>
                <a:latin typeface="Verdana"/>
              </a:rPr>
              <a:t>，力争高水平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ff"/>
                </a:solidFill>
                <a:latin typeface="Verdana"/>
              </a:rPr>
              <a:t>2</a:t>
            </a:r>
            <a:r>
              <a:rPr b="1" lang="zh-CN" sz="2900" spc="-1" strike="noStrike">
                <a:solidFill>
                  <a:srgbClr val="0000ff"/>
                </a:solidFill>
                <a:latin typeface="Verdana"/>
              </a:rPr>
              <a:t>、容易题志在必得，中档题寸土必争，难题量力而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ff"/>
                </a:solidFill>
                <a:latin typeface="Verdana"/>
              </a:rPr>
              <a:t>3</a:t>
            </a:r>
            <a:r>
              <a:rPr b="1" lang="zh-CN" sz="2900" spc="-1" strike="noStrike">
                <a:solidFill>
                  <a:srgbClr val="ff00ff"/>
                </a:solidFill>
                <a:latin typeface="Verdana"/>
              </a:rPr>
              <a:t>、三先三后</a:t>
            </a:r>
            <a:r>
              <a:rPr b="1" lang="zh-CN" sz="2900" spc="-1" strike="noStrike">
                <a:solidFill>
                  <a:srgbClr val="160be9"/>
                </a:solidFill>
                <a:latin typeface="Verdana"/>
              </a:rPr>
              <a:t>：先易后难、先简后繁、先熟后生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ff"/>
                </a:solidFill>
                <a:latin typeface="Verdana"/>
              </a:rPr>
              <a:t>4</a:t>
            </a:r>
            <a:r>
              <a:rPr b="1" lang="zh-CN" sz="2900" spc="-1" strike="noStrike">
                <a:solidFill>
                  <a:srgbClr val="ff00ff"/>
                </a:solidFill>
                <a:latin typeface="Verdana"/>
              </a:rPr>
              <a:t>、</a:t>
            </a:r>
            <a:r>
              <a:rPr b="1" lang="zh-CN" sz="2900" spc="-1" strike="noStrike">
                <a:solidFill>
                  <a:srgbClr val="a50021"/>
                </a:solidFill>
                <a:latin typeface="Verdana"/>
              </a:rPr>
              <a:t>把握好时间（特别是语文、英语、理综）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a50021"/>
                </a:solidFill>
                <a:latin typeface="Verdana"/>
              </a:rPr>
              <a:t>5</a:t>
            </a:r>
            <a:r>
              <a:rPr b="1" lang="zh-CN" sz="2900" spc="-1" strike="noStrike">
                <a:solidFill>
                  <a:srgbClr val="a50021"/>
                </a:solidFill>
                <a:latin typeface="Verdana"/>
              </a:rPr>
              <a:t>、</a:t>
            </a:r>
            <a:r>
              <a:rPr b="1" lang="zh-CN" sz="2900" spc="-1" strike="noStrike">
                <a:solidFill>
                  <a:srgbClr val="ff3300"/>
                </a:solidFill>
                <a:latin typeface="Verdana"/>
              </a:rPr>
              <a:t>审题要慢，答题要快！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考试过程中需注意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9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3300"/>
                </a:solidFill>
                <a:latin typeface="Verdana"/>
              </a:rPr>
              <a:t>关于审题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要舍得</a:t>
            </a:r>
            <a:r>
              <a:rPr b="1" lang="zh-CN" sz="2400" spc="-1" strike="noStrike">
                <a:solidFill>
                  <a:srgbClr val="a50021"/>
                </a:solidFill>
                <a:latin typeface="Verdana"/>
              </a:rPr>
              <a:t>在审题上花时间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，这决不是浪费时间，而恰恰是提高效率的前提和保障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要</a:t>
            </a:r>
            <a:r>
              <a:rPr b="1" lang="zh-CN" sz="2400" spc="-1" strike="noStrike">
                <a:solidFill>
                  <a:srgbClr val="a50021"/>
                </a:solidFill>
                <a:latin typeface="Verdana"/>
              </a:rPr>
              <a:t>读题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而不是看题，</a:t>
            </a:r>
            <a:r>
              <a:rPr b="1" lang="zh-CN" sz="2400" spc="-1" strike="noStrike">
                <a:solidFill>
                  <a:srgbClr val="a50021"/>
                </a:solidFill>
                <a:latin typeface="Verdana"/>
              </a:rPr>
              <a:t>边读边思考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，切忌一目十行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审题时应先审设问，</a:t>
            </a:r>
            <a:r>
              <a:rPr b="1" lang="zh-CN" sz="2400" spc="-1" strike="noStrike">
                <a:solidFill>
                  <a:srgbClr val="a50021"/>
                </a:solidFill>
                <a:latin typeface="Verdana"/>
              </a:rPr>
              <a:t>明确答题的范围和方向－－得分的前提；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可以边看题边在</a:t>
            </a:r>
            <a:r>
              <a:rPr b="1" lang="zh-CN" sz="2400" spc="-1" strike="noStrike">
                <a:solidFill>
                  <a:srgbClr val="a50021"/>
                </a:solidFill>
                <a:latin typeface="Verdana"/>
              </a:rPr>
              <a:t>试卷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上圈圈点点，做出标记，同时想到了什么答题角度也要及时地把它标记在试卷上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必须努力突破思维定势，宁可将题目看做与以往所做题不同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考试过程中需注意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9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四、</a:t>
            </a:r>
            <a:r>
              <a:rPr b="1" lang="zh-CN" sz="3400" spc="-1" strike="noStrike">
                <a:solidFill>
                  <a:srgbClr val="ff00ff"/>
                </a:solidFill>
                <a:latin typeface="Verdana"/>
              </a:rPr>
              <a:t>向规范要成绩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（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）书写要规范，以适应网上阅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A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、用笔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0.5mm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黑色签字笔答题。（</a:t>
            </a:r>
            <a:r>
              <a:rPr b="1" lang="zh-CN" sz="2600" spc="-1" strike="noStrike">
                <a:solidFill>
                  <a:srgbClr val="a50021"/>
                </a:solidFill>
                <a:latin typeface="Verdana"/>
              </a:rPr>
              <a:t>数学画图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B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、字写的太潦草（</a:t>
            </a:r>
            <a:r>
              <a:rPr b="1" lang="zh-CN" sz="2600" spc="-1" strike="noStrike">
                <a:solidFill>
                  <a:srgbClr val="a50021"/>
                </a:solidFill>
                <a:latin typeface="Verdana"/>
              </a:rPr>
              <a:t>乱、太少、分不清段落层次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C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、理综在答主观题时，注意分清层次，标清序号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D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、错、别字（</a:t>
            </a:r>
            <a:r>
              <a:rPr b="1" lang="zh-CN" sz="2600" spc="-1" strike="noStrike">
                <a:solidFill>
                  <a:srgbClr val="a50021"/>
                </a:solidFill>
                <a:latin typeface="Verdana"/>
              </a:rPr>
              <a:t>作文每错一字扣一分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E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、标点符号乱写乱用（汉语与英语中的句号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考试过程中需注意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9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四、</a:t>
            </a:r>
            <a:r>
              <a:rPr b="1" lang="zh-CN" sz="3400" spc="-1" strike="noStrike">
                <a:solidFill>
                  <a:srgbClr val="ff00ff"/>
                </a:solidFill>
                <a:latin typeface="Verdana"/>
              </a:rPr>
              <a:t>向规范要成绩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（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）答题卡的填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必须要有充分的时间填涂选择题答案，特别是选择题比较多的科目（</a:t>
            </a:r>
            <a:r>
              <a:rPr b="1" lang="zh-CN" sz="2600" spc="-1" strike="noStrike">
                <a:solidFill>
                  <a:srgbClr val="a50021"/>
                </a:solidFill>
                <a:latin typeface="Verdana"/>
              </a:rPr>
              <a:t>英语、综合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），最好是</a:t>
            </a:r>
            <a:r>
              <a:rPr b="1" lang="zh-CN" sz="2600" spc="-1" strike="noStrike">
                <a:solidFill>
                  <a:srgbClr val="a50021"/>
                </a:solidFill>
                <a:latin typeface="Verdana"/>
              </a:rPr>
              <a:t>选择题做完后就涂上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，无误后再做非选择题部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最好分段涂卡，涂卡时要看清题号，分清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B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和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D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。涂完之后一定要看一下题数和自己涂的是不是一致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涂卡时要用高考规定用笔（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2B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铅笔）按要求均匀涂满方框，更改时要擦干净，防止机器误判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上次周考各科老师总结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语文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审题不认真、不仔细，不能迅速确认题型和答题思路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讲过的知识点不会，复习回顾不够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作文，规范性存在问题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考试过程中需注意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9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四、</a:t>
            </a:r>
            <a:r>
              <a:rPr b="1" lang="zh-CN" sz="3400" spc="-1" strike="noStrike">
                <a:solidFill>
                  <a:srgbClr val="ff00ff"/>
                </a:solidFill>
                <a:latin typeface="Verdana"/>
              </a:rPr>
              <a:t>向规范要成绩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（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）答题纸的使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由于网上阅卷，微机扫描自动切割答案，所以一定要在</a:t>
            </a:r>
            <a:r>
              <a:rPr b="1" lang="zh-CN" sz="2600" spc="-1" strike="noStrike">
                <a:solidFill>
                  <a:srgbClr val="a50021"/>
                </a:solidFill>
                <a:latin typeface="Verdana"/>
              </a:rPr>
              <a:t>指定的区域内做答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A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、要看清题号，不能答错位置。（</a:t>
            </a:r>
            <a:r>
              <a:rPr b="1" lang="zh-CN" sz="2600" spc="-1" strike="noStrike">
                <a:solidFill>
                  <a:srgbClr val="a50021"/>
                </a:solidFill>
                <a:latin typeface="Verdana"/>
              </a:rPr>
              <a:t>万一错了怎么办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？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B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、合理规划使用空间，语言注意精练，想好了再答，避免乱涂乱画（</a:t>
            </a:r>
            <a:r>
              <a:rPr b="1" lang="zh-CN" sz="2600" spc="-1" strike="noStrike">
                <a:solidFill>
                  <a:srgbClr val="a50021"/>
                </a:solidFill>
                <a:latin typeface="Verdana"/>
              </a:rPr>
              <a:t>用胶带粘或用涂改液涂都是不允许的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）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考试过程中需注意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9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Verdana"/>
              </a:rPr>
              <a:t>四、</a:t>
            </a:r>
            <a:r>
              <a:rPr b="1" lang="zh-CN" sz="3800" spc="-1" strike="noStrike">
                <a:solidFill>
                  <a:srgbClr val="ff00ff"/>
                </a:solidFill>
                <a:latin typeface="Verdana"/>
              </a:rPr>
              <a:t>向规范要成绩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（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）草稿纸的使用（特别是</a:t>
            </a:r>
            <a:r>
              <a:rPr b="1" lang="zh-CN" sz="3000" spc="-1" strike="noStrike">
                <a:solidFill>
                  <a:srgbClr val="a50021"/>
                </a:solidFill>
                <a:latin typeface="Verdana"/>
              </a:rPr>
              <a:t>数学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）。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不要乱写乱画，要合理布局，字迹也要尽量写清楚，以便往答题纸上抄时出现失误，也有利于检查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上次周考各科老师总结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数学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审题问题，不能快速准确地理解题意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个别知识点还存在漏洞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计算失误较多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上次周考各科老师总结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英语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改错题，刚做过的还是不会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作文，部分同学的规范性需要提高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上次周考各科老师总结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理综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选择题丢分严重，只要遇到一点障碍就沉不住气，就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时间安排不合理，很多同学感觉时间不够用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做过的题答得不好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上次周考同学们总结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4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做题过程方面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耐心不够，心里着急，精力不集中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时间安排不合理，前松后紧。一卷用时太长，而且丢分严重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遇见生题就犹豫、怀疑、恐惧，导致在生题和难题上浪费时间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上次周考同学们总结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4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审题方面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不仔细，导致题干信息要点看不全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不准确，尤其是理综、作文材料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受思维定势影响。审完题后，不去汇总分析所提供的所有信息，而是断章取义，或先入为主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上次周考同学们总结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9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答题方面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做过的题目没印象，或者做过的题目做不对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答题思路不清晰，不正确，答案不完整，不全面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语文、英语阅读分析结构意识、联系语境意识不够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低级失误太多，尤其是计算失误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知识点、公式模糊，课本不熟，尤其是细节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结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试卷的总结回顾反思工作不到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课本基础知识和基本概念不熟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答题过程中心态不稳定，精力不集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审题不仔细、不全面、不准确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2:43:2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6:04Z</dcterms:modified>
  <cp:revision>255</cp:revision>
  <dc:subject>主题班会课件(分28大类): http://shop62905894.taobao.com</dc:subject>
  <dc:title>主题班会课件(分28大类): http://shop62905894.taobao.com</dc:title>
</cp:coreProperties>
</file>