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88F-148A-4A5D-9ABC-8F6474D7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781-BDC1-4049-AC70-7B0297D2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914-DBA9-418E-9BA9-A0D10A9E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E02-92E7-42C4-81E3-761ECD2D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BCCA-9274-4D40-B498-249DF7CE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ECB4-9274-4EBE-99A4-8270B23D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B45E-C649-49F0-8007-37F5E68C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C695-19C1-4037-9AB8-4F738691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D768-4A1A-4D23-BEF8-591F7337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F558-6F8C-40CA-BB04-B52EA7E4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EF96-E0FE-4E4F-B091-F2576148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BEF-DA84-4FEA-A16E-7FAEA021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8016-B6BA-4FBD-B24D-52816411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CCC0-6572-4EE4-B3CE-3E0B494B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8096-A729-46EF-AB42-4BA02C2A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7963-3D20-4632-8D1C-CCCA9611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C86A-083F-4A24-98E4-F56C0653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E1F54-AAFB-4E86-8011-BCCBAEFD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94E7-9C9A-484A-B7E4-1462619A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B2D0-BA74-4BF4-825F-87AB4512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72B28-0274-43D9-85C2-1A781EF1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E4A9-3105-40B1-B0C8-3CAC66FD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DD3-82D8-4C81-8AC6-A1C65293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052D7-FD54-4A2B-92A5-E5383358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422E-87C9-4765-B35F-30F5727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C4AFF-8CE1-4647-B33B-ED340716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07757-2ED1-44F2-9D6A-22102327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7CC0-98F4-44D2-B854-4C40C59D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E6A9-70BA-433F-8C87-F41F6CC4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45C9-619E-4309-9B03-3C16606B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EA5-88FB-43BC-8E49-B5630E65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B8E-E3AE-4B8C-BF4D-55735F2B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F58-1654-48DC-8092-51B93C05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813-ACE2-4AC6-99DF-4CB73B24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3E3-0C38-4FC6-8C48-AD57493A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F22-1B21-4577-AC71-C8679C6F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B520-A4D7-4AF5-803D-492311BEA8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0321-E434-47E4-A738-0A28B2475B6F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AECE-7923-4673-BBE4-B4137AAD8485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shu.net/geography/chengdu/xinjin_13.htm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221520" y="533520"/>
            <a:ext cx="23749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静候生命之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36480" y="685800"/>
            <a:ext cx="23749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叩开命运之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1143000"/>
            <a:ext cx="518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我是天才舍我其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51055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00"/>
                </a:solidFill>
                <a:latin typeface="Times New Roman"/>
                <a:ea typeface="黑体"/>
              </a:rPr>
              <a:t>高三</a:t>
            </a:r>
            <a:r>
              <a:rPr b="1" i="1" lang="zh-CN" sz="4000" spc="-1" strike="noStrike">
                <a:solidFill>
                  <a:srgbClr val="00ff00"/>
                </a:solidFill>
                <a:latin typeface="Times New Roman"/>
                <a:ea typeface="黑体"/>
              </a:rPr>
              <a:t>2</a:t>
            </a:r>
            <a:r>
              <a:rPr b="1" i="1" lang="zh-CN" sz="4000" spc="-1" strike="noStrike">
                <a:solidFill>
                  <a:srgbClr val="00ff00"/>
                </a:solidFill>
                <a:latin typeface="Times New Roman"/>
                <a:ea typeface="黑体"/>
              </a:rPr>
              <a:t>班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08360" y="59500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定州二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-838080" y="-1905120"/>
            <a:ext cx="1086156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0018" descr=""/>
          <p:cNvPicPr/>
          <p:nvPr/>
        </p:nvPicPr>
        <p:blipFill>
          <a:blip r:embed="rId1"/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676520" y="304920"/>
            <a:ext cx="78483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br>
              <a:rPr sz="2400"/>
            </a:b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人，因梦想而伟大                         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我要，我就能                                 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决心决定成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没有失败，只是暂时没有成功     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5.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只要不服输，失败就不会是定局 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6.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坚持到底，永不放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7.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你越努力，你的运气就会越好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8.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每天进步一点点                         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9.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立即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9480" y="0"/>
            <a:ext cx="789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决定你一生成功的九个信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295280" y="1828800"/>
            <a:ext cx="6172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8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我是天才   舍我其谁！</a:t>
            </a:r>
            <a:endParaRPr b="1" i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191120" y="0"/>
            <a:ext cx="4952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速度七十迈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心情是自由自在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希望终点是爱琴海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全力奔跑梦在彼岸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我们想漫游世界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看奇迹就在眼前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等待夕阳染红了天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肩并着肩许下心愿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随风奔跑自由是方向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追逐雷和闪电的力量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把浩瀚的海洋装进我胸膛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即使再小的帆也能远航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随风飞翔有梦作翅膀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敢爱敢做勇敢闯一闯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哪怕遇见再大的风险再大的浪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也会有默契的目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71000" y="1066680"/>
            <a:ext cx="13993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奔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057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2388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219320"/>
            <a:ext cx="883908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Times New Roman"/>
                <a:ea typeface="隶书"/>
              </a:rPr>
              <a:t>三类学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Times New Roman"/>
                <a:ea typeface="隶书"/>
              </a:rPr>
              <a:t>一、找不到进一步发展的突破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Times New Roman"/>
                <a:ea typeface="隶书"/>
              </a:rPr>
              <a:t>二、找不准自己的定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Times New Roman"/>
                <a:ea typeface="隶书"/>
              </a:rPr>
              <a:t>三、觉得自己没有希望，一无是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743200" y="685800"/>
            <a:ext cx="60199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应对方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1</a:t>
            </a:r>
            <a:r>
              <a:rPr b="1" i="1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、准确认识自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2</a:t>
            </a:r>
            <a:r>
              <a:rPr b="1" i="1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、及时调整自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3</a:t>
            </a:r>
            <a:r>
              <a:rPr b="1" i="1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、勇于展现自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4</a:t>
            </a:r>
            <a:r>
              <a:rPr b="1" i="1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、通过别人肯定自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388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6858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认识自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365760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你的优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3623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你的现状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4800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你的不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295280" y="11430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cc"/>
                </a:solidFill>
                <a:latin typeface="Times New Roman"/>
                <a:ea typeface="华文行楷"/>
              </a:rPr>
              <a:t>调整自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200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ff99"/>
                </a:solidFill>
                <a:latin typeface="Times New Roman"/>
                <a:ea typeface="华文新魏"/>
              </a:rPr>
              <a:t>怎样调整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44956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99"/>
                </a:solidFill>
                <a:latin typeface="Times New Roman"/>
                <a:ea typeface="华文新魏"/>
              </a:rPr>
              <a:t>结果如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0" y="38862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展现自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533520"/>
            <a:ext cx="70102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who dares wins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2388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0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0" y="838080"/>
            <a:ext cx="866304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2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嗨，让我告诉你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其实我一直很佩服你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914400" y="68580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Times New Roman"/>
                <a:ea typeface="华文行楷"/>
              </a:rPr>
              <a:t>你确实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21337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、坚定理想，突破瓶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32767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二、提高要求，增加自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4343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三、悦纳自我，把握当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876920" y="228600"/>
            <a:ext cx="205740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优秀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388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0"/>
            <a:ext cx="845820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飞翔的蜘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　 一天，我发现，一只黑蜘蛛在后院的两檐之间结了一张很大的网。难道蜘蛛会飞？要不从这个檐头到那个檐头，中间有一丈余宽，第一根线是怎么拉过去的？后来，我发现蜘蛛走了许多弯路——从一个檐头起，打结，顺墙而下，一步一步向前爬，小心翼翼，翘起尾部，不让丝沾到地面的沙石或别的物体上，走过空地，再爬上对面的檐头，高度差不多了，再把丝收紧，以后也是如此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　 信念是一种无坚不催的力量，当你坚信自己能成功时，你必能成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5:49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5:46Z</dcterms:modified>
  <cp:revision>1</cp:revision>
  <dc:subject>主题班会课件(分28大类): http://shop62905894.taobao.com</dc:subject>
  <dc:title>主题班会课件(分28大类): http://shop62905894.taobao.com</dc:title>
</cp:coreProperties>
</file>