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Yanni%20firsttouch.wav" ContentType="audio/x-wav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C38-91D2-417F-98EF-B97D59A7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576-4EB6-4E88-961E-CB9C5394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7D8-DDCC-46B2-B3E5-B4E1A110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880-BEC2-47C9-B89E-9E67194F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2C07-A4DF-4878-A1AD-F05F74DA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F561-B106-42C3-987D-B647B2AB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AE5C-4A39-4204-A626-84D462FD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12FF-4207-4646-9A1A-789A9368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A1BE-D6BA-4DF4-A093-7BA5DCEA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102A-D2BB-415C-871D-8B3F50EE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4261-9B67-4758-BC2C-470590AE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080-2585-465C-BEA3-CE6667C3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9425-BF71-4445-886F-AFB40490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092D-DC5A-40A2-B0DB-3C76D4F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210F-DF2F-4DED-A62F-CFD827E8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8C39-E450-43B1-AA62-FED02CEB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3A75-4F50-44A3-8C99-8876E7E7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8B02-9661-4B66-8378-2B0DC331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04D3-498C-4449-8E3D-AB27FD12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7659-8B37-4871-87C7-534558B9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AC78-D983-4B72-9409-E1AE3C4D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59EA-094F-4389-BC5A-EA2B6D1B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1E4-512B-43F8-9CBB-E2E9FBE3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2C0C-7B55-428E-BBB0-C8A7F3CA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B2AC-B5CB-480C-AC9D-0201B5CF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80E9-1804-43A9-9C86-B19C408F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464F-32B6-4C1F-B96A-A8D473C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788C-3CB4-4B28-9292-2265AC1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11C5-7BA2-45AC-81CB-380C60D2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D3C8-3443-4090-90D8-01BDC6BE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2B4-FCAF-4F4B-9C7E-A52726E0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E80-FF3B-4895-BA60-B5D70015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3EE-6605-4376-8764-929C7D71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C15-0616-4DFE-AD6C-0631B4B0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D0F-FAC4-47E3-88FC-B60A2937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89D-B5B6-42B6-99EB-9A4AC1EC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50AD-53A5-42F7-BAAE-3EF0B713B5AB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1996-F2ED-4CDD-B5DC-ACFA92CC8185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69FE-EA8D-445B-BE92-88C7BC184E3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Yanni%20firsttouch.wav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Yanni%20firsttouch.wav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Yanni%20firsttouch.wav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Yanni%20firsttouch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Yanni%20firsttouch.wav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391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179280" y="5153040"/>
            <a:ext cx="2592360" cy="17049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208520" y="2492280"/>
            <a:ext cx="576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 Black"/>
              </a:rPr>
              <a:t>高一</a:t>
            </a:r>
            <a:r>
              <a:rPr b="1" lang="zh-CN" sz="5400" spc="-1" strike="noStrike">
                <a:solidFill>
                  <a:srgbClr val="ffff00"/>
                </a:solidFill>
                <a:latin typeface="Arial Black"/>
              </a:rPr>
              <a:t>15</a:t>
            </a:r>
            <a:r>
              <a:rPr b="1" lang="zh-CN" sz="5400" spc="-1" strike="noStrike">
                <a:solidFill>
                  <a:srgbClr val="ffff00"/>
                </a:solidFill>
                <a:latin typeface="Arial Black"/>
              </a:rPr>
              <a:t>班月考分析会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 Black"/>
              </a:rPr>
              <a:t>              </a:t>
            </a:r>
            <a:r>
              <a:rPr b="1" lang="zh-CN" sz="5400" spc="-1" strike="noStrike">
                <a:solidFill>
                  <a:srgbClr val="ffff00"/>
                </a:solidFill>
                <a:latin typeface="Arial Black"/>
              </a:rPr>
              <a:t>------10.15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5508720" y="5153040"/>
            <a:ext cx="2592360" cy="17049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592360" cy="17049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6"/>
          <a:stretch/>
        </p:blipFill>
        <p:spPr>
          <a:xfrm>
            <a:off x="6156360" y="0"/>
            <a:ext cx="2592360" cy="17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484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6831000" y="4500720"/>
            <a:ext cx="1278000" cy="53640"/>
          </a:xfrm>
          <a:custGeom>
            <a:avLst/>
            <a:gdLst/>
            <a:ahLst/>
            <a:rect l="l" t="t" r="r" b="b"/>
            <a:pathLst>
              <a:path w="3548" h="149">
                <a:moveTo>
                  <a:pt x="18976" y="12502"/>
                </a:moveTo>
                <a:cubicBezTo>
                  <a:pt x="19113" y="12502"/>
                  <a:pt x="19157" y="12533"/>
                  <a:pt x="19298" y="12576"/>
                </a:cubicBezTo>
                <a:cubicBezTo>
                  <a:pt x="19484" y="12632"/>
                  <a:pt x="19678" y="12626"/>
                  <a:pt x="19869" y="12626"/>
                </a:cubicBezTo>
                <a:cubicBezTo>
                  <a:pt x="20711" y="12626"/>
                  <a:pt x="21560" y="12597"/>
                  <a:pt x="22399" y="12650"/>
                </a:cubicBezTo>
                <a:cubicBezTo>
                  <a:pt x="22440" y="12653"/>
                  <a:pt x="22482" y="12648"/>
                  <a:pt x="2252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392800" y="4857840"/>
            <a:ext cx="2573280" cy="9360"/>
          </a:xfrm>
          <a:custGeom>
            <a:avLst/>
            <a:gdLst/>
            <a:ahLst/>
            <a:rect l="l" t="t" r="r" b="b"/>
            <a:pathLst>
              <a:path w="7145" h="26">
                <a:moveTo>
                  <a:pt x="14982" y="13519"/>
                </a:moveTo>
                <a:cubicBezTo>
                  <a:pt x="15052" y="13515"/>
                  <a:pt x="15115" y="13498"/>
                  <a:pt x="15180" y="13494"/>
                </a:cubicBezTo>
                <a:cubicBezTo>
                  <a:pt x="17476" y="13339"/>
                  <a:pt x="19822" y="13494"/>
                  <a:pt x="22126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351800" y="2133720"/>
            <a:ext cx="520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许老师的话：班级纪律我很满意，作业情况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我较失望，课堂上部分同学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的思维不活跃，我特别希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所有同学都能积极主动听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认真独立完成作业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498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31000" y="4500720"/>
            <a:ext cx="1278000" cy="53640"/>
          </a:xfrm>
          <a:custGeom>
            <a:avLst/>
            <a:gdLst/>
            <a:ahLst/>
            <a:rect l="l" t="t" r="r" b="b"/>
            <a:pathLst>
              <a:path w="3548" h="149">
                <a:moveTo>
                  <a:pt x="18976" y="12502"/>
                </a:moveTo>
                <a:cubicBezTo>
                  <a:pt x="19113" y="12502"/>
                  <a:pt x="19157" y="12533"/>
                  <a:pt x="19298" y="12576"/>
                </a:cubicBezTo>
                <a:cubicBezTo>
                  <a:pt x="19484" y="12632"/>
                  <a:pt x="19678" y="12626"/>
                  <a:pt x="19869" y="12626"/>
                </a:cubicBezTo>
                <a:cubicBezTo>
                  <a:pt x="20711" y="12626"/>
                  <a:pt x="21560" y="12597"/>
                  <a:pt x="22399" y="12650"/>
                </a:cubicBezTo>
                <a:cubicBezTo>
                  <a:pt x="22440" y="12653"/>
                  <a:pt x="22482" y="12648"/>
                  <a:pt x="2252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2800" y="4857840"/>
            <a:ext cx="2573280" cy="9360"/>
          </a:xfrm>
          <a:custGeom>
            <a:avLst/>
            <a:gdLst/>
            <a:ahLst/>
            <a:rect l="l" t="t" r="r" b="b"/>
            <a:pathLst>
              <a:path w="7145" h="26">
                <a:moveTo>
                  <a:pt x="14982" y="13519"/>
                </a:moveTo>
                <a:cubicBezTo>
                  <a:pt x="15052" y="13515"/>
                  <a:pt x="15115" y="13498"/>
                  <a:pt x="15180" y="13494"/>
                </a:cubicBezTo>
                <a:cubicBezTo>
                  <a:pt x="17476" y="13339"/>
                  <a:pt x="19822" y="13494"/>
                  <a:pt x="22126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853640" y="1450800"/>
            <a:ext cx="5230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历史刘烨老师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优点：上课纪律好，有一个良好的教学环境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缺点：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、师生互动中，应注意和老师配合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、希望同学多动脑，多提问题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、有些同学上课走神，没有跟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老师思路走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寄语：这次月考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15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班给了我惊喜，希望能够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一直保持下去，学习历史并不难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相信有付出就会有回报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12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693080" y="1450800"/>
            <a:ext cx="5125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地理胡德昌老师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优点：课上同学们积极性高，与教师互动好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充分体现了学生是课堂教学的主体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为课堂增添了色彩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缺点：在教学过程中有些同学跟着大家跑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不知道自己是否真正听懂了各知识点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而且有问题的同学，没有积极的向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同学老师请教，导致成绩不理想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24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06480" y="2421000"/>
            <a:ext cx="505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希望同学们多说多做多练，形成良好的学习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氛围，让我们共同进步，共同发展，共同创造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美好明天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------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胡德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36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72280" y="1450800"/>
            <a:ext cx="498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政治许艳红老师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优点：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班纪律好，大部分同学对于老师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布置的作业认真完成。团结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不足：思维上不活跃（接受型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自学不好，预习、复习效率不高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对于练习册的练习不主动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希望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从思想上真正重视政治课的学习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24000" y="2205000"/>
            <a:ext cx="8243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.C.M.E. Explosive"/>
                <a:ea typeface="隶书"/>
              </a:rPr>
              <a:t>做个有责任感的人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ff"/>
                </a:solidFill>
                <a:latin typeface="A.C.M.E. Explosive"/>
                <a:ea typeface="隶书"/>
              </a:rPr>
              <a:t>     </a:t>
            </a:r>
            <a:r>
              <a:rPr b="1" lang="zh-CN" sz="6000" spc="-1" strike="noStrike">
                <a:solidFill>
                  <a:srgbClr val="ffcc00"/>
                </a:solidFill>
                <a:latin typeface="A.C.M.E. Explosive"/>
                <a:ea typeface="隶书"/>
              </a:rPr>
              <a:t>------</a:t>
            </a:r>
            <a:r>
              <a:rPr b="1" lang="zh-CN" sz="6000" spc="-1" strike="noStrike">
                <a:solidFill>
                  <a:srgbClr val="ffcc00"/>
                </a:solidFill>
                <a:latin typeface="A.C.M.E. Explosive"/>
                <a:ea typeface="隶书"/>
              </a:rPr>
              <a:t>赢在起跑线上</a:t>
            </a:r>
            <a:r>
              <a:rPr b="1" lang="zh-CN" sz="6600" spc="-1" strike="noStrike">
                <a:solidFill>
                  <a:srgbClr val="ccffff"/>
                </a:solidFill>
                <a:latin typeface="A.C.M.E. Explosive"/>
                <a:ea typeface="隶书"/>
              </a:rPr>
              <a:t> 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3096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0" y="5548320"/>
            <a:ext cx="1658880" cy="13096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046040" y="227664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 Black"/>
              </a:rPr>
              <a:t>和大家分享一个故事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  <p:sndAc>
      <p:stSnd>
        <p:snd r:embed="rId3" name="Yanni%20firsttouc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3096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5548320"/>
            <a:ext cx="1658880" cy="13096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967760" y="907920"/>
            <a:ext cx="5392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有三只猎狗追一只土拔鼠，土拔鼠钻进了一个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树洞。这个树洞只有一个出口，可不一会儿，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从树洞里钻出了一只白色的兔子，兔子飞快的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向前奔跑，三只猎狗围追堵截，兔子急了，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噌”的一下爬到了另一棵大树。兔子在树上，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仓惶中没有站稳，一下子掉了下来，砸晕了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正仰头看它的三只猎狗，兔子趁机逃跑了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  <p:sndAc>
      <p:stSnd>
        <p:snd r:embed="rId3" name="Yanni%20firsttouc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3096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5548320"/>
            <a:ext cx="1658880" cy="13096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965240" y="215568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Comic Sans MS"/>
              </a:rPr>
              <a:t>这个故事有问题吗？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  <p:sndAc>
      <p:stSnd>
        <p:snd r:embed="rId3" name="Yanni%20firsttouc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3096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0" y="5548320"/>
            <a:ext cx="1658880" cy="1309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871280" y="1292400"/>
            <a:ext cx="439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zh-CN" sz="5400" spc="-1" strike="noStrike">
                <a:solidFill>
                  <a:srgbClr val="ffff00"/>
                </a:solidFill>
                <a:latin typeface="Comic Sans MS"/>
              </a:rPr>
              <a:t>兔子不会爬树”！</a:t>
            </a:r>
            <a:r>
              <a:rPr b="1" lang="zh-CN" sz="5400" spc="-1" strike="noStrike">
                <a:solidFill>
                  <a:srgbClr val="ffff00"/>
                </a:solidFill>
                <a:latin typeface="Comic Sans MS"/>
              </a:rPr>
              <a:t>~</a:t>
            </a:r>
            <a:br>
              <a:rPr sz="5400"/>
            </a:br>
            <a:r>
              <a:rPr b="1" lang="zh-CN" sz="5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zh-CN" sz="5400" spc="-1" strike="noStrike">
                <a:solidFill>
                  <a:srgbClr val="ffff00"/>
                </a:solidFill>
                <a:latin typeface="Comic Sans MS"/>
              </a:rPr>
              <a:t>一只兔子怎么可能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omic Sans MS"/>
              </a:rPr>
              <a:t>同时砸晕三只猎狗？”</a:t>
            </a: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  <p:sndAc>
      <p:stSnd>
        <p:snd r:embed="rId3" name="Yanni%20firsttouc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398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179280" y="5153040"/>
            <a:ext cx="2592360" cy="1704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171960" y="24210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 Black"/>
              </a:rPr>
              <a:t>身边的榜样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508720" y="5153040"/>
            <a:ext cx="2592360" cy="17049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592360" cy="17049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6156360" y="0"/>
            <a:ext cx="2592360" cy="17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5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61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292560" cy="21654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831000" y="4500720"/>
            <a:ext cx="1278000" cy="53640"/>
          </a:xfrm>
          <a:custGeom>
            <a:avLst/>
            <a:gdLst/>
            <a:ahLst/>
            <a:rect l="l" t="t" r="r" b="b"/>
            <a:pathLst>
              <a:path w="3548" h="149">
                <a:moveTo>
                  <a:pt x="18976" y="12502"/>
                </a:moveTo>
                <a:cubicBezTo>
                  <a:pt x="19113" y="12502"/>
                  <a:pt x="19157" y="12533"/>
                  <a:pt x="19298" y="12576"/>
                </a:cubicBezTo>
                <a:cubicBezTo>
                  <a:pt x="19484" y="12632"/>
                  <a:pt x="19678" y="12626"/>
                  <a:pt x="19869" y="12626"/>
                </a:cubicBezTo>
                <a:cubicBezTo>
                  <a:pt x="20711" y="12626"/>
                  <a:pt x="21560" y="12597"/>
                  <a:pt x="22399" y="12650"/>
                </a:cubicBezTo>
                <a:cubicBezTo>
                  <a:pt x="22440" y="12653"/>
                  <a:pt x="22482" y="12648"/>
                  <a:pt x="2252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92800" y="4857840"/>
            <a:ext cx="2573280" cy="9360"/>
          </a:xfrm>
          <a:custGeom>
            <a:avLst/>
            <a:gdLst/>
            <a:ahLst/>
            <a:rect l="l" t="t" r="r" b="b"/>
            <a:pathLst>
              <a:path w="7145" h="26">
                <a:moveTo>
                  <a:pt x="14982" y="13519"/>
                </a:moveTo>
                <a:cubicBezTo>
                  <a:pt x="15052" y="13515"/>
                  <a:pt x="15115" y="13498"/>
                  <a:pt x="15180" y="13494"/>
                </a:cubicBezTo>
                <a:cubicBezTo>
                  <a:pt x="17476" y="13339"/>
                  <a:pt x="19822" y="13494"/>
                  <a:pt x="22126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71800" y="1781280"/>
            <a:ext cx="429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omic Sans MS"/>
              </a:rPr>
              <a:t>土拔鼠到哪里去了？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5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67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0" y="5035680"/>
            <a:ext cx="2771640" cy="18223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030400" y="1173240"/>
            <a:ext cx="53071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“ </a:t>
            </a:r>
            <a:r>
              <a:rPr b="1" lang="zh-CN" sz="4400" spc="-1" strike="noStrike">
                <a:solidFill>
                  <a:srgbClr val="ffff00"/>
                </a:solidFill>
                <a:latin typeface="Comic Sans MS"/>
              </a:rPr>
              <a:t>土拔鼠是猎狗追求的目标，可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Comic Sans MS"/>
              </a:rPr>
              <a:t>由于兔子的出现，猎狗改变了目标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Comic Sans MS"/>
              </a:rPr>
              <a:t>，我们的思维也不知不觉的打了差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Comic Sans MS"/>
              </a:rPr>
              <a:t>，土拔鼠竟在我们的头脑中消失了。”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barra%2045" descr=""/>
          <p:cNvPicPr/>
          <p:nvPr/>
        </p:nvPicPr>
        <p:blipFill>
          <a:blip r:embed="rId1"/>
          <a:stretch/>
        </p:blipFill>
        <p:spPr>
          <a:xfrm>
            <a:off x="71928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71" name="barra%2045" descr=""/>
          <p:cNvPicPr/>
          <p:nvPr/>
        </p:nvPicPr>
        <p:blipFill>
          <a:blip r:embed="rId2"/>
          <a:stretch/>
        </p:blipFill>
        <p:spPr>
          <a:xfrm>
            <a:off x="8820000" y="-171360"/>
            <a:ext cx="86040" cy="74880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"/>
          <a:stretch/>
        </p:blipFill>
        <p:spPr>
          <a:xfrm>
            <a:off x="6084720" y="5035680"/>
            <a:ext cx="2772000" cy="18223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883880" y="1197000"/>
            <a:ext cx="522216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在追求人生目标的过程中，我们有时会被风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迷住，有时也会被途中的细枝末节和一些毫无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意义的琐事分散精力，扰乱视线，以至中途停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顿下来，或是走上岔路，而放弃了自己原先追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求的目标。“人生的路很长很长，既有奇花异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的诱惑，又有山峦叠嶂的阻挡，你们一定</a:t>
            </a: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要常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常提醒自己――――土拔鼠到哪里去了？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不要忘记自己最初的追求目标。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你上高中的目标是？？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79280" y="404640"/>
            <a:ext cx="87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字典里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对于责任和责任感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它给予了这样的解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责任—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1)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分内该做的事情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2)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没有做好分内的事而应当承担的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过失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此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有两个方面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方面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行楷"/>
                <a:ea typeface="华文行楷"/>
              </a:rPr>
              <a:t>要去做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另一方面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行楷"/>
                <a:ea typeface="华文行楷"/>
              </a:rPr>
              <a:t>要做好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68360" y="549360"/>
            <a:ext cx="82072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责任感—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责任心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自觉做好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分内事情的心理状态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也就是说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所有做的动机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做的行为都是由你这个主体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华文行楷"/>
                <a:ea typeface="华文行楷"/>
              </a:rPr>
              <a:t>由心而发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的去施行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没有人可以强迫你去做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.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有心中有责任感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才有可能达到预期的效果甚至超过预期的估计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获得更好的结果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50920" y="260280"/>
            <a:ext cx="84247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我看来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责任感不仅表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对自己的学业上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要兢兢业业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丝不苟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表现在对校园生活和班级生活方面的态度上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可能大家还觉得自己是个小孩子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但要告诉大家的是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很可惜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老师和学校已经开始用一个小大人的标准来要求大家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60480"/>
            <a:ext cx="88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或者在心里已经认为自己是一个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大人却没法表现在行为上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所以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过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去的一个月时间里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觉得大家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得还很不够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.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从作业本上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看到了很多潦草的笔迹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在室内外值日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看见很多埋头苦干的身影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;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但我也看到了来晚的情形，还有没看到的人。。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在自习课上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听见许许多多的嘈杂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看到了左顾右盼、无所事事、看小说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可读书需要静下心来，读好书更需要静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50920" y="260280"/>
            <a:ext cx="84978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列队集队时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看到了懒散的脚步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做操时我看到了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敷衍的场景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课上我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看到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了趴在桌上睡觉的场面，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听到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老师说某某一天到晚老睡觉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等等等等……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每当这个时候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总是想问你们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们有没有想过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我们是一个班集体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自从踏入一中的校门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50920" y="333360"/>
            <a:ext cx="8642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就是一家人了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等待我们的不仅是甘甜和硕果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更是苦涩和失意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如果不能 “心往一处想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劲往一处使”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这漫长的三年度过得将会孤单和艰辛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反之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如果我们个个都以班为家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承担起各自的一份责任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敢保证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: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高中的三年将会是你最难忘的时光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收获的不仅是名牌高校的录取通知书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更是一辈子的朋友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永久的珍藏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------</a:t>
            </a: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做最好的自己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50920" y="260280"/>
            <a:ext cx="86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当然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看在眼里的不仅是大家的不足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也有很多同学用他们的行动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用他们的心在体现着责任感的意义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这里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记下了他们的名字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贾瑞庶、肖安宁、贾婷玉、孟宸鹃、杨祎萌、王希、王鑫、刘倩儒、马琳、李楠、朱雨婷、邵博闻、刘欢乐、张超、吴昊天、车瑞涛、赵明亮、吐合提、艾力等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曾经想过在班级设立一个奖项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叫 “ 感动高一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(15)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班奖”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用来奖励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5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405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0" y="4940280"/>
            <a:ext cx="2916360" cy="1917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182760" y="1163520"/>
            <a:ext cx="23752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优秀生代表：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刘欢乐、吐合提、肖安宁、贾婷玉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6084720" y="836640"/>
            <a:ext cx="2411640" cy="15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79280" y="404640"/>
            <a:ext cx="8964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那些无怨无悔为班级为大家同时又在学业上突出的学生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后来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打消了这个念头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因为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在我的心中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有一个梦想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我希望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我们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15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班的每一个人都是最感动奖的获得人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每一个人都能是在无私的奉献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不仅将你们的青春献给学业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更将它献给我们的班级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从而使得每一个人都能从中受益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而这所有得一切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都必须依靠大家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在等你们帮我实现这个梦想。。。</a:t>
            </a: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------</a:t>
            </a: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你做我看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83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0" y="5224320"/>
            <a:ext cx="2484360" cy="16336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2848680" y="1936800"/>
            <a:ext cx="31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微软总裁比尔．盖茨给青年一代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下列</a:t>
            </a: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11</a:t>
            </a: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点忠告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87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3292560" cy="21654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2738160" y="1916280"/>
            <a:ext cx="3899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忠告一 ：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     生活是不公平的，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你要去适应。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91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3292560" cy="21654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3348000" y="13413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忠告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这个世界不会在意你的自尊，而是要求你在自我感觉良好之前先有所成就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595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166760" y="34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3073320" cy="2305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539640" y="1341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忠告三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2852640"/>
            <a:ext cx="860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刚走出学校不可能一个月挣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万美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元，更不会成为公司的副总裁，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拥有一部汽车，直到你挣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到手的那一天。 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601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166760" y="34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3181320" cy="23857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84360" y="191628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92600" y="1700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忠告四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5280" y="2800440"/>
            <a:ext cx="684072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如果你认为学校里的老师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太严厉，等你有了老板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再回头想一想。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3096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0" y="5548320"/>
            <a:ext cx="1658880" cy="130968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524240" y="981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忠告五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98440" y="213372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卖汉堡不会有损你的尊严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你的祖父母对卖汉堡有不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理解，将它称为「机遇」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36120" y="4724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在班级里尝试做各种力所能及的事情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  <p:sndAc>
      <p:stSnd>
        <p:snd r:embed="rId3" name="Yanni%20firsttouc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613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166760" y="34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292720" y="907920"/>
            <a:ext cx="3252960" cy="24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684360" y="191628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63880" y="1413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忠告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10120" y="2708280"/>
            <a:ext cx="386892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如果你陷入困境，不是你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父母的过错，</a:t>
            </a: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不要将自己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应承担的责任转嫁他人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而要从中吸取教训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620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166760" y="34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4360" y="191628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-252360" y="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829320" y="1125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忠告七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920960" y="1989000"/>
            <a:ext cx="47527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在你出生之前，你的父母并不像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在这样乏味。是因为这些年来一直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在为你洗衣服、付账单，他们才变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成今天这个样子。所以，在对父母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喋喋不休之前，先去打扫自己的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屋子吧。</a:t>
            </a: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627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166760" y="34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4360" y="191628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5580000" y="4437000"/>
            <a:ext cx="2700360" cy="202572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169880" y="1268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八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41480" y="1844640"/>
            <a:ext cx="505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你的学校也许已经没有优等生和劣等生之分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但生活却并不如此。有些学校已经没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「不及格」的概念，学校会不断给你机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让你进步，但现实生活完全不是这样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410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392800" y="4857840"/>
            <a:ext cx="2573280" cy="9360"/>
          </a:xfrm>
          <a:custGeom>
            <a:avLst/>
            <a:gdLst/>
            <a:ahLst/>
            <a:rect l="l" t="t" r="r" b="b"/>
            <a:pathLst>
              <a:path w="7145" h="26">
                <a:moveTo>
                  <a:pt x="14982" y="13519"/>
                </a:moveTo>
                <a:cubicBezTo>
                  <a:pt x="15052" y="13515"/>
                  <a:pt x="15115" y="13498"/>
                  <a:pt x="15180" y="13494"/>
                </a:cubicBezTo>
                <a:cubicBezTo>
                  <a:pt x="17476" y="13339"/>
                  <a:pt x="19822" y="13494"/>
                  <a:pt x="22126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09120" y="1916280"/>
            <a:ext cx="488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单科状元：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语文：肖安宁  化学：赵明亮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数学：贾婷玉  地理：王希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英语：孟宸鹃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政治：王佳伟   历史：王鑫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 Black"/>
              </a:rPr>
              <a:t>物理：杨小雪   艾力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634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292560" cy="21654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6831000" y="4500720"/>
            <a:ext cx="1278000" cy="53640"/>
          </a:xfrm>
          <a:custGeom>
            <a:avLst/>
            <a:gdLst/>
            <a:ahLst/>
            <a:rect l="l" t="t" r="r" b="b"/>
            <a:pathLst>
              <a:path w="3548" h="149">
                <a:moveTo>
                  <a:pt x="18976" y="12502"/>
                </a:moveTo>
                <a:cubicBezTo>
                  <a:pt x="19113" y="12502"/>
                  <a:pt x="19157" y="12533"/>
                  <a:pt x="19298" y="12576"/>
                </a:cubicBezTo>
                <a:cubicBezTo>
                  <a:pt x="19484" y="12632"/>
                  <a:pt x="19678" y="12626"/>
                  <a:pt x="19869" y="12626"/>
                </a:cubicBezTo>
                <a:cubicBezTo>
                  <a:pt x="20711" y="12626"/>
                  <a:pt x="21560" y="12597"/>
                  <a:pt x="22399" y="12650"/>
                </a:cubicBezTo>
                <a:cubicBezTo>
                  <a:pt x="22440" y="12653"/>
                  <a:pt x="22482" y="12648"/>
                  <a:pt x="2252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392800" y="4857840"/>
            <a:ext cx="2573280" cy="9360"/>
          </a:xfrm>
          <a:custGeom>
            <a:avLst/>
            <a:gdLst/>
            <a:ahLst/>
            <a:rect l="l" t="t" r="r" b="b"/>
            <a:pathLst>
              <a:path w="7145" h="26">
                <a:moveTo>
                  <a:pt x="14982" y="13519"/>
                </a:moveTo>
                <a:cubicBezTo>
                  <a:pt x="15052" y="13515"/>
                  <a:pt x="15115" y="13498"/>
                  <a:pt x="15180" y="13494"/>
                </a:cubicBezTo>
                <a:cubicBezTo>
                  <a:pt x="17476" y="13339"/>
                  <a:pt x="19822" y="13494"/>
                  <a:pt x="22126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7752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869840" y="198900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走出学校后的生活不像在学校有学期之分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也没有暑假。没有几位老板乐于帮你发现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自我，你必须靠自己去完成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36320" y="378936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发现自我的时间在校园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塑造自我的时间也是在校园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642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292560" cy="21654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6831000" y="4500720"/>
            <a:ext cx="1278000" cy="53640"/>
          </a:xfrm>
          <a:custGeom>
            <a:avLst/>
            <a:gdLst/>
            <a:ahLst/>
            <a:rect l="l" t="t" r="r" b="b"/>
            <a:pathLst>
              <a:path w="3548" h="149">
                <a:moveTo>
                  <a:pt x="18976" y="12502"/>
                </a:moveTo>
                <a:cubicBezTo>
                  <a:pt x="19113" y="12502"/>
                  <a:pt x="19157" y="12533"/>
                  <a:pt x="19298" y="12576"/>
                </a:cubicBezTo>
                <a:cubicBezTo>
                  <a:pt x="19484" y="12632"/>
                  <a:pt x="19678" y="12626"/>
                  <a:pt x="19869" y="12626"/>
                </a:cubicBezTo>
                <a:cubicBezTo>
                  <a:pt x="20711" y="12626"/>
                  <a:pt x="21560" y="12597"/>
                  <a:pt x="22399" y="12650"/>
                </a:cubicBezTo>
                <a:cubicBezTo>
                  <a:pt x="22440" y="12653"/>
                  <a:pt x="22482" y="12648"/>
                  <a:pt x="2252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392800" y="4857840"/>
            <a:ext cx="2573280" cy="9360"/>
          </a:xfrm>
          <a:custGeom>
            <a:avLst/>
            <a:gdLst/>
            <a:ahLst/>
            <a:rect l="l" t="t" r="r" b="b"/>
            <a:pathLst>
              <a:path w="7145" h="26">
                <a:moveTo>
                  <a:pt x="14982" y="13519"/>
                </a:moveTo>
                <a:cubicBezTo>
                  <a:pt x="15052" y="13515"/>
                  <a:pt x="15115" y="13498"/>
                  <a:pt x="15180" y="13494"/>
                </a:cubicBezTo>
                <a:cubicBezTo>
                  <a:pt x="17476" y="13339"/>
                  <a:pt x="19822" y="13494"/>
                  <a:pt x="22126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8552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十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13640" y="1773360"/>
            <a:ext cx="43261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许多电视中的场景绝不是真实生活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在现实生活中，人们必须努力做自己的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工作，而不是像电视中那样天天泡在咖啡馆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649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292560" cy="21654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31000" y="4500720"/>
            <a:ext cx="1278000" cy="53640"/>
          </a:xfrm>
          <a:custGeom>
            <a:avLst/>
            <a:gdLst/>
            <a:ahLst/>
            <a:rect l="l" t="t" r="r" b="b"/>
            <a:pathLst>
              <a:path w="3548" h="149">
                <a:moveTo>
                  <a:pt x="18976" y="12502"/>
                </a:moveTo>
                <a:cubicBezTo>
                  <a:pt x="19113" y="12502"/>
                  <a:pt x="19157" y="12533"/>
                  <a:pt x="19298" y="12576"/>
                </a:cubicBezTo>
                <a:cubicBezTo>
                  <a:pt x="19484" y="12632"/>
                  <a:pt x="19678" y="12626"/>
                  <a:pt x="19869" y="12626"/>
                </a:cubicBezTo>
                <a:cubicBezTo>
                  <a:pt x="20711" y="12626"/>
                  <a:pt x="21560" y="12597"/>
                  <a:pt x="22399" y="12650"/>
                </a:cubicBezTo>
                <a:cubicBezTo>
                  <a:pt x="22440" y="12653"/>
                  <a:pt x="22482" y="12648"/>
                  <a:pt x="2252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2800" y="4857840"/>
            <a:ext cx="2573280" cy="9360"/>
          </a:xfrm>
          <a:custGeom>
            <a:avLst/>
            <a:gdLst/>
            <a:ahLst/>
            <a:rect l="l" t="t" r="r" b="b"/>
            <a:pathLst>
              <a:path w="7145" h="26">
                <a:moveTo>
                  <a:pt x="14982" y="13519"/>
                </a:moveTo>
                <a:cubicBezTo>
                  <a:pt x="15052" y="13515"/>
                  <a:pt x="15115" y="13498"/>
                  <a:pt x="15180" y="13494"/>
                </a:cubicBezTo>
                <a:cubicBezTo>
                  <a:pt x="17476" y="13339"/>
                  <a:pt x="19822" y="13494"/>
                  <a:pt x="22126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11600" y="1073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忠告十一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09960" y="1720800"/>
            <a:ext cx="637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善待你所厌恶的人，因为有一天说不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你会为这样的人工作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barra%2045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656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2340000" y="115920"/>
            <a:ext cx="865080" cy="5684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831000" y="4500720"/>
            <a:ext cx="1278000" cy="53640"/>
          </a:xfrm>
          <a:custGeom>
            <a:avLst/>
            <a:gdLst/>
            <a:ahLst/>
            <a:rect l="l" t="t" r="r" b="b"/>
            <a:pathLst>
              <a:path w="3548" h="149">
                <a:moveTo>
                  <a:pt x="18976" y="12502"/>
                </a:moveTo>
                <a:cubicBezTo>
                  <a:pt x="19113" y="12502"/>
                  <a:pt x="19157" y="12533"/>
                  <a:pt x="19298" y="12576"/>
                </a:cubicBezTo>
                <a:cubicBezTo>
                  <a:pt x="19484" y="12632"/>
                  <a:pt x="19678" y="12626"/>
                  <a:pt x="19869" y="12626"/>
                </a:cubicBezTo>
                <a:cubicBezTo>
                  <a:pt x="20711" y="12626"/>
                  <a:pt x="21560" y="12597"/>
                  <a:pt x="22399" y="12650"/>
                </a:cubicBezTo>
                <a:cubicBezTo>
                  <a:pt x="22440" y="12653"/>
                  <a:pt x="22482" y="12648"/>
                  <a:pt x="2252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392800" y="4857840"/>
            <a:ext cx="2573280" cy="9360"/>
          </a:xfrm>
          <a:custGeom>
            <a:avLst/>
            <a:gdLst/>
            <a:ahLst/>
            <a:rect l="l" t="t" r="r" b="b"/>
            <a:pathLst>
              <a:path w="7145" h="26">
                <a:moveTo>
                  <a:pt x="14982" y="13519"/>
                </a:moveTo>
                <a:cubicBezTo>
                  <a:pt x="15052" y="13515"/>
                  <a:pt x="15115" y="13498"/>
                  <a:pt x="15180" y="13494"/>
                </a:cubicBezTo>
                <a:cubicBezTo>
                  <a:pt x="17476" y="13339"/>
                  <a:pt x="19822" y="13494"/>
                  <a:pt x="22126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684360" y="0"/>
            <a:ext cx="865080" cy="56844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5"/>
          <a:stretch/>
        </p:blipFill>
        <p:spPr>
          <a:xfrm>
            <a:off x="4140360" y="189000"/>
            <a:ext cx="865080" cy="56808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5940360" y="0"/>
            <a:ext cx="865080" cy="56844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0" y="6289560"/>
            <a:ext cx="865080" cy="56844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1656000" y="692280"/>
            <a:ext cx="43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比尔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盖茨给中国学生的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11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条忠告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55640" y="1341360"/>
            <a:ext cx="8137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一、给自己一个梦想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二、找准目标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三、选择积极的心态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四、秉持自己的个性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五、添几分冒险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六、学会创新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七、主动去敲机会的门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八、别不把学习当回事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九、管理好自己的时间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十、保持充沛的精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忠告十一、不达目的不罢休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24000" y="189000"/>
            <a:ext cx="8820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QUESTION  1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你有责任感吗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QUESTION  2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你的责任感体现在哪里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QUESTION  3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我做得还不够好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例如？？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我应该 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/ 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可以怎么做得更好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? 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？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422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177720" y="2774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 Black"/>
              </a:rPr>
              <a:t>老师寄语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434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884240" y="1379520"/>
            <a:ext cx="4889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数学韩晶老师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班优点：是一个热情、善良、团结进取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的集体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不足：有部分学生在学习上存在如下问题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、还没有养成良好的学习习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、没有目标，学习不够踏实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希望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生活的充实、学习的快乐、人品好、学品好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成绩好。希望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班的每一个成员都能一直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走在前进的路上，最终到达胜利的彼岸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446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627200" y="1413000"/>
            <a:ext cx="505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语文胡晓明老师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很高兴成为你们的语文老师副班主任。在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你们的接触中，我深深地感受到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班是一个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由一群热情、善良、可爱的孩子们组成的集体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这让我觉得很幸福；给你们上课，即使再阴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的天，我也觉得内心一片明媚。我喜欢你们的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真诚，你们的活力，这是你们最大的优点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缺点：自习课坐不住，东张西望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踏不下心来， 学习效率不高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458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950840" y="1268280"/>
            <a:ext cx="4659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物理包俊老师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优点：学生们真诚可爱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不足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、需要记忆的东西不背；公式概念不熟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、基本作业做完了，讲完了还不会做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落实情况差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、学习主动性差。需要自己先预习，自己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需要把练习册中的题</a:t>
            </a: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真正的搞明白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Black"/>
              </a:rPr>
              <a:t>建议：按要求完成作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barra%20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424720" cy="96840"/>
          </a:xfrm>
          <a:prstGeom prst="rect">
            <a:avLst/>
          </a:prstGeom>
          <a:ln w="0">
            <a:noFill/>
          </a:ln>
        </p:spPr>
      </p:pic>
      <p:pic>
        <p:nvPicPr>
          <p:cNvPr id="470" name="barra%2045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85680" cy="7488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7846920" y="148428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831000" y="4500720"/>
            <a:ext cx="1278000" cy="53640"/>
          </a:xfrm>
          <a:custGeom>
            <a:avLst/>
            <a:gdLst/>
            <a:ahLst/>
            <a:rect l="l" t="t" r="r" b="b"/>
            <a:pathLst>
              <a:path w="3548" h="149">
                <a:moveTo>
                  <a:pt x="18976" y="12502"/>
                </a:moveTo>
                <a:cubicBezTo>
                  <a:pt x="19113" y="12502"/>
                  <a:pt x="19157" y="12533"/>
                  <a:pt x="19298" y="12576"/>
                </a:cubicBezTo>
                <a:cubicBezTo>
                  <a:pt x="19484" y="12632"/>
                  <a:pt x="19678" y="12626"/>
                  <a:pt x="19869" y="12626"/>
                </a:cubicBezTo>
                <a:cubicBezTo>
                  <a:pt x="20711" y="12626"/>
                  <a:pt x="21560" y="12597"/>
                  <a:pt x="22399" y="12650"/>
                </a:cubicBezTo>
                <a:cubicBezTo>
                  <a:pt x="22440" y="12653"/>
                  <a:pt x="22482" y="12648"/>
                  <a:pt x="2252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92800" y="4857840"/>
            <a:ext cx="2573280" cy="9360"/>
          </a:xfrm>
          <a:custGeom>
            <a:avLst/>
            <a:gdLst/>
            <a:ahLst/>
            <a:rect l="l" t="t" r="r" b="b"/>
            <a:pathLst>
              <a:path w="7145" h="26">
                <a:moveTo>
                  <a:pt x="14982" y="13519"/>
                </a:moveTo>
                <a:cubicBezTo>
                  <a:pt x="15052" y="13515"/>
                  <a:pt x="15115" y="13498"/>
                  <a:pt x="15180" y="13494"/>
                </a:cubicBezTo>
                <a:cubicBezTo>
                  <a:pt x="17476" y="13339"/>
                  <a:pt x="19822" y="13494"/>
                  <a:pt x="22126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1916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5"/>
          <a:stretch/>
        </p:blipFill>
        <p:spPr>
          <a:xfrm>
            <a:off x="521964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6"/>
          <a:stretch/>
        </p:blipFill>
        <p:spPr>
          <a:xfrm>
            <a:off x="3635280" y="26028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7"/>
          <a:stretch/>
        </p:blipFill>
        <p:spPr>
          <a:xfrm>
            <a:off x="2050920" y="33336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250920" y="476280"/>
            <a:ext cx="1296720" cy="8524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9"/>
          <a:stretch/>
        </p:blipFill>
        <p:spPr>
          <a:xfrm>
            <a:off x="7846920" y="3357720"/>
            <a:ext cx="1297080" cy="8524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0"/>
          <a:stretch/>
        </p:blipFill>
        <p:spPr>
          <a:xfrm>
            <a:off x="7846920" y="5373720"/>
            <a:ext cx="1297080" cy="852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486080" y="1413000"/>
            <a:ext cx="5593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化学许淑桂老师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优点：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班同学有集体意识，组织观念强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踏实肯干、有责任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缺点：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、上课气氛死板，主动回答问题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或提问少，师生互动不充分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、一些学生在作业中遇到困难时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不及时解决，造成不能保质量完成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、欢迎同学用教学相长的态度对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待我，能主动和我交流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6:56:5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10:55Z</dcterms:modified>
  <cp:revision>39</cp:revision>
  <dc:subject>主题班会课件(分28大类): http://shop62905894.taobao.com</dc:subject>
  <dc:title>主题班会课件(分28大类): http://shop62905894.taobao.com</dc:title>
</cp:coreProperties>
</file>