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3639-4773-48E3-B2BA-49D28F27F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AE1C-5592-433E-85E4-C0C42CB74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826A-1F89-4EEF-8764-6F389009F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60EF-8769-40E9-92A8-94C81231F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D942-2948-4446-B9CD-578771E7B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2A02-C29B-4AF7-A853-899D4ECC3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E200-1CB6-4E5B-9AEB-9FD224330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F30B-2660-4089-BF2F-E4732AEE8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3D17-41D5-4DE1-97A6-A0D6F3AA0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E76F-C235-42A6-BC78-762AA3FE7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23B7-7C8D-4E9B-BD66-54B3EF6BF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E899-B581-4DD0-9716-974E5FE91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8973F-ECEB-43DF-9733-1FD75864CD3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23040" y="0"/>
            <a:ext cx="789840" cy="6885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新学期新开始  ●  主题班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411280" y="836640"/>
            <a:ext cx="568980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汗水浇灌希望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奋斗决定命运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47640" y="2276640"/>
            <a:ext cx="849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被击倒并非最糟糕的失败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放弃雄心 壮志才是真正的失败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663480"/>
            <a:ext cx="9144000" cy="61945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148840" y="188280"/>
            <a:ext cx="4752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春寒陡峭中将有我们执着的追求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夏雨磅礴中将有我们跋涉的身影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秋风瑟瑟中将有我们勃发的激情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冬雪飘飞中将有我们坚定的足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548280"/>
            <a:ext cx="86184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我们从寒风酷暑中走来，在书山题海中拼搏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一路酸甜苦辣，得失兼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失去的是天天在父母面前撒娇的天伦之乐和被学校制度约束的自由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而得到的却是自己今后学习、生活、工作中必不可少的知识、技能、技巧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想想父母的艰辛、愿望，想想自己未来的美好前程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在这最后的冲刺中我们还有什么理由气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796000" y="3860640"/>
            <a:ext cx="2938320" cy="26672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826920" y="3213000"/>
            <a:ext cx="41767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结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敢上九天揽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必要六月折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971640" y="765000"/>
            <a:ext cx="679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Comic Sans MS"/>
              </a:rPr>
              <a:t>今天，很多人会带着新鲜灵感醒来。为什么不是你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332000" y="3213000"/>
            <a:ext cx="653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Comic Sans MS"/>
              </a:rPr>
              <a:t>今天，很多人会欣赏到围绕在他们身边的美丽。为什么不是你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176560" y="1201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55640" y="33336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omic Sans MS"/>
              </a:rPr>
              <a:t>今天，很多人会选择远离昨日的阴霾，抓住今日灿烂的阳光。为什么不是你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 rot="10800000">
            <a:off x="539280" y="3141720"/>
            <a:ext cx="749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omic Sans MS"/>
              </a:rPr>
              <a:t>今天，很多人会因为一点点的欢乐而对生活充满了感恩。为什么不是你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11280" y="765000"/>
            <a:ext cx="636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omic Sans MS"/>
              </a:rPr>
              <a:t>今天，很多人会凭借自信一扫烦扰。为什么不是你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258920" y="2565360"/>
            <a:ext cx="572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omic Sans MS"/>
              </a:rPr>
              <a:t>今天，多人会凭借自己的力量，使自己的潜力进尽可能得到挖掘。为什么不是你？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042920" y="549360"/>
            <a:ext cx="57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omic Sans MS"/>
              </a:rPr>
              <a:t>今天，很多人会从自己坏习惯的禁锢中解脱出来。为什么不是你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26920" y="292428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omic Sans MS"/>
              </a:rPr>
              <a:t>今天，很多人会克服生活条件的限制，经营着自己的快乐。为什么不是你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0" y="-14400"/>
            <a:ext cx="8675640" cy="68724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366640" y="184464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Arial"/>
              </a:rPr>
              <a:t>环境的改变，学习的艰难，世道的艰辛，人情的冷暖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Arial"/>
              </a:rPr>
              <a:t>人们的心灵和意志就会慢慢地发生改变，这样的改变将会导致人与人之间的差距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Arial"/>
              </a:rPr>
              <a:t>于是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Arial"/>
              </a:rPr>
              <a:t>有些人很成功，有些人很失败；有些人很出色，有些人很平庸；有些人很幸福，有些人很痛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Arial"/>
              </a:rPr>
              <a:t>你想在这个激烈竞争的社会成为一个很成功、出色、幸福的人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Arial"/>
              </a:rPr>
              <a:t>关键在于你有没有一颗永远不冷不死的心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Arial"/>
              </a:rPr>
              <a:t>有没有一股不很管是主观因素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Arial"/>
              </a:rPr>
              <a:t>是客观因素都打不垮的意志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5400" spc="-1" strike="noStrike">
                <a:solidFill>
                  <a:srgbClr val="00ff00"/>
                </a:solidFill>
                <a:latin typeface="Arial"/>
              </a:rPr>
              <a:t>  </a:t>
            </a:r>
            <a:r>
              <a:rPr b="1" lang="zh-CN" sz="5400" spc="-1" strike="noStrike">
                <a:solidFill>
                  <a:srgbClr val="00ff00"/>
                </a:solidFill>
                <a:latin typeface="Arial"/>
              </a:rPr>
              <a:t>所以信心最重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00160" y="403560"/>
            <a:ext cx="54295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最后是恒心，一时的热情谁都有过，可坚持到底并不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人人都能做到的。人世间的事难就难在持之以恒，成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与失败往往就是一步之遥，如果放弃就是失败，再坚持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去，也许会迎来永恒的成功。大发明家爱迪生经过多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次的尝试，终于发明了电灯。据记者报道：“爱迪生是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失败九百九十九次之后才获得成功的。”爱迪生看了报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很生气，要求他立刻改过来，爱迪生说：“我不是失败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九百九十九次，而是找到了九百九十九次失败的原因。”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百九十九次，这就是恒心。正是他具有了这种恒心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因中途的任何一次失败而放弃，坚持到底，失败也变成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成功。古人说：“失败乃成功之母”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其道理就在于此。失败并不可怕，只有失败才能酝酿成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朋友们，坚持把！坚持就是胜利，坚持就是成功！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830600" y="1409400"/>
            <a:ext cx="5667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这些年来，在你最需要帮助的时候，是谁向你伸出援助之手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茫茫的人海中，是谁是哪几个人最关心你最疼爱你？你出门在外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是谁总是牵挂着你惦念着你？是谁总是盼着你回家等着你吃饭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你生病的时候是谁最紧张最着急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你最高兴的时候是谁比你更高兴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你最痛苦的时候又是谁比你更痛苦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你最失落无助的时候，是谁来安慰你鼓励你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你最孤独寂寞的时候又是谁来陪伴你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是谁对你的生命影响最大？在你的心目中谁占的位置最多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55640" y="1844640"/>
            <a:ext cx="7704000" cy="2860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距</a:t>
            </a:r>
            <a:r>
              <a:rPr b="1" lang="en-US" sz="7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010</a:t>
            </a:r>
            <a:r>
              <a:rPr b="1" lang="zh-CN" sz="7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年江苏高考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仅有   天</a:t>
            </a:r>
            <a:r>
              <a:rPr b="1" lang="en-US" sz="7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78200" y="5300640"/>
            <a:ext cx="540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此时不搏更待何时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211640" y="3789360"/>
            <a:ext cx="1152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100</a:t>
            </a:r>
            <a:endParaRPr b="1" lang="en-US" sz="18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3600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楷体_GB2312"/>
              </a:rPr>
              <a:t>温馨提醒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036240" y="1914840"/>
            <a:ext cx="2963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们会用一百天诠释“挑战极限”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们会用一百天刻下“青春无悔”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187280" y="2492280"/>
            <a:ext cx="7345440" cy="1152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楷体_GB2312"/>
              </a:rPr>
              <a:t>高三上期末联考分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250920" y="1773360"/>
          <a:ext cx="8496360" cy="1245960"/>
        </p:xfrm>
        <a:graphic>
          <a:graphicData uri="http://schemas.openxmlformats.org/drawingml/2006/table">
            <a:tbl>
              <a:tblPr/>
              <a:tblGrid>
                <a:gridCol w="744480"/>
                <a:gridCol w="743040"/>
                <a:gridCol w="744480"/>
                <a:gridCol w="744480"/>
                <a:gridCol w="743040"/>
                <a:gridCol w="744480"/>
                <a:gridCol w="744480"/>
                <a:gridCol w="743040"/>
                <a:gridCol w="744480"/>
                <a:gridCol w="1055880"/>
                <a:gridCol w="744480"/>
              </a:tblGrid>
              <a:tr h="62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姓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总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总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语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语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数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数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英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英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历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地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高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900000" y="0"/>
            <a:ext cx="6120000" cy="1197000"/>
          </a:xfrm>
          <a:custGeom>
            <a:avLst/>
            <a:gdLst>
              <a:gd name="textAreaLeft" fmla="*/ 1530000 w 6120000"/>
              <a:gd name="textAreaRight" fmla="*/ 4590000 w 6120000"/>
              <a:gd name="textAreaTop" fmla="*/ 0 h 1197000"/>
              <a:gd name="textAreaBottom" fmla="*/ 1047600 h 119700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916360" y="18900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班级状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2411280" y="5850000"/>
            <a:ext cx="4176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百尺竿头，更进一步</a:t>
            </a:r>
            <a:r>
              <a:rPr b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!</a:t>
            </a:r>
            <a:endParaRPr b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52" name=""/>
          <p:cNvSpPr/>
          <p:nvPr/>
        </p:nvSpPr>
        <p:spPr>
          <a:xfrm>
            <a:off x="1258920" y="0"/>
            <a:ext cx="6119640" cy="1197000"/>
          </a:xfrm>
          <a:custGeom>
            <a:avLst/>
            <a:gdLst>
              <a:gd name="textAreaLeft" fmla="*/ 1530000 w 6119640"/>
              <a:gd name="textAreaRight" fmla="*/ 4590000 w 6119640"/>
              <a:gd name="textAreaTop" fmla="*/ 0 h 1197000"/>
              <a:gd name="textAreaBottom" fmla="*/ 1047600 h 119700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987640" y="0"/>
            <a:ext cx="2521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光荣榜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0" y="1268280"/>
          <a:ext cx="9144000" cy="4537080"/>
        </p:xfrm>
        <a:graphic>
          <a:graphicData uri="http://schemas.openxmlformats.org/drawingml/2006/table">
            <a:tbl>
              <a:tblPr/>
              <a:tblGrid>
                <a:gridCol w="927000"/>
                <a:gridCol w="787680"/>
                <a:gridCol w="788760"/>
                <a:gridCol w="789120"/>
                <a:gridCol w="788760"/>
                <a:gridCol w="789120"/>
                <a:gridCol w="789120"/>
                <a:gridCol w="788760"/>
                <a:gridCol w="787680"/>
                <a:gridCol w="1118880"/>
                <a:gridCol w="789120"/>
              </a:tblGrid>
              <a:tr h="54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姓名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总分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总次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语文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语次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数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数次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英语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英次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历史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地理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朱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4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陈永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4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李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4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王晶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3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张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3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范如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3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王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3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2411280" y="5850000"/>
            <a:ext cx="4176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百尺竿头，更进一步</a:t>
            </a:r>
            <a:r>
              <a:rPr b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!</a:t>
            </a:r>
            <a:endParaRPr b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56" name=""/>
          <p:cNvSpPr/>
          <p:nvPr/>
        </p:nvSpPr>
        <p:spPr>
          <a:xfrm>
            <a:off x="1258920" y="0"/>
            <a:ext cx="6119640" cy="1197000"/>
          </a:xfrm>
          <a:custGeom>
            <a:avLst/>
            <a:gdLst>
              <a:gd name="textAreaLeft" fmla="*/ 1530000 w 6119640"/>
              <a:gd name="textAreaRight" fmla="*/ 4590000 w 6119640"/>
              <a:gd name="textAreaTop" fmla="*/ 0 h 1197000"/>
              <a:gd name="textAreaBottom" fmla="*/ 1047600 h 119700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987640" y="0"/>
            <a:ext cx="2521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光荣榜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0" y="1341360"/>
          <a:ext cx="8964720" cy="4464000"/>
        </p:xfrm>
        <a:graphic>
          <a:graphicData uri="http://schemas.openxmlformats.org/drawingml/2006/table">
            <a:tbl>
              <a:tblPr/>
              <a:tblGrid>
                <a:gridCol w="907920"/>
                <a:gridCol w="773280"/>
                <a:gridCol w="772920"/>
                <a:gridCol w="774720"/>
                <a:gridCol w="771840"/>
                <a:gridCol w="774360"/>
                <a:gridCol w="773280"/>
                <a:gridCol w="773280"/>
                <a:gridCol w="772920"/>
                <a:gridCol w="1096920"/>
                <a:gridCol w="773280"/>
              </a:tblGrid>
              <a:tr h="71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姓名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总分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总次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语文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语次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数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数次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英语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英次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历史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地理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卢启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3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张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3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郭婷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2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张云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2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房长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2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539640" y="1557360"/>
          <a:ext cx="8002440" cy="4667400"/>
        </p:xfrm>
        <a:graphic>
          <a:graphicData uri="http://schemas.openxmlformats.org/drawingml/2006/table">
            <a:tbl>
              <a:tblPr/>
              <a:tblGrid>
                <a:gridCol w="811080"/>
                <a:gridCol w="690840"/>
                <a:gridCol w="688680"/>
                <a:gridCol w="690840"/>
                <a:gridCol w="690480"/>
                <a:gridCol w="690480"/>
                <a:gridCol w="690480"/>
                <a:gridCol w="690840"/>
                <a:gridCol w="690480"/>
                <a:gridCol w="977760"/>
                <a:gridCol w="690480"/>
              </a:tblGrid>
              <a:tr h="49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姓名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总分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总次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语文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语次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数学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数次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英语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英次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历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地理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郭诗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2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居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2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陈美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陶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2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郑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2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黎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2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徐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2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葛宝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2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1258920" y="0"/>
            <a:ext cx="6119640" cy="1197000"/>
          </a:xfrm>
          <a:custGeom>
            <a:avLst/>
            <a:gdLst>
              <a:gd name="textAreaLeft" fmla="*/ 1530000 w 6119640"/>
              <a:gd name="textAreaRight" fmla="*/ 4590000 w 6119640"/>
              <a:gd name="textAreaTop" fmla="*/ 0 h 1197000"/>
              <a:gd name="textAreaBottom" fmla="*/ 1047600 h 119700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987640" y="0"/>
            <a:ext cx="2521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光荣榜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-312840"/>
            <a:ext cx="6953400" cy="71708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7378920" y="-749160"/>
            <a:ext cx="1765080" cy="54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高考必</a:t>
            </a:r>
            <a:r>
              <a:rPr b="1" lang="zh-CN" sz="7200" spc="-1" strike="noStrike">
                <a:solidFill>
                  <a:srgbClr val="000000"/>
                </a:solidFill>
                <a:latin typeface="Times New Roman"/>
              </a:rPr>
              <a:t>胜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020000" y="3776760"/>
            <a:ext cx="21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面对强大的对手，明知不敌也要亮剑，即使倒下，也要成为一座山。。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987800" y="981000"/>
            <a:ext cx="4156200" cy="45817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080800" y="-360"/>
            <a:ext cx="4313880" cy="8251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树雄心 立壮志 勇攀高峰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26920" y="1340280"/>
            <a:ext cx="3556080" cy="13136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Arial"/>
              </a:rPr>
              <a:t>不是为了谁，只为了心中的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Arial"/>
              </a:rPr>
              <a:t>去想平常人不敢想的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Arial"/>
              </a:rPr>
              <a:t>去做平常人不敢做的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91280" y="3500640"/>
            <a:ext cx="4661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要想成功，就要有雄心，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才能保持旺盛的斗志，立多大的志，创多大的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催人奋进、义无反顾、永不停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大胆地扬起你理想的风帆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请相信成功就在前面，而且非你莫属！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9T10:34:38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cp:lastPrinted>1899-12-30T00:00:00Z</cp:lastPrinted>
  <dcterms:modified xsi:type="dcterms:W3CDTF">2013-04-13T12:00:13Z</dcterms:modified>
  <cp:revision>184</cp:revision>
  <dc:subject>主题班会课件(分28大类): http://shop62905894.taobao.com</dc:subject>
  <dc:title>主题班会课件(分28大类): http://shop62905894.taobao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5.0.1966</vt:lpwstr>
  </property>
</Properties>
</file>