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22A-5EC1-4992-836E-3655FB75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3BA-2569-425A-98AB-4D0C8BC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D4F-66BC-432E-A7F9-C5AC5138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8B0-BF99-494A-8B76-47037662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D9F-EDD5-4AC7-A7AE-8890DBDB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EA4-4410-45FA-ADBE-8E730165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584-6978-4FD6-A66C-4B53855B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DB1-C2B2-49F7-BD2D-526BDCB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B54-A59F-4C39-949D-158034B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94E-F875-4783-A113-70F0F13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66-BED2-4243-9C16-CE9D022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FD9-6FEB-456C-9A3A-89E6EF2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C5DB-E002-4194-9FFF-7DB1435AE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1219320"/>
            <a:ext cx="6476760" cy="26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谈谈考试</a:t>
            </a:r>
            <a:endParaRPr b="0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54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将解题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辅助条件列在草稿纸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助于消除紧张感，以便集中注意力进入解题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粗心习惯者，验算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尤应注意简单的题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为这样的题目往往容易忽视而出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平时应养成答题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受干扰的心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必要求周围绝对安静，这样可以练就在一般环境下专心答题的好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论是测验还是考试，结束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要急于与人对答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应集中精力投入下一场考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2485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考试策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适度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草稿纸有序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956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分花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9132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易后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121932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简明扼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362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卷面整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505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力争不丢一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4197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秋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4000" y="12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统览试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243828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我努力，我快乐。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2286000"/>
            <a:ext cx="8763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只要努力，就是争光。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4400" y="228600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好习惯受益终身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286000"/>
            <a:ext cx="8229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想过成功，想过失败，但从未想过放弃！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8600" y="2057400"/>
            <a:ext cx="8229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初二（</a:t>
            </a:r>
            <a:r>
              <a:rPr b="0" lang="en-US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5</a:t>
            </a: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）班，加油！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6656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案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班有一位学生，该生平时的上课表现很不错，听讲认真，思考积极，且思维宽广活跃，对某些问题能提出自己独到的见解，经常受到教师的表扬；作业完成的质量很高，字迹端正，正确率高；同学遇到难题也喜欢向他请教，他总是竭尽所能的帮助那些有困难的同学，借此达到共同进步。奇怪的是一到期中、期末的重要考试，他平常那股沉着、敏捷劲儿便无影无踪了，平时很容易解决的问题，这时却怎么也解不出来，或者答的漏洞百出，甚至犯起平常极少出现的计算马虎、看错题等毛病。面对这种情况，他心急如焚，拼命的想在学习方法上找出原因、在身体状况上找出原因，但都无济于事。为此，他陷于了极度的苦恼之中，学习成绩更是每况愈下，原来那个活泼开朗、聪明可爱的学生不见了。正如该生自己述说：“ 我很苦恼。为了学习问题，我每天冥思苦想。我不知道自己是否得了‘考试焦虑症’？因为尽管在考前我再三告诫自己，不要慌，但一到考场却总是如临大敌，心神不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44280" y="21528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试焦虑是考生中常见的一种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紧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忧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特点的复杂而延续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情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态。当考生意识到考试对自己具有某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威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就会产生焦虑的心理体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什么是考试焦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2880" y="317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焦虑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523880"/>
            <a:ext cx="380880" cy="3886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143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度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焦虑：对考试起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积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，使人对复习时更专心，考试时更细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895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：人会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过度放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无所用心，不求上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054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：人会担心、紧张，出现复习时静不下心，注意力分散，记忆力下降，考试时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记忆受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思维僵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头脑一片空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3720" y="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高焦虑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33240"/>
            <a:ext cx="838188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阻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的注意过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试要求精力高度集中，否则无法完成答题任务的。分散注意力在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各种担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，必然扰乱思考答题，影响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干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忆过程。记忆是指在你的头脑中有序地检索并提取知识的过程，“过度焦虑”象干扰电波一样，使你的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记忆失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需的信息检不出来，或是检错了，于是出现错答、漏答或根本答不上来，严重影响考试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思维过程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瓦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。思维是人思考问题的核心。由于焦虑的困扰作用，使你的思维活动陷入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呆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凝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，思维力无法正常发挥，创造性想象、分散性思维更无从谈起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37160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考糟了，别人对自己会怎么评价？被他人看不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200400"/>
            <a:ext cx="1752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家长的责备和批评。“又要听骂声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105520"/>
            <a:ext cx="2590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对个人的自我形象受到损害？“名气都没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371600"/>
            <a:ext cx="1904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未来前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5105520"/>
            <a:ext cx="3657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对考试的准备不足。“最好我来不及复习的题目不会考到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447920"/>
            <a:ext cx="2057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这次考试题目过难，希望题目容易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276720"/>
            <a:ext cx="2057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最讨厌这门课了，最好不要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5029200"/>
            <a:ext cx="15238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5160" y="168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会出现考试焦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0640" y="252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何克服考试焦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286000"/>
            <a:ext cx="19810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371600"/>
            <a:ext cx="12952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447920"/>
            <a:ext cx="12193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200400"/>
            <a:ext cx="12189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191120"/>
            <a:ext cx="12952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048120"/>
            <a:ext cx="12956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6668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试五环心理 辅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60020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正确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控制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后矫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20040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制定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1523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调整动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5238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确评价自己，树立自信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352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确认识考试焦虑，克服过度焦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2193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试是一种自我检验、锻炼意志的机会。诚实是最要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4343400"/>
            <a:ext cx="2438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定复习计划，以教材为本复习。提高应试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41008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视错题收集整理；调整心态以利再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0"/>
            <a:ext cx="891540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考试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前——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饱满进考场，轻轻松松看试卷，认认真真做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中——细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视题目莫紧张，看清要求莫浮躁，写全过程莫跳跃，仔细检查莫遗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题不大意，拿足分；中等题不麻痹，拿稳分；偏难题不急躁，拿本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后——恒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后不去想，准备下一场；考分虽是宝，提升更重要；考好莫骄傲，有人比我好；考差莫泄气，下次再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养成良好的考试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76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成绩与考试习惯之间有着密切联系，养成良好的考试习惯，就应该要求自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平时的每次答题都当作正式考试来认真对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拿到试卷后应先把全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浏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遍，并大致估算一下完成每一部分试题需花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试题的设置往往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易到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应从头开始答题，这样有利于保持良好的解题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遇到难题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切忌“卡壳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跳过难题先做其它题目，等全卷完成后再答难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3:19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1:37Z</dcterms:modified>
  <cp:revision>1</cp:revision>
  <dc:subject>主题班会课件(分28大类): http://shop62905894.taobao.com</dc:subject>
  <dc:title>主题班会课件(分28大类): http://shop62905894.taobao.com</dc:title>
</cp:coreProperties>
</file>