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4906-4D34-48BB-A56D-F61184397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11A4-83D1-42EA-B761-9D5555E2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7C34-E238-4AE0-A6DD-393DA5A16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37E4-7356-431F-B8CF-90D3EDFF3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D70F-8FB3-41FB-82DD-5490EB3D5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1FB5-1FE0-4D61-A14D-46D47268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1A86-B885-437D-96FE-65EBD69C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1AD5-6840-4D1D-A700-13C919B1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49AA-12F8-4D22-B2CB-3CF2CEAB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0AC17-B486-470D-BFFC-CA4F6D87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26A7-CCC2-40EA-8CEA-39FA4F56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2A5D-6C94-4577-AE69-852416C5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2C4C-DA59-44FE-903C-770A1C4D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E3B0-4675-4A98-8369-B5139D92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44D7-440A-4EDB-B3E3-EC4BCF8C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92E7-4D0B-45AB-912F-709D05D7D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09BE-D463-4F84-A951-6766FC069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E106-A18C-4E67-A175-370C86A9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8006-EC68-460A-BAC6-93D2B3E1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20F1-0541-4B65-96EA-8D756226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53EB-44E2-4366-9F89-C25876B2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0983-A366-4A89-8F46-35098E50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1B3B-C730-4602-ABEF-040218C9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BBE6-63C3-4CF2-8B95-B2495479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6E45-19AB-4080-89E1-2CD2E3EFE4DC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7145-6F4F-41A2-80AC-A54814EC88BD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280" y="2133720"/>
            <a:ext cx="7953480" cy="2273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Comic Sans MS"/>
              </a:rPr>
              <a:t>让考试成为加油站</a:t>
            </a:r>
            <a:endParaRPr b="0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1835280" y="47628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高三系列班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-360" y="449280"/>
            <a:ext cx="83818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怎样拆分小目标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目标制订要明确具体。你最好每天临睡前把第二天的目标写下来，并且分解成每一个小时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目标设定要合理。所有的目标能不能完成就看一小时的目标能不能完成。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有量的积累，才会有质的飞跃。让我们在目标的引领下一步步走向成功。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爱因斯坦说过：任何一件你喜欢的事，只要每天干一个小时，每天干，连续干上五年后，你就可以成为最专业的人才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6920" y="-171720"/>
            <a:ext cx="68709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Comic Sans MS"/>
              </a:rPr>
              <a:t>4</a:t>
            </a:r>
            <a:r>
              <a:rPr b="1" lang="zh-CN" sz="3200" spc="-1" strike="noStrike">
                <a:solidFill>
                  <a:srgbClr val="00b200"/>
                </a:solidFill>
                <a:latin typeface="Comic Sans MS"/>
              </a:rPr>
              <a:t>、养成好习惯，保持好心态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836640"/>
            <a:ext cx="769608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优秀是一种习惯。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让我们改掉那些制约我们成绩提高的坏习惯，尽快养成良好的学习习惯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习惯就是每天的事情做得好坏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如；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答题时不要涂改，字迹要工整。这绝非一日之功，需要长期的积累；再如，有的同学计算时总是容易出错，这就需要多练习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让我们从现在开始，将备考溶于课堂、平常练习中；认真对待每一次考试，在考试中，培养心无杂物，专注答题的习惯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769608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你的心态就是你真正的主人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要有好成绩，首先要有好心态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好心态要求我们，以大局为重，宽容别人，尊重他人，善待自己。退一步海阔天空，忍一时风平浪静。对待分歧，要求大同存小异，要学会沟通，学会交流，学会合作。正常看待荣誉，对于比自己强的，不要嫉妒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Comic Sans MS"/>
              </a:rPr>
              <a:t>5</a:t>
            </a:r>
            <a:r>
              <a:rPr b="1" lang="zh-CN" sz="3200" spc="-1" strike="noStrike">
                <a:solidFill>
                  <a:srgbClr val="00b200"/>
                </a:solidFill>
                <a:latin typeface="Comic Sans MS"/>
              </a:rPr>
              <a:t>、人生没有失败，只有暂时不成功。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69608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我们不应只关心考多少分数，而更应关心是不是能够面对它。勇敢地面对现实，决不能放弃。</a:t>
            </a: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人生没有失败，只有暂时不成功。人生没有失败，只有两个字：放弃。只要生命延续，你一定会找到一条适合你自己的成长道路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7696080" cy="47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有同学说，小学、初中甚至高中我成绩不错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为什么这次成绩很差？其实，这决不是坏事。这只是对你的提醒，告诉你哪些知识点还得再掌握一下，避免你在今后的考试中失败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只有现在碰到更多更大的困难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才能更快地成长，更快地成熟，更快地进步。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85800" y="765000"/>
            <a:ext cx="769608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高三是一个大熔炉，它能将普通的“生铁”，经过熔炉的高温煅烧与多种反应和千锤百炼，终成我们所期待的“特种钢”。关键是 “生铁”能否承受得住这样的煅烧、反应和千锤百炼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一个杰出的人才，他的许多优异品质都是在人生成长的过程中历练和磨砺而成的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omic Sans MS"/>
              </a:rPr>
              <a:t>二、锻造考试能力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学会自我诊断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一、反思考试复习准备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00000" y="2012760"/>
            <a:ext cx="7196400" cy="32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反思准备本次考试的态度是否积极，都做了哪些准备工作，是只做题不看书还是只看辅导书不看教材，还是认真回顾复习过的知识，重温做过的习题？我所做的准备工作是否有效？哪一种最有效？如果效果不佳，在下次考试时应作哪些调整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二、反思答题过程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是从容应对考试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还是心理有点慌；应试过程中做题方式是否有序，看一题就做一题、看完一遍所有题目才做题、 从头开始做题、从分值多的题目开始做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；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碰到难题如何处理呢？死拼、放弃、最后解、有灵感就马上解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；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有无充足的时间检查后交卷，学科内掌握好的知识点力争不丢分。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769608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考试的重要性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锻炼应对高考的综合素质：心态、能力、技巧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进入高三以后，考试是家常便饭。这些考试贯穿在高三学习的始终，一个高三学生的心态、能力、技巧就是这样炼成的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2560" y="-243000"/>
            <a:ext cx="68706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三、反思考试结果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85327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考试结果是否符合真实水平，优势在哪？如果有差距，主要原因是什么？问题根源在哪里？是复习不得法？近阶段复习不用功？考试时心理没准备？身体不适应？应试技巧不对劲？解哪类题失分较多？解哪类题比较费劲？在下阶段如何调整复习，应在哪些方向下力气？记忆、计算、答题步骤、答题思路、知识掌握的熟练程度等。通过反思考试中失分题目，以点带面地分析知识缺陷，使这些问题成为当前急需解决及下阶段重点突破的问题，使复习做到有的放矢，不断完善自己的知识结构。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omic Sans MS"/>
              </a:rPr>
              <a:t>三、提升考试技巧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68709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反思考试各阶段的得失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79851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试卷发下来离正式应考还有一段时间，这段时间做了什么？是否全面了解本试卷后再应答？试卷的题量、题型、问题难度在应答前是否做到心里有底？做题顺序怎样，是否有效？遇到难题是如何处理的，有无经验值得总结？做题过程中是否会感到注意力难以集中，又是如何调节的？有无经验值得总结？能否形成适合于自己的保持良好注意力和思辨能力的方法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85800" y="907920"/>
            <a:ext cx="769608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考试过程中，能否确认自己所做的题目肯定正确？可以从是否找到了问题的陷阱，是否理解的命题者意图和考查的知识点。考试过程中是否注意到平时不小心而错的事不再发生，有无注意表述是否符合题意，是否科学等等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7696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许多会解的问题因各种各样的失误而丢分。能解会解并不等于能得分，对于高考而言，得分才是硬道理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因此，应学会在考后认真回顾应得分与实际分之间存在差距的原因，反思考试中各个环节，对于养成良好的考试习惯，尽量减少不必要的失误具有重要作用。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79280" y="1557360"/>
            <a:ext cx="80582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考试是一个过程，它包括考试前的复习准备、正式答题前的审题、答题、考试中的时间安排、解决难易题的策略、考后的检验、发卷后的反思。应依据考试过程中的各个环节，全面反思在应对本次考试中各个环节的得失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良好的考试习惯不是一朝一夕养成的，如果平时没有在意，在高考时刻意为之，反而会弄巧成拙。许多学生越接近高考越不知所措，高考中应试慌乱，影响正常发挥，这与平时没有养成良好考试习惯有直接关系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79930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一是较好地检测各门学科学习的基本状况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二是可以衡量学科总分以及各单科在班级以及年级中的相对位置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三是积累考试经验，把握考试技巧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四是调节考试心态，能够更加冷静、客观和全面地评估自己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五是为今后的学习指明方向，为今后的考试奠定基础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所以，我们应该客观冷静地分析考试的得失，使之成为高考的一个重要环节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omic Sans MS"/>
              </a:rPr>
              <a:t>一、积极的心态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388764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b200"/>
                </a:solidFill>
                <a:latin typeface="Comic Sans MS"/>
              </a:rPr>
              <a:t>、不以成败论英雄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0920" y="1052640"/>
            <a:ext cx="8281800" cy="55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考得再好的学生，也有他失误的地方；考得再孬的学生，也有他的闪光之处。因此，真正的英雄不以成败来论。关键是选准参照系，这个参照系不是别人，而是自己。跟自己原来比，这时会看到希望，会比出信心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要在对自己清醒分析中肯定优点，找到不足，明确解决方法，并且充满信心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440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b200"/>
                </a:solidFill>
                <a:latin typeface="Comic Sans MS"/>
              </a:rPr>
              <a:t>、解决问题要持之以恒，并学会寻求帮助。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352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暴露问题不可怕，可怕的是没有找到暴露出的问题，以及没有寻找到解决问题的方法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当寻找到方法之后，要有一种与困难与问题战斗到底的决心，解决问题到底的决心。每解决一个小的问题，就是一个小的进步，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小迈步不停步”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，这样蜗牛也能登上金字塔的塔顶，和雄鹰一样，鸟瞰天下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8353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学会寻求帮助非常重要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如果诊断不出自己存在的问题时，或者找不到解决问题的办法时，此时，不要面子薄，怕难为情。“脸皮薄，吃不着；脸皮厚，吃个够！”其实，自己的问题发现不了、解决不了，这才是伤自尊的事情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另外，学生心里不要存在一种误区，我去向教师或同学寻求帮助时，是给他们制造麻烦，其实不是，而是给他们带来快乐。“助人为乐”，说的就是帮助别人是一件很快乐的事情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06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Comic Sans MS"/>
              </a:rPr>
              <a:t>3</a:t>
            </a:r>
            <a:r>
              <a:rPr b="1" lang="zh-CN" sz="3200" spc="-1" strike="noStrike">
                <a:solidFill>
                  <a:srgbClr val="00b200"/>
                </a:solidFill>
                <a:latin typeface="Comic Sans MS"/>
              </a:rPr>
              <a:t>、考试要有具体的明确的目标。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7696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考试目标一般不要轻易变化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不能因为一次考试，就调高或调低自己的高考奋斗目标。因为，一个人的能力和成绩，是一个区间，一般来说，可以上下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分至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分，而且影响考试的因素有许多，而且是经过慎重考虑的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1309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可以把目标拆分成小目标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中国国产汽车，目前卖得最好的一个品牌是什么？是奇瑞。他的创始人显然学过心理学，动员大会是这样开的：朋友们，为了创造我们的民族品牌，我们必须奋斗五十天。大家很努力地跟他干了五十天后，他说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我们再干五十天。我们继续奋斗五十天，结果奋斗了五百天。如果一开始，他宣布：为了创造我们的民族品牌，我们必须奋斗五百天。估计一百多人都逃掉了。因为五百天太难了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03:18:03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2:11:28Z</dcterms:modified>
  <cp:revision>1</cp:revision>
  <dc:subject>主题班会课件(分28大类): http://shop62905894.taobao.com</dc:subject>
  <dc:title>主题班会课件(分28大类): http://shop62905894.taobao.com</dc:title>
</cp:coreProperties>
</file>