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DBF7-6A11-44B7-AA51-59AA52D17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3949-5FC0-43FA-A042-D2552298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A6EE-8484-4910-8980-3EA80C840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2E09-1F20-4E32-9F15-1D80EE883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C5BA-32B5-4694-8B5F-60FAF171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83FF-C276-4F4C-A603-44BFA996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35E9-23BA-4055-906B-E4C5A1AE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FBD5-A0F1-458B-A6A6-9F1A5BFB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CF98-0E92-48BC-97A4-FE242141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9A66-A81A-48E7-A51D-90B38A21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48F6-71D1-42FD-A0F7-A565B762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9980-7B27-498C-84D6-30C614C4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9D7B-D73C-448F-BE29-97A3EB89AA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hi.baidu.com/yanfanlong/album/item/f6fc4124ac883b3c8644f9fc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hi.baidu.com/cniw/album/item/1d0eb145777a5a2bcefca3c8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dabaoku.com/sucai/dongwu/benma/web/013am.htm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0310116.com/index.php/info_13487_23.html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2374920"/>
            <a:ext cx="151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19280" y="237492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2374920"/>
            <a:ext cx="16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48000" y="2374920"/>
            <a:ext cx="14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40360" y="23749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32360" y="2374920"/>
            <a:ext cx="165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24360" y="2374920"/>
            <a:ext cx="151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627960" y="2389320"/>
            <a:ext cx="148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黑体"/>
                <a:ea typeface="黑体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ctr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黑体"/>
              </a:rPr>
              <a:t>沉着冷静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黑体"/>
              </a:rPr>
              <a:t>镇定从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黑体"/>
              </a:rPr>
              <a:t>坚持到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黑体"/>
              </a:rPr>
              <a:t>决不言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961680" y="404640"/>
            <a:ext cx="164268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王者风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84720" y="-65160"/>
            <a:ext cx="31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阿弥陀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如来佛祖保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47520" y="0"/>
            <a:ext cx="923904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824200" y="247680"/>
            <a:ext cx="326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阿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主耶稣保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356000" y="115920"/>
            <a:ext cx="468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安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真主穆罕默德保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471840" y="306360"/>
            <a:ext cx="326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黑体"/>
              </a:rPr>
              <a:t>星空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心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79480" y="360360"/>
            <a:ext cx="290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马到成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124760" y="430200"/>
            <a:ext cx="850680" cy="27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一飞冲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450880" y="2205000"/>
            <a:ext cx="35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宏力学校——永远的温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190440" y="-27000"/>
            <a:ext cx="9524880" cy="6885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4920" y="25560"/>
            <a:ext cx="468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高一（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）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永远的纯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临考生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休息时间不能增加太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要保持稳定的作息规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饮食不宜突然增加营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每天保持适量体育运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高度重视饮食身体安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准备好眼镜文具等用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兴奋点调整为高考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通过想象强化成功心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-32400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06680" y="2090880"/>
            <a:ext cx="477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高二（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）班——永远的活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82680" y="423720"/>
            <a:ext cx="477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高三（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）班——永远的勤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371760" y="81000"/>
            <a:ext cx="477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高三（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）班——永远的攀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35712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487600" y="512640"/>
            <a:ext cx="477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高三（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）班——永远的放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临考复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每天都要有必要的动手训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研读内化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07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年各科高考真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翻阅思考琢磨各科纠错笔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重在回忆浏览过电影式复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每天想象进入各科应试流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熟悉考时的用笔和学习用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静心专心信心平常心从容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6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月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6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日白天：熟悉考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所在考场离居住地点有多远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用什么方式抵达比较迅速安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在路上要花多少时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自己在哪个教室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自己在哪个座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考桌状况怎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与自己原有的学习环境有哪些相同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厕所及其他服务设施在哪儿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6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月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6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日夜：睡个好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尽量像平时一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可以散步、轻微运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晚饭后不可喝茶或咖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睡前可以看会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绝不要提前睡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不可随意喝安眠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睡不着的时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物理疗法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：睡前洗热水澡，热水泡脚，喝热牛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白云疗法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：想象自己躺在一块草坪上，头顶上是一片蓝天，想象大片白云，厚厚的，白白的，然后它慢慢落在你身上。现在就想象你被白云包裹着，你的身体跟着白云慢慢向上飘，感觉自己越来越轻，忽忽悠悠，越来越轻，浑然入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海浪疗法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：想象躺在海边，蓝色大海，金色沙滩，躺在沙滩上，感觉到下面软软的、细细的、热热的。太阳照在你的身上，感觉全身温暖；然后再感觉海浪铺天盖地，你会感到海水很凉，也会感到很咸；然后海浪慢慢退下去，然后又上来，就这样反复的。这叫做精神按摩。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数数疗法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：要这样来数，要慢一点，一下一下，最快也就不超过一秒钟，一、二、三、四、五，然后就不要再往下数，倒过来数五、四、三、二、一，按照很慢的节奏。这样单调的刺激，你会不感到累，不会着急。如果你不停地数下去，你要数到几千几百几十，你的脑子会越来越兴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闭眼强睡法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只要闭上眼睛，就会断断续续睡很多觉。即使觉得一晚没睡觉，第二天考试也不会受很多影响，因为大脑潜力很大，二十几个小时不睡觉，照样可以工作，你不会因为前一夜没有睡好觉，就考不好试，这是不可能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6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月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7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日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早饭四注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干净卫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份量适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能量要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易于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饮水两注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量不宜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不可喝冰镇饮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衣着两注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不宜穿新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穿平时喜欢的旧衣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6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月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7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日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8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点以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30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00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1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30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…………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不和别人讨论答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不听别人议论答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不再去想已考学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轻松有技巧的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翻阅下一学科笔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坚持到最后一分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4T22:32:25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53:56Z</dcterms:modified>
  <cp:revision>2</cp:revision>
  <dc:subject>主题班会课件(分28大类): http://shop62905894.taobao.com</dc:subject>
  <dc:title>主题班会课件(分28大类): http://shop62905894.taobao.com</dc:title>
</cp:coreProperties>
</file>