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52C-7F0F-4067-A4F6-F6E5452B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1F9-AE83-478D-A164-A305281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4A0-B370-42D4-91DC-7D8B674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661-04EE-4E6E-AB6A-708C323E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41F-8B9D-41B2-BE44-AA131B4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21F-614D-4BA0-A9DF-89F173A3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016-544E-4A43-945C-C31E157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4A6-9DEC-4282-909C-E9E1923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7B1-063C-4F3B-B8DA-C825A949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856-A853-4BBB-9D4C-2D0851A0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0C8-D266-486C-97DA-38FF6459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746-AA6C-4246-9E26-EB46BCF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DEB9-8927-4A29-A823-286FBF3B2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qshu.org.cn/" TargetMode="External"/><Relationship Id="rId2" Type="http://schemas.openxmlformats.org/officeDocument/2006/relationships/hyperlink" Target="http://www.qshu.org.cn/" TargetMode="External"/><Relationship Id="rId3" Type="http://schemas.openxmlformats.org/officeDocument/2006/relationships/hyperlink" Target="http://www.joy-ba.cn/" TargetMode="External"/><Relationship Id="rId4" Type="http://schemas.openxmlformats.org/officeDocument/2006/relationships/hyperlink" Target="http://www.qshu.org.cn/" TargetMode="External"/><Relationship Id="rId5" Type="http://schemas.openxmlformats.org/officeDocument/2006/relationships/hyperlink" Target="http://www.m-r.org.cn/sh/shijian.html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qshu.org.cn/" TargetMode="External"/><Relationship Id="rId2" Type="http://schemas.openxmlformats.org/officeDocument/2006/relationships/hyperlink" Target="http://www.qshu.org.cn/" TargetMode="External"/><Relationship Id="rId3" Type="http://schemas.openxmlformats.org/officeDocument/2006/relationships/hyperlink" Target="http://www.qshu.org.cn/" TargetMode="External"/><Relationship Id="rId4" Type="http://schemas.openxmlformats.org/officeDocument/2006/relationships/hyperlink" Target="http://www.qshu.org.cn/" TargetMode="External"/><Relationship Id="rId5" Type="http://schemas.openxmlformats.org/officeDocument/2006/relationships/hyperlink" Target="http://www.qshu.org.cn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考前学法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52600" y="522288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坚定信念、构想未来、燃烧青春、无憾今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6120" y="166680"/>
            <a:ext cx="120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惜时、报恩、成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、“自由”非自由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复习阶段是指学生的学习复习知识内容上是自由的，而对于考勤、值日、作息时间则一点也不能打折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还应注意几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是要自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要看到别人都在加油、进步，考试时间越来越近，复习什么好像都没掌握似的（实际情况往往是大部分已经掌握），感到心中越来越没底，压力也越来越大。相信凡事尽力而为，即可问心无愧。重要的是过程，做自己能做的事，不为未来忧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还应注意几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是学会给自己减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临考前大部分同学都会有一些焦虑情绪，这是正常现象，不必为虑。但如果压力过大，影响了睡眠或学习效率，就要进行调适。比如可以和老师、家长或好友抽时间交流一下自己内心的感受，做做放松练习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还应注意几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是注意有计划地复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试的总分及各科的目标分数要达到多少，如何达到，必须制定一个简明的考前计划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还应注意几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是注意劳逸结合，提高复习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前的复习，拼的是时间，更是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搞疲劳战，复习累了可以积极休息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上复习一般不要超过十一点，更不宜开夜车。所说的积极休息，就是利用学习间隙，抽出十分钟左右的时间，走到阳台上或教室外做做深呼吸，做做体操，伸伸懒腰，或者向远处看看，做做眼保健操，揉揉太阳穴等。这样既放松了身心，又让大脑及时补充了氧气，再学习起来记忆力会更好，效率也会更高。老话说的“磨刀不误砍柴工”，说的就是这个道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人生没有彩排，只有现场直播，所以每一件事都要努力做得最好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接受我们不能改变的一切，改变我们能改变的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幸福不是因为你拥有得多，而是由于你计较得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前进的路上，主动搬开别人脚下的绊脚石，有时往往也是为自己铺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眼睛可以近视，目光不能短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没有绝望的处境，只有对处境绝望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会技能是小智慧，学会做人是大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事的能力往往只能给你一种机会，而做人的能力则会给你一百种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活的最大悲剧不是失败，而是一个人已经习惯于失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人创造奇迹常常是在瞬间，但没有一个创造奇迹的人是依靠瞬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生的成功不过是在紧要处多一份坚持，人生的失败往往是在关键时刻少了坚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人生的大海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我们虽然不能把握风的大小，却可以调整帆的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依赖别人的人等于折断了自己的翅膀，永远也体会不到飞翔的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泪水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浸泡过的微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灿烂，从迷惘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走出来的灵魂最清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最好的节约是珍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最大的浪费是虚度年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励志名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于沙漠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旅行者，最可怕的不是眼前无尽的荒漠，而是心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有绿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成功的经验能够让人越来越聪明，总结失败的原因能够让人越来越谨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活比你想象的要容易得多，只要学会接受那些不可接受的，放弃那些不愿放弃的，容忍那些不可容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活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基本的技巧是交流，最可依赖的品质是耐心，最糟糕的行为是抱怨，最易见效的努力是从自己做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生有一半掌握在上帝那里，另一半攥在自己的手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人的一辈子唯一做的就是，不断地用你手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这一半更多地赢取上帝掌握的那一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相信自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189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相信自己的实力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相信自己可以考出理想的成绩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用鹰的坚韧拥抱梦想、 用鹰的目光凝视未来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永不止步 、永不言弃 、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nothing is impossible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要轻言放弃、否则对不起自己、 一切皆有可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要想出人头地、就要比别人付出更多的努力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相信自己、没有什么不可能！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00"/>
                </a:solidFill>
                <a:latin typeface="Arial"/>
                <a:ea typeface="华文行楷"/>
              </a:rPr>
              <a:t>加油吧！！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相信自己、梦想成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梦想变为现实，一定要做三件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、使目标具体化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、集中精力，全力以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、付诸行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过程中，所有必需的条件都取决于自己，而不是别人，凡成功者，都善于当机立断，一旦决定就全力以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2280" y="0"/>
            <a:ext cx="861084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你成功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成功指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目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信是成功的第一要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唤醒心中的巨人、激发心灵的潜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检讨是成功之母、改变是成功之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向第一名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精力最旺盛的时候做最重要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无论做什么事，都要尽心尽力，追求卓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定决心，不达目的誓不罢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立即行动、立即行动、立即行动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考试时间安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30440"/>
          <a:ext cx="8381880" cy="3905280"/>
        </p:xfrm>
        <a:graphic>
          <a:graphicData uri="http://schemas.openxmlformats.org/drawingml/2006/table">
            <a:tbl>
              <a:tblPr/>
              <a:tblGrid>
                <a:gridCol w="3124080"/>
                <a:gridCol w="2590920"/>
                <a:gridCol w="2666880"/>
              </a:tblGrid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、日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-1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-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-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255400" y="55562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他时间上自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0000"/>
                </a:solidFill>
                <a:latin typeface="Arial"/>
                <a:ea typeface="华文行楷"/>
              </a:rPr>
              <a:t>自由复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13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法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何理解自由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复习阶段一般是在前期专项复习和综合复习的基础上进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复习”，实际上就是更强调“自主复习”。这个阶段最重要的工作就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合理安排自己的复习时间、复习内容和复习进度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时不要随大溜，一定要根据个人情况，重点进行查漏补缺，进一步把高中阶段所学各科内容条理化、系统化，突破薄弱环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几点建议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一、不能放弃做题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日不练，自己知道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日不练，同行知道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日不练，观众知道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须保持做题的感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能在考前产生手生的感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二、回归课本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是考试之本，是树之根，水之源。看书不可盲目，就做到以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全面而精，突现主干，熟知课本中典型的学科语言，细致理解课本概念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有计划，可按书本章节顺序，亦可按自己熟知程度，还可根据考试中出现频率，制定自己的看书计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配合相应错题重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三、重温错题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放弃偏、难、怪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注重几次大考试题中的错题。几次大考试可以说履盖了学科的绝大部分知识面，面错题之所在，正是自己弱点之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结合回归课本，重温相应错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42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32Z</dcterms:modified>
  <cp:revision>1</cp:revision>
  <dc:subject>主题班会课件(分28大类): http://shop62905894.taobao.com</dc:subject>
  <dc:title>主题班会课件(分28大类): http://shop62905894.taobao.com</dc:title>
</cp:coreProperties>
</file>