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gif" ContentType="image/gif"/>
  <Override PartName="/ppt/media/image21.jpeg" ContentType="image/jpeg"/>
  <Override PartName="/ppt/media/image36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9.gif" ContentType="image/gif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7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15.gif" ContentType="image/gif"/>
  <Override PartName="/ppt/media/image7.jpeg" ContentType="image/jpeg"/>
  <Override PartName="/ppt/media/image35.gif" ContentType="image/gif"/>
  <Override PartName="/ppt/media/image12.jpeg" ContentType="image/jpeg"/>
  <Override PartName="/ppt/media/image23.png" ContentType="image/png"/>
  <Override PartName="/ppt/media/image30.gif" ContentType="image/gif"/>
  <Override PartName="/ppt/media/image34.gif" ContentType="image/gif"/>
  <Override PartName="/ppt/media/image38.gif" ContentType="image/gif"/>
  <Override PartName="/ppt/media/image42.jpeg" ContentType="image/jpeg"/>
  <Override PartName="/ppt/media/image44.jpeg" ContentType="image/jpeg"/>
  <Override PartName="/ppt/media/image52.gif" ContentType="image/gif"/>
  <Override PartName="/ppt/media/image55.png" ContentType="image/png"/>
  <Override PartName="/ppt/media/image39.wmf" ContentType="image/x-wmf"/>
  <Override PartName="/ppt/media/image53.gif" ContentType="image/gif"/>
  <Override PartName="/ppt/media/image48.gif" ContentType="image/gif"/>
  <Override PartName="/ppt/media/image50.gif" ContentType="image/gif"/>
  <Override PartName="/ppt/media/image46.jpeg" ContentType="image/jpeg"/>
  <Override PartName="/ppt/media/image47.jpeg" ContentType="image/jpeg"/>
  <Override PartName="/ppt/media/image56.jpeg" ContentType="image/jpeg"/>
  <Override PartName="/ppt/media/image33.gif" ContentType="image/gif"/>
  <Override PartName="/ppt/media/image31.png" ContentType="image/png"/>
  <Override PartName="/ppt/media/image11.jpeg" ContentType="image/jpeg"/>
  <Override PartName="/ppt/media/image58.gif" ContentType="image/gif"/>
  <Override PartName="/ppt/media/image10.jpeg" ContentType="image/jpeg"/>
  <Override PartName="/ppt/media/image8.jpeg" ContentType="image/jpeg"/>
  <Override PartName="/ppt/media/image45.gif" ContentType="image/gif"/>
  <Override PartName="/ppt/media/image5.png" ContentType="image/png"/>
  <Override PartName="/ppt/media/image43.jpeg" ContentType="image/jpeg"/>
  <Override PartName="/ppt/media/image29.jpeg" ContentType="image/jpeg"/>
  <Override PartName="/ppt/media/image37.gif" ContentType="image/gif"/>
  <Override PartName="/ppt/media/image40.jpeg" ContentType="image/jpeg"/>
  <Override PartName="/ppt/media/image51.gif" ContentType="image/gif"/>
  <Override PartName="/ppt/media/image13.jpeg" ContentType="image/jpeg"/>
  <Override PartName="/ppt/media/image54.jpeg" ContentType="image/jpeg"/>
  <Override PartName="/ppt/media/image2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8CE-0890-46D5-940B-74EBB462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FD1-F2F6-4260-80FA-0EF1ED58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194-94A5-4621-ABCD-29577D29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226-1AEB-4412-B1E5-FFAEBE7D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80E6-A8CB-49E8-B0EC-1D8E97FA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447-7929-422C-B638-D46B9FA8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629B-970B-4AC6-8E2B-CC6D2E7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E3E7-FA4F-4746-8B40-179EC94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5B6-CF4E-4DDC-955A-5524B62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D35-1379-4107-BCBA-CAEE5DAD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E6B-AAD2-4CEC-8F6F-D98A917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E13-1018-4568-BF1F-80CCDF2E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B7AA-0CF6-4492-BE34-9C1821D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5952-793E-44F5-9A3A-90274A1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625A-51E8-4ED5-A003-05FD1783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841-57C4-4ED2-9767-2F1EB044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FBD-ECC8-4AC4-B819-E27B053D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D50-598D-4277-9F3A-CFD0562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74A-D7BF-48EB-986B-569E6D0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184-38B0-41D8-92C4-917244FA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4A4-AAB0-4476-BE33-6859EF3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674-43E7-41A4-BAEC-9C9EC69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5AD-EC03-4C09-B0E4-914286EA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525-5641-4572-BD51-E1AFD7F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524-A5C6-46A0-97E1-227B1D6D2434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D01-D509-431A-8D17-DDC300B01B10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35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36.gif"/><Relationship Id="rId15" Type="http://schemas.openxmlformats.org/officeDocument/2006/relationships/hyperlink" Target="http://www.ziqu.com/bbs/660100/2/4713.html" TargetMode="External"/><Relationship Id="rId16" Type="http://schemas.openxmlformats.org/officeDocument/2006/relationships/image" Target="../media/image35.gif"/><Relationship Id="rId1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7.gif"/><Relationship Id="rId9" Type="http://schemas.openxmlformats.org/officeDocument/2006/relationships/image" Target="../media/image37.gif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32000" y="2060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高三（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）班 主题班会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692280"/>
            <a:ext cx="79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给梦想插上翅膀</a:t>
            </a:r>
            <a:endParaRPr b="0" lang="en-US" sz="8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04640"/>
            <a:ext cx="647712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评分规则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:“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是”为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分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,“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否”为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0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分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各题得分相加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4100" spc="-1" strike="noStrike">
                <a:solidFill>
                  <a:srgbClr val="000000"/>
                </a:solidFill>
                <a:latin typeface="华文细黑"/>
                <a:ea typeface="华文细黑"/>
              </a:rPr>
              <a:t>统计总分</a:t>
            </a:r>
            <a:endParaRPr b="0" lang="en-US" sz="4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-6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</a:t>
            </a:r>
            <a:r>
              <a:rPr b="1" lang="zh-CN" sz="55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能够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付生活中的许多事情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有时也会有些烦恼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是正常的</a:t>
            </a:r>
            <a:endParaRPr b="0" lang="en-US" sz="41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64360" y="404640"/>
            <a:ext cx="1816200" cy="4124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98984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7~14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你有轻度的心理压力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虽然常会体验到不必要的烦恼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但你基本能处理生活中的问题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你应学会调节自己的心情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保持轻松愉快的心境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14~20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你已经在承受巨大的心理压力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你不能处理生活中的许多问题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因此使你紧张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不安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影响到你的学习生活身心健康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你应尽快改变这种情况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否则将使你学习生活不能正常进行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4572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25593" b="15345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549360"/>
            <a:ext cx="590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细黑"/>
                <a:ea typeface="华文细黑"/>
              </a:rPr>
              <a:t>心理压力是一种个人主观的感觉，即个人在面对困难时，一时无法消除困难的一种被压迫的感觉。对我们高三的学生来说，学习压力是一个很普遍现象，几乎每位学生都会觉得有学习压力。       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71640" y="5516640"/>
            <a:ext cx="612000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197760" y="549360"/>
            <a:ext cx="252720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921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尤其是对于我们班来说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在历经两次考试的挫败之后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或多或少地都会有一些学习压力。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下面请大家讨论一下，你们在学习上存在一些什么压力，然后我们一起来解决。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163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74560" y="549360"/>
            <a:ext cx="586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黑体"/>
              </a:rPr>
              <a:t>有什么缓解学习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黑体"/>
              </a:rPr>
              <a:t>压力的有效方法？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76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七嘴八舌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052640"/>
            <a:ext cx="1081080" cy="71892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773360"/>
            <a:ext cx="694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不要把目标定得高于自己能力所及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有效地分配时间，将学习任务或工作任务按轻重缓急编定先后次序，然后依次逐步完成，阶段性的成果可减低同时展开多份任务而又无法完成所带来的压力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48360" y="2565360"/>
            <a:ext cx="2048040" cy="3313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200" spc="-1" strike="noStrike">
                <a:solidFill>
                  <a:srgbClr val="006666"/>
                </a:solidFill>
                <a:latin typeface="Tahoma"/>
              </a:rPr>
              <a:t>无论你的学习压力属于何种程度，你都不用担心，因为下面我来为你介绍几种减压的方法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304920"/>
            <a:ext cx="62024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余时应做适量运动，既可强健身体，亦可减压，或可在教室做一些简单的伸展运动，减轻肌肉疲劳。 </a:t>
            </a: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困扰或情绪低落时，可与家人或朋友倾诉，通过与同学，同事的沟通获得支持和关怀，亦可发泄情绪 。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06292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即使再忙，也要有必要而充分的睡眠，这对松弛绷紧的神经至关紧要，对于处在身体发育时期的学生来说尤为重要。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1632240"/>
            <a:ext cx="82551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如果您觉得力不从心，那么应该稍做休息。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拥有一两个知心朋友。　　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犯错误后可别过度内疚。</a:t>
            </a:r>
            <a:br>
              <a:rPr sz="3600"/>
            </a:b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正视现实，因为回避问题只会加重心理负担，最后使得情绪更为紧张。</a:t>
            </a:r>
            <a:br>
              <a:rPr sz="3600"/>
            </a:b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不必事事、时时进行自我责备。</a:t>
            </a: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0200" y="44280"/>
            <a:ext cx="1665000" cy="520560"/>
          </a:xfrm>
          <a:prstGeom prst="rect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心理学家推荐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7400" y="3589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青少年宽松情绪法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448000" cy="218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49323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Tahoma"/>
                <a:ea typeface="华文细黑"/>
              </a:rPr>
              <a:t>心理小测试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468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3" name="x1pHew2XyUAb9ULNzOEIod-Zd3NiSNqEYy5I8GVO9knKsi4IL-chK5dJ3K1pOJsaDSnNykW7yZxZtcQXcLjHuKNTU8r0gTz86L3W-Tng5km0oyYpfWmacFgewJLB5YEzPsGnf0uaDF5tXo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70560" y="0"/>
            <a:ext cx="367344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要盯着不动，用很正常的眼神去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有委屈不妨向知心人诉说一番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常对自己提醒：该放松放松了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少说“必须”、“一定”等“硬性词”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对一些琐细小事不妨任其自然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不要怠慢至爱亲朋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学会“理智”地待人接物。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333360"/>
            <a:ext cx="813600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把挫折或失败当作人生经历中不可避免的有机组成部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某一计划之前，最好事先就预想到可能会出现坏的结果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欣赏最爱听的音乐。　　　　　　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余时间和性格开朗、幽默的伙伴聊天。　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Tahoma"/>
                <a:ea typeface="华文彩云"/>
              </a:rPr>
              <a:t>勉励的话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你改变不了环境，但你可以改变自己；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你改变不了事实，但你可以改变态度。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你改变不了过去，但你可以改变现在；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你不能控制他人，但你可以掌握自己；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你不能预知明天，但你可以把握今天</a:t>
            </a:r>
            <a:r>
              <a:rPr b="1" lang="zh-CN" sz="3600" spc="-1" strike="noStrike">
                <a:solidFill>
                  <a:srgbClr val="9933ff"/>
                </a:solidFill>
                <a:latin typeface="华文细黑"/>
                <a:ea typeface="华文细黑"/>
              </a:rPr>
              <a:t>；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5373720"/>
            <a:ext cx="6480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499920"/>
            <a:ext cx="4176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ahoma"/>
                <a:ea typeface="楷体_GB2312"/>
              </a:rPr>
              <a:t>昨天：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楷体_GB2312"/>
              </a:rPr>
              <a:t>我们均站在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楷体_GB2312"/>
              </a:rPr>
              <a:t>同一起跑线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79880" y="1913040"/>
            <a:ext cx="1116000" cy="793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mingb161.gif (6652 bytes)"/>
          <p:cNvPicPr/>
          <p:nvPr/>
        </p:nvPicPr>
        <p:blipFill>
          <a:blip r:embed="rId1"/>
          <a:stretch/>
        </p:blipFill>
        <p:spPr>
          <a:xfrm>
            <a:off x="-36360" y="256536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ahoma"/>
                <a:ea typeface="隶书"/>
              </a:rPr>
              <a:t>今天：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我们正在到达成功的途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305080" y="2481120"/>
            <a:ext cx="576360" cy="565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727600" y="2112840"/>
            <a:ext cx="952560" cy="933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5157720"/>
            <a:ext cx="1176480" cy="1176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119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4932360" y="2997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5292720" y="530064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586728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3780000" y="1773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3276720" y="378936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44360" y="3284640"/>
            <a:ext cx="539640" cy="360360"/>
            <a:chOff x="144360" y="3284640"/>
            <a:chExt cx="539640" cy="360360"/>
          </a:xfrm>
        </p:grpSpPr>
        <p:sp>
          <p:nvSpPr>
            <p:cNvPr id="222" name=""/>
            <p:cNvSpPr/>
            <p:nvPr/>
          </p:nvSpPr>
          <p:spPr>
            <a:xfrm>
              <a:off x="179280" y="328464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360" y="328464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22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83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547640" y="4365720"/>
            <a:ext cx="1176480" cy="1176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在还没有到达成功的终点之前，我们一直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 flipH="1">
            <a:off x="684360" y="1557360"/>
            <a:ext cx="111600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flipH="1">
            <a:off x="6227640" y="126828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 flipH="1">
            <a:off x="1115640" y="4724280"/>
            <a:ext cx="1089000" cy="635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flipH="1">
            <a:off x="6948360" y="4653000"/>
            <a:ext cx="1020960" cy="635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 flipH="1">
            <a:off x="468000" y="2852640"/>
            <a:ext cx="2521080" cy="1214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 flipH="1">
            <a:off x="2987280" y="1341360"/>
            <a:ext cx="1800360" cy="10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 flipH="1">
            <a:off x="3419280" y="3213000"/>
            <a:ext cx="2089080" cy="1177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48000" y="558972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7700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 flipH="1">
            <a:off x="673272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 flipH="1">
            <a:off x="3924360" y="4724280"/>
            <a:ext cx="1800000" cy="965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2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8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6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4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2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740120" cy="3546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850400">
            <a:off x="3981600" y="1727280"/>
            <a:ext cx="4803480" cy="4333680"/>
          </a:xfrm>
          <a:prstGeom prst="cloudCallout">
            <a:avLst>
              <a:gd name="adj1" fmla="val -9560"/>
              <a:gd name="adj2" fmla="val 44319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35280" y="2997360"/>
            <a:ext cx="49737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成功是多么辉煌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4572000" y="3500280"/>
            <a:ext cx="4319640" cy="216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26000" y="3881520"/>
            <a:ext cx="23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了成功，不得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经常这样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rcRect l="3116" t="2582" r="2806" b="2611"/>
          <a:stretch/>
        </p:blipFill>
        <p:spPr>
          <a:xfrm>
            <a:off x="395280" y="260280"/>
            <a:ext cx="8424720" cy="6199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886200" y="404640"/>
            <a:ext cx="5257800" cy="2948040"/>
          </a:xfrm>
          <a:prstGeom prst="cloudCallout">
            <a:avLst>
              <a:gd name="adj1" fmla="val -36018"/>
              <a:gd name="adj2" fmla="val 58453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0" y="1143000"/>
            <a:ext cx="45054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个中辛苦有谁知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0" t="0" r="9844" b="9535"/>
          <a:stretch/>
        </p:blipFill>
        <p:spPr>
          <a:xfrm>
            <a:off x="0" y="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02920" y="1773000"/>
            <a:ext cx="70563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图片与你的受压力程度有关：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如果你看到图片是静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止不动的，证明你没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有什么学习压力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60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est Wish For You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-252360" y="404640"/>
            <a:ext cx="694836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Arial"/>
                <a:ea typeface="黑体"/>
              </a:rPr>
              <a:t>知识改变命运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Arial"/>
                <a:ea typeface="黑体"/>
              </a:rPr>
              <a:t>态度决定一切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Arial"/>
                <a:ea typeface="黑体"/>
              </a:rPr>
              <a:t>刻苦完成学业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Arial"/>
                <a:ea typeface="黑体"/>
              </a:rPr>
              <a:t>奋斗成就人生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爱拼才会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38876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一时失志不免怨叹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一时落魄不免胆寒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那怕失去希望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每日醉茫茫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无魂有体就像稻草人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4122" t="56702" r="24559" b="26353"/>
          <a:stretch/>
        </p:blipFill>
        <p:spPr>
          <a:xfrm>
            <a:off x="1476360" y="333360"/>
            <a:ext cx="597708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27640" y="1268280"/>
            <a:ext cx="45352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人生可比是海上的波浪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有时起有时落             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好运歹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总要靠自己来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三分天注定                 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七分靠打拼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爱拼才会赢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95280" y="508464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9900" t="0" r="0" b="16068"/>
          <a:stretch/>
        </p:blipFill>
        <p:spPr>
          <a:xfrm>
            <a:off x="5816520" y="304920"/>
            <a:ext cx="3092400" cy="4276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5040360" cy="6120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有人浮起来，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有人沈下去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楼顶的风景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与楼底的风景，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永远不会一样，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谁也别羡慕谁。 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成功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智商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     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）</a:t>
            </a:r>
            <a:r>
              <a:rPr b="1" lang="zh-CN" sz="5400" spc="-1" strike="noStrike">
                <a:solidFill>
                  <a:srgbClr val="6600ff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66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63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65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381640" cy="3186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95280" y="3933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3860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6666"/>
                </a:solidFill>
                <a:latin typeface="Tahoma"/>
                <a:ea typeface="楷体_GB2312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04000" cy="3436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76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78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4953240" cy="2979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95280" y="39337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8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8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5" name=""/>
          <p:cNvSpPr/>
          <p:nvPr/>
        </p:nvSpPr>
        <p:spPr>
          <a:xfrm>
            <a:off x="395280" y="4005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ff3399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行楷"/>
              </a:rPr>
              <a:t>…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9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9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229360" cy="3309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0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0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15" name=""/>
          <p:cNvSpPr/>
          <p:nvPr/>
        </p:nvSpPr>
        <p:spPr>
          <a:xfrm>
            <a:off x="468360" y="44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835280" y="457200"/>
            <a:ext cx="6089400" cy="3938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 rot="5400000">
            <a:off x="-695520" y="1566720"/>
            <a:ext cx="3240000" cy="105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ffcc00"/>
                  </a:solidFill>
                  <a:custDash>
                    <a:ds d="100000" sp="1000"/>
                  </a:custDash>
                  <a:miter/>
                </a:ln>
                <a:solidFill>
                  <a:srgbClr val="9933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隶书"/>
              </a:rPr>
              <a:t>班主任寄语</a:t>
            </a:r>
            <a:endParaRPr b="1" lang="en-US" sz="4000" spc="1" strike="noStrike">
              <a:ln cap="rnd" w="12600">
                <a:solidFill>
                  <a:srgbClr val="ffcc00"/>
                </a:solidFill>
                <a:custDash>
                  <a:ds d="100000" sp="1000"/>
                </a:custDash>
                <a:miter/>
              </a:ln>
              <a:solidFill>
                <a:srgbClr val="9933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952560"/>
            <a:ext cx="71276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你不能样样顺利，但你可以事事尽心；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你不能左右天气，但你可以改变心情；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你不能选择容貌，但你可以展现笑容；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你不能延伸生命的长度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但你可以决定生命的宽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换一副“眼镜”看世界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我们就会少些忧愁与烦恼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多些开心与快乐！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948360" y="4437000"/>
            <a:ext cx="1905120" cy="158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134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如果你看到图片中的花瓣是有一点点缓慢转动的，那就证明你存在着一定的学习压力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475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ahoma"/>
              </a:rPr>
              <a:t>我就是我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-132408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49780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一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我就是我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十七八岁肆意挥霍喜怒哀乐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脚下的路无论多么坎坷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摔倒爬起依然是洒脱的我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二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即使置身于痛苦的世界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也不乞求怜悯与施舍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宁愿用稚嫩的手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把未来的道路开拓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我就是我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-132408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68360" y="404640"/>
            <a:ext cx="80661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失败与成功是黎明与黑暗的拼搏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每天的太阳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都在我手中捧出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微笑与欢乐不会无偿地给予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阳光和草地可供我小憩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岁月和年华在急剧流失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不去贪恋 逗留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也不曾 沉没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因为 明天还有让我去播种绿色的荒漠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195640" y="1197000"/>
            <a:ext cx="7343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希望同学们都能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成功地缓解学习压力，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共同创造属于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高三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班的辉煌！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692280"/>
            <a:ext cx="8964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各位在高考中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</a:t>
            </a: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取得预期的成绩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050920" y="5084640"/>
            <a:ext cx="383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主题班会到此结束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78469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如果你看到图片是高速旋转的，证明你是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1268280"/>
            <a:ext cx="40323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一犯罪嫌疑犯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866520" cy="8137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45840" y="1196640"/>
            <a:ext cx="8497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对下列各题作出“是”或“否”的回答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因为发生了某些没有预料的事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感到心烦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感觉到你不能控制你生活中的重要事情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常常感到紧张和压力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常常不能成功地应付生活中有威胁性的争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觉得不能成功地应付生活中所发生的重要变化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对把握你的个人问题没有信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感到事情不是按你的意愿发展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发现你不能应付你必须去做的所有事情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不能控制生活中的一切烦恼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觉得你所有方面都是失败的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为事情都 是发生在你能控制的范围之外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会因此而烦恼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692280"/>
            <a:ext cx="8229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12.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你发现你自己常在考虑自己必须完成的那些事情</a:t>
            </a:r>
            <a:endParaRPr b="0" lang="en-US" sz="37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13.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你不能控制消磨时间的方式</a:t>
            </a:r>
            <a:endParaRPr b="0" lang="en-US" sz="37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14.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你感觉积累的大量困难不能克服</a:t>
            </a:r>
            <a:endParaRPr b="0" lang="en-US" sz="37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15.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朋友同学的生日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免不了花钱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幼圆"/>
                <a:ea typeface="幼圆"/>
              </a:rPr>
              <a:t>你往往不想在这类场合出现以免花钱</a:t>
            </a:r>
            <a:endParaRPr b="0" lang="en-US" sz="37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你刚买了一天的鞋穿了一天就裂口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气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苦的抱怨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由于某种小事跟好朋友生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互不相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你会一个人生闷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忘掉这件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就是忘不掉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父母因为学习责备你而是你感到压力很大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会和他们争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压抑情感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一个非常要好的朋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某些原因退学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很难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面对现实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3:23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4:11Z</dcterms:modified>
  <cp:revision>37</cp:revision>
  <dc:subject>主题班会课件(分28大类): http://shop62905894.taobao.com</dc:subject>
  <dc:title>主题班会课件(分28大类): http://shop62905894.taobao.com</dc:title>
</cp:coreProperties>
</file>