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FCD-B19B-4DE6-8FF2-083CABFD4A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5641-73AB-4493-97C8-BEAE47264F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三学生不存在能否考上大学的问题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而是考什么大学的问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三学生均站在同一起跑线上，谁不停地奔跑谁就会最先到达终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的潜能是无限的，谁都可以创造最后的辉煌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勤学如春起之苗，不见其增，日有所长。高中的学习是一种剧烈的活动，六十万考生均站在同一个起跑线上。高二的生活要重新安排，要认识到高考竞争的残酷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3A0-3E79-488C-BDFC-41BB609EEF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析目前的高考竞争环境：农村考生的优势在哪里？城市考生的优势在哪里？知己知彼，方能百战不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们也想走向世界。我一定要好好学习，我要走出去，我要改变家乡落后的面貌！我要让我的父母过上好日子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他们的小学就是这样度过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抗日战争时期，我们靠什么打败了日本帝国主义，是靠先进的武器吗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他们能不想改变现状吗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些高中生在吃什么？他们在想什么？这两个同学在饭里找什么？他们中为什么没有少男少女的打情骂俏？正是在这里，走出了高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的两院院士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他们的父亲正在为学费发愁。孩子考上大学后怎么办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DAA-B06B-414C-B5DA-99485BF2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BCB-694E-4205-8E19-E1E6ED08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ABB-0EF5-4F7A-B0FF-887C3D7C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375-1537-4A83-B86B-45A3F29E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B739-2817-473B-9796-8915C935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C0E2-FBB7-4ACD-AF06-5C956AA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C3BA-B411-403F-BD76-877DC7FF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9DB-8F41-4202-B135-457CE6E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C115-1D87-421A-999C-883C945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36B8-92B1-412A-97A9-34D3876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BDC9-0D21-44D4-8917-C4AA0E10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EA8-E88D-41DD-99BE-E02360BF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E5C-A427-4C4E-A6B9-73BAE7A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C7C5-CF27-462F-B627-3C3A566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F52D-ED6E-402E-BAC9-69CD76C9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624-ACC1-4A56-B086-D7ECB921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99DA-493E-478F-AA10-308F6F41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8DC-00DC-4DB6-B94D-8F0A07A1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FE1-D874-49A2-A3C2-A6D71F48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BE9-42A9-44A3-8FED-7E47612C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C59-C9BC-4409-8482-BFED6004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FD6-7C3D-4B41-AF9F-3A80B29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E9E-F84F-4987-8B4C-2CCFC4DB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DBB-FBB7-4320-95F0-F5982D2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6F64-6F30-45D3-A4A6-DB298371693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1D69-B61C-46DF-9729-90A77A4D817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32000" y="213372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第一次月考总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老师不在时，我们就像失去了一个支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我们就散漫起来了，包括我自己在内，晚自修寻找机会讲话诸如此类缺乏自制力的表现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——来自我班某同学的心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057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我不禁有一些悲哀。因为没有了老师的管理，班上的一部分同学纪律放松了，或多或小对认真学习的同学有些影响，有时竟在晚自习上看小说、报纸，真荒唐。还有我们宿舍还有部分同学也因缺少自制力，冒着被扣分的危险，晚上像开集会似的，声音很大，直到半夜，而第二天上课却在“钓鱼”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——来自某同学的心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333360"/>
            <a:ext cx="79218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老师不在时，我们是这样做的：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514600"/>
            <a:ext cx="2057400" cy="2514600"/>
          </a:xfrm>
          <a:prstGeom prst="wedgeEllipseCallout">
            <a:avLst>
              <a:gd name="adj1" fmla="val -32407"/>
              <a:gd name="adj2" fmla="val 6212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990800" cy="2362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00000" y="30718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终于发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057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学习缺乏自觉性和自律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895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学习不够勤奋；做表面文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733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学习有畏难情绪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学习中不敢请教老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没有合理安排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、学习缺乏钻研，易于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046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99"/>
                </a:solidFill>
                <a:latin typeface="Tahoma"/>
                <a:ea typeface="华文行楷"/>
              </a:rPr>
              <a:t>★</a:t>
            </a:r>
            <a:r>
              <a:rPr b="0" lang="zh-CN" sz="3200" spc="-1" strike="noStrike">
                <a:solidFill>
                  <a:srgbClr val="336699"/>
                </a:solidFill>
                <a:latin typeface="Tahoma"/>
                <a:ea typeface="华文行楷"/>
              </a:rPr>
              <a:t>我要学 我能学 我会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125360"/>
            <a:ext cx="6400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ahoma"/>
                <a:ea typeface="楷体_GB2312"/>
              </a:rPr>
              <a:t>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当我一步步的赶上并超过了那些原以为可望而不可及的学生时，回头看看，觉得他们和我一样普通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24280"/>
            <a:ext cx="82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▲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效的学习方法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他们在学习中也不是一开始就找到了高效的学习方法，而是在借鉴别人经验的基础上，大量的实践中，逐渐发展、调整和完善起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852640"/>
            <a:ext cx="4876920" cy="1152720"/>
          </a:xfrm>
          <a:prstGeom prst="cloudCallout">
            <a:avLst>
              <a:gd name="adj1" fmla="val -50782"/>
              <a:gd name="adj2" fmla="val 9531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真正使他们脱颖而出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Verdana"/>
                <a:ea typeface="华文彩云"/>
              </a:rPr>
              <a:t>高一学生均站在同一起跑线上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5791320" cy="4800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81480" y="3657600"/>
            <a:ext cx="3581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2565360"/>
            <a:ext cx="216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dddddd"/>
                </a:solidFill>
                <a:latin typeface="Arial"/>
              </a:rPr>
              <a:t>　人的潜能是无限的，谁都可以创造最后的辉煌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11600" y="2106720"/>
            <a:ext cx="9118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谁不停地奔跑谁就会最先到达终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666880" y="1828800"/>
            <a:ext cx="3810240" cy="3200400"/>
          </a:xfrm>
          <a:prstGeom prst="can">
            <a:avLst>
              <a:gd name="adj" fmla="val 25000"/>
            </a:avLst>
          </a:prstGeom>
          <a:solidFill>
            <a:srgbClr val="ccecff">
              <a:alpha val="50000"/>
            </a:srgbClr>
          </a:solidFill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63920" y="2751120"/>
            <a:ext cx="2327400" cy="224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86200" y="1066680"/>
            <a:ext cx="338040" cy="126864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507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219320"/>
            <a:ext cx="338400" cy="111600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048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600000">
            <a:off x="4800600" y="761760"/>
            <a:ext cx="338040" cy="164916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4752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914400"/>
            <a:ext cx="380880" cy="149688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3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200000">
            <a:off x="5409720" y="1143000"/>
            <a:ext cx="262080" cy="121932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048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46080" y="3462840"/>
            <a:ext cx="5288760" cy="3427200"/>
            <a:chOff x="1846080" y="3462840"/>
            <a:chExt cx="5288760" cy="3427200"/>
          </a:xfrm>
        </p:grpSpPr>
        <p:grpSp>
          <p:nvGrpSpPr>
            <p:cNvPr id="142" name=""/>
            <p:cNvGrpSpPr/>
            <p:nvPr/>
          </p:nvGrpSpPr>
          <p:grpSpPr>
            <a:xfrm>
              <a:off x="1846080" y="3462840"/>
              <a:ext cx="5288760" cy="3427200"/>
              <a:chOff x="1846080" y="3462840"/>
              <a:chExt cx="5288760" cy="3427200"/>
            </a:xfrm>
          </p:grpSpPr>
          <p:sp>
            <p:nvSpPr>
              <p:cNvPr id="143" name=""/>
              <p:cNvSpPr/>
              <p:nvPr/>
            </p:nvSpPr>
            <p:spPr>
              <a:xfrm rot="15360000">
                <a:off x="4583160" y="5177880"/>
                <a:ext cx="1490400" cy="1592280"/>
              </a:xfrm>
              <a:custGeom>
                <a:avLst/>
                <a:gdLst/>
                <a:ahLst/>
                <a:rect l="l" t="t" r="r" b="b"/>
                <a:pathLst>
                  <a:path w="939" h="1147">
                    <a:moveTo>
                      <a:pt x="0" y="863"/>
                    </a:moveTo>
                    <a:cubicBezTo>
                      <a:pt x="15" y="859"/>
                      <a:pt x="30" y="856"/>
                      <a:pt x="45" y="852"/>
                    </a:cubicBezTo>
                    <a:cubicBezTo>
                      <a:pt x="68" y="845"/>
                      <a:pt x="113" y="829"/>
                      <a:pt x="113" y="829"/>
                    </a:cubicBezTo>
                    <a:cubicBezTo>
                      <a:pt x="135" y="814"/>
                      <a:pt x="158" y="799"/>
                      <a:pt x="180" y="784"/>
                    </a:cubicBezTo>
                    <a:cubicBezTo>
                      <a:pt x="195" y="774"/>
                      <a:pt x="244" y="700"/>
                      <a:pt x="259" y="682"/>
                    </a:cubicBezTo>
                    <a:cubicBezTo>
                      <a:pt x="314" y="616"/>
                      <a:pt x="363" y="545"/>
                      <a:pt x="418" y="479"/>
                    </a:cubicBezTo>
                    <a:cubicBezTo>
                      <a:pt x="454" y="435"/>
                      <a:pt x="433" y="422"/>
                      <a:pt x="485" y="389"/>
                    </a:cubicBezTo>
                    <a:cubicBezTo>
                      <a:pt x="506" y="329"/>
                      <a:pt x="490" y="366"/>
                      <a:pt x="542" y="287"/>
                    </a:cubicBezTo>
                    <a:cubicBezTo>
                      <a:pt x="549" y="276"/>
                      <a:pt x="557" y="264"/>
                      <a:pt x="564" y="253"/>
                    </a:cubicBezTo>
                    <a:cubicBezTo>
                      <a:pt x="572" y="242"/>
                      <a:pt x="587" y="219"/>
                      <a:pt x="587" y="219"/>
                    </a:cubicBezTo>
                    <a:cubicBezTo>
                      <a:pt x="608" y="155"/>
                      <a:pt x="645" y="98"/>
                      <a:pt x="700" y="61"/>
                    </a:cubicBezTo>
                    <a:cubicBezTo>
                      <a:pt x="706" y="44"/>
                      <a:pt x="712" y="0"/>
                      <a:pt x="745" y="5"/>
                    </a:cubicBezTo>
                    <a:cubicBezTo>
                      <a:pt x="765" y="8"/>
                      <a:pt x="790" y="59"/>
                      <a:pt x="802" y="72"/>
                    </a:cubicBezTo>
                    <a:cubicBezTo>
                      <a:pt x="866" y="145"/>
                      <a:pt x="843" y="132"/>
                      <a:pt x="903" y="151"/>
                    </a:cubicBezTo>
                    <a:cubicBezTo>
                      <a:pt x="914" y="159"/>
                      <a:pt x="939" y="160"/>
                      <a:pt x="937" y="174"/>
                    </a:cubicBezTo>
                    <a:cubicBezTo>
                      <a:pt x="934" y="201"/>
                      <a:pt x="907" y="219"/>
                      <a:pt x="892" y="242"/>
                    </a:cubicBezTo>
                    <a:cubicBezTo>
                      <a:pt x="884" y="253"/>
                      <a:pt x="869" y="276"/>
                      <a:pt x="869" y="276"/>
                    </a:cubicBezTo>
                    <a:cubicBezTo>
                      <a:pt x="833" y="387"/>
                      <a:pt x="752" y="483"/>
                      <a:pt x="689" y="581"/>
                    </a:cubicBezTo>
                    <a:cubicBezTo>
                      <a:pt x="673" y="606"/>
                      <a:pt x="639" y="614"/>
                      <a:pt x="621" y="637"/>
                    </a:cubicBezTo>
                    <a:cubicBezTo>
                      <a:pt x="551" y="728"/>
                      <a:pt x="608" y="684"/>
                      <a:pt x="542" y="727"/>
                    </a:cubicBezTo>
                    <a:cubicBezTo>
                      <a:pt x="518" y="802"/>
                      <a:pt x="551" y="722"/>
                      <a:pt x="497" y="784"/>
                    </a:cubicBezTo>
                    <a:cubicBezTo>
                      <a:pt x="453" y="835"/>
                      <a:pt x="448" y="874"/>
                      <a:pt x="395" y="908"/>
                    </a:cubicBezTo>
                    <a:cubicBezTo>
                      <a:pt x="357" y="964"/>
                      <a:pt x="384" y="934"/>
                      <a:pt x="305" y="987"/>
                    </a:cubicBezTo>
                    <a:cubicBezTo>
                      <a:pt x="294" y="995"/>
                      <a:pt x="271" y="1010"/>
                      <a:pt x="271" y="1010"/>
                    </a:cubicBezTo>
                    <a:cubicBezTo>
                      <a:pt x="187" y="1136"/>
                      <a:pt x="257" y="1033"/>
                      <a:pt x="203" y="1111"/>
                    </a:cubicBezTo>
                    <a:cubicBezTo>
                      <a:pt x="195" y="1122"/>
                      <a:pt x="180" y="1145"/>
                      <a:pt x="180" y="1145"/>
                    </a:cubicBezTo>
                    <a:cubicBezTo>
                      <a:pt x="108" y="1127"/>
                      <a:pt x="144" y="1147"/>
                      <a:pt x="90" y="1066"/>
                    </a:cubicBezTo>
                    <a:cubicBezTo>
                      <a:pt x="82" y="1055"/>
                      <a:pt x="67" y="1032"/>
                      <a:pt x="67" y="1032"/>
                    </a:cubicBezTo>
                    <a:cubicBezTo>
                      <a:pt x="29" y="915"/>
                      <a:pt x="88" y="1086"/>
                      <a:pt x="34" y="965"/>
                    </a:cubicBezTo>
                    <a:cubicBezTo>
                      <a:pt x="30" y="955"/>
                      <a:pt x="7" y="885"/>
                      <a:pt x="0" y="863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780000">
                <a:off x="2555640" y="5181120"/>
                <a:ext cx="1676520" cy="1233720"/>
              </a:xfrm>
              <a:custGeom>
                <a:avLst/>
                <a:gdLst/>
                <a:ahLst/>
                <a:rect l="l" t="t" r="r" b="b"/>
                <a:pathLst>
                  <a:path w="1163" h="825">
                    <a:moveTo>
                      <a:pt x="383" y="339"/>
                    </a:moveTo>
                    <a:cubicBezTo>
                      <a:pt x="472" y="309"/>
                      <a:pt x="445" y="310"/>
                      <a:pt x="519" y="260"/>
                    </a:cubicBezTo>
                    <a:cubicBezTo>
                      <a:pt x="617" y="116"/>
                      <a:pt x="838" y="32"/>
                      <a:pt x="1005" y="0"/>
                    </a:cubicBezTo>
                    <a:cubicBezTo>
                      <a:pt x="1078" y="9"/>
                      <a:pt x="1106" y="8"/>
                      <a:pt x="1163" y="45"/>
                    </a:cubicBezTo>
                    <a:cubicBezTo>
                      <a:pt x="1156" y="92"/>
                      <a:pt x="1162" y="124"/>
                      <a:pt x="1129" y="158"/>
                    </a:cubicBezTo>
                    <a:cubicBezTo>
                      <a:pt x="1103" y="185"/>
                      <a:pt x="1027" y="203"/>
                      <a:pt x="1027" y="203"/>
                    </a:cubicBezTo>
                    <a:cubicBezTo>
                      <a:pt x="1016" y="211"/>
                      <a:pt x="1005" y="220"/>
                      <a:pt x="993" y="226"/>
                    </a:cubicBezTo>
                    <a:cubicBezTo>
                      <a:pt x="982" y="231"/>
                      <a:pt x="969" y="230"/>
                      <a:pt x="959" y="237"/>
                    </a:cubicBezTo>
                    <a:cubicBezTo>
                      <a:pt x="880" y="290"/>
                      <a:pt x="966" y="250"/>
                      <a:pt x="903" y="305"/>
                    </a:cubicBezTo>
                    <a:cubicBezTo>
                      <a:pt x="864" y="339"/>
                      <a:pt x="810" y="366"/>
                      <a:pt x="767" y="395"/>
                    </a:cubicBezTo>
                    <a:cubicBezTo>
                      <a:pt x="720" y="427"/>
                      <a:pt x="649" y="490"/>
                      <a:pt x="598" y="508"/>
                    </a:cubicBezTo>
                    <a:cubicBezTo>
                      <a:pt x="587" y="512"/>
                      <a:pt x="574" y="514"/>
                      <a:pt x="564" y="520"/>
                    </a:cubicBezTo>
                    <a:cubicBezTo>
                      <a:pt x="452" y="583"/>
                      <a:pt x="537" y="552"/>
                      <a:pt x="462" y="576"/>
                    </a:cubicBezTo>
                    <a:cubicBezTo>
                      <a:pt x="372" y="636"/>
                      <a:pt x="410" y="599"/>
                      <a:pt x="350" y="689"/>
                    </a:cubicBezTo>
                    <a:cubicBezTo>
                      <a:pt x="327" y="723"/>
                      <a:pt x="282" y="734"/>
                      <a:pt x="248" y="757"/>
                    </a:cubicBezTo>
                    <a:cubicBezTo>
                      <a:pt x="225" y="772"/>
                      <a:pt x="206" y="793"/>
                      <a:pt x="180" y="802"/>
                    </a:cubicBezTo>
                    <a:cubicBezTo>
                      <a:pt x="157" y="810"/>
                      <a:pt x="112" y="825"/>
                      <a:pt x="112" y="825"/>
                    </a:cubicBezTo>
                    <a:cubicBezTo>
                      <a:pt x="97" y="821"/>
                      <a:pt x="79" y="823"/>
                      <a:pt x="67" y="813"/>
                    </a:cubicBezTo>
                    <a:cubicBezTo>
                      <a:pt x="58" y="805"/>
                      <a:pt x="61" y="790"/>
                      <a:pt x="56" y="779"/>
                    </a:cubicBezTo>
                    <a:cubicBezTo>
                      <a:pt x="50" y="767"/>
                      <a:pt x="41" y="757"/>
                      <a:pt x="33" y="746"/>
                    </a:cubicBezTo>
                    <a:cubicBezTo>
                      <a:pt x="0" y="645"/>
                      <a:pt x="26" y="563"/>
                      <a:pt x="124" y="531"/>
                    </a:cubicBezTo>
                    <a:cubicBezTo>
                      <a:pt x="145" y="510"/>
                      <a:pt x="170" y="496"/>
                      <a:pt x="191" y="475"/>
                    </a:cubicBezTo>
                    <a:cubicBezTo>
                      <a:pt x="201" y="465"/>
                      <a:pt x="204" y="450"/>
                      <a:pt x="214" y="441"/>
                    </a:cubicBezTo>
                    <a:cubicBezTo>
                      <a:pt x="235" y="423"/>
                      <a:pt x="259" y="410"/>
                      <a:pt x="282" y="395"/>
                    </a:cubicBezTo>
                    <a:cubicBezTo>
                      <a:pt x="322" y="368"/>
                      <a:pt x="383" y="392"/>
                      <a:pt x="383" y="339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940000">
                <a:off x="5229720" y="5250960"/>
                <a:ext cx="1814400" cy="1066680"/>
              </a:xfrm>
              <a:custGeom>
                <a:avLst/>
                <a:gdLst/>
                <a:ahLst/>
                <a:rect l="l" t="t" r="r" b="b"/>
                <a:pathLst>
                  <a:path w="1163" h="825">
                    <a:moveTo>
                      <a:pt x="383" y="339"/>
                    </a:moveTo>
                    <a:cubicBezTo>
                      <a:pt x="472" y="309"/>
                      <a:pt x="445" y="310"/>
                      <a:pt x="519" y="260"/>
                    </a:cubicBezTo>
                    <a:cubicBezTo>
                      <a:pt x="617" y="116"/>
                      <a:pt x="838" y="32"/>
                      <a:pt x="1005" y="0"/>
                    </a:cubicBezTo>
                    <a:cubicBezTo>
                      <a:pt x="1078" y="9"/>
                      <a:pt x="1106" y="8"/>
                      <a:pt x="1163" y="45"/>
                    </a:cubicBezTo>
                    <a:cubicBezTo>
                      <a:pt x="1156" y="92"/>
                      <a:pt x="1162" y="124"/>
                      <a:pt x="1129" y="158"/>
                    </a:cubicBezTo>
                    <a:cubicBezTo>
                      <a:pt x="1103" y="185"/>
                      <a:pt x="1027" y="203"/>
                      <a:pt x="1027" y="203"/>
                    </a:cubicBezTo>
                    <a:cubicBezTo>
                      <a:pt x="1016" y="211"/>
                      <a:pt x="1005" y="220"/>
                      <a:pt x="993" y="226"/>
                    </a:cubicBezTo>
                    <a:cubicBezTo>
                      <a:pt x="982" y="231"/>
                      <a:pt x="969" y="230"/>
                      <a:pt x="959" y="237"/>
                    </a:cubicBezTo>
                    <a:cubicBezTo>
                      <a:pt x="880" y="290"/>
                      <a:pt x="966" y="250"/>
                      <a:pt x="903" y="305"/>
                    </a:cubicBezTo>
                    <a:cubicBezTo>
                      <a:pt x="864" y="339"/>
                      <a:pt x="810" y="366"/>
                      <a:pt x="767" y="395"/>
                    </a:cubicBezTo>
                    <a:cubicBezTo>
                      <a:pt x="720" y="427"/>
                      <a:pt x="649" y="490"/>
                      <a:pt x="598" y="508"/>
                    </a:cubicBezTo>
                    <a:cubicBezTo>
                      <a:pt x="587" y="512"/>
                      <a:pt x="574" y="514"/>
                      <a:pt x="564" y="520"/>
                    </a:cubicBezTo>
                    <a:cubicBezTo>
                      <a:pt x="452" y="583"/>
                      <a:pt x="537" y="552"/>
                      <a:pt x="462" y="576"/>
                    </a:cubicBezTo>
                    <a:cubicBezTo>
                      <a:pt x="372" y="636"/>
                      <a:pt x="410" y="599"/>
                      <a:pt x="350" y="689"/>
                    </a:cubicBezTo>
                    <a:cubicBezTo>
                      <a:pt x="327" y="723"/>
                      <a:pt x="282" y="734"/>
                      <a:pt x="248" y="757"/>
                    </a:cubicBezTo>
                    <a:cubicBezTo>
                      <a:pt x="225" y="772"/>
                      <a:pt x="206" y="793"/>
                      <a:pt x="180" y="802"/>
                    </a:cubicBezTo>
                    <a:cubicBezTo>
                      <a:pt x="157" y="810"/>
                      <a:pt x="112" y="825"/>
                      <a:pt x="112" y="825"/>
                    </a:cubicBezTo>
                    <a:cubicBezTo>
                      <a:pt x="97" y="821"/>
                      <a:pt x="79" y="823"/>
                      <a:pt x="67" y="813"/>
                    </a:cubicBezTo>
                    <a:cubicBezTo>
                      <a:pt x="58" y="805"/>
                      <a:pt x="61" y="790"/>
                      <a:pt x="56" y="779"/>
                    </a:cubicBezTo>
                    <a:cubicBezTo>
                      <a:pt x="50" y="767"/>
                      <a:pt x="41" y="757"/>
                      <a:pt x="33" y="746"/>
                    </a:cubicBezTo>
                    <a:cubicBezTo>
                      <a:pt x="0" y="645"/>
                      <a:pt x="26" y="563"/>
                      <a:pt x="124" y="531"/>
                    </a:cubicBezTo>
                    <a:cubicBezTo>
                      <a:pt x="145" y="510"/>
                      <a:pt x="170" y="496"/>
                      <a:pt x="191" y="475"/>
                    </a:cubicBezTo>
                    <a:cubicBezTo>
                      <a:pt x="201" y="465"/>
                      <a:pt x="204" y="450"/>
                      <a:pt x="214" y="441"/>
                    </a:cubicBezTo>
                    <a:cubicBezTo>
                      <a:pt x="235" y="423"/>
                      <a:pt x="259" y="410"/>
                      <a:pt x="282" y="395"/>
                    </a:cubicBezTo>
                    <a:cubicBezTo>
                      <a:pt x="322" y="368"/>
                      <a:pt x="383" y="392"/>
                      <a:pt x="383" y="339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300000">
                <a:off x="3317760" y="4419360"/>
                <a:ext cx="1425600" cy="143820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40000">
                <a:off x="5680440" y="4191120"/>
                <a:ext cx="838080" cy="137160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9380000">
                <a:off x="2556000" y="3428640"/>
                <a:ext cx="762120" cy="261468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220000">
                <a:off x="4689360" y="4343040"/>
                <a:ext cx="1143000" cy="168588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160000">
                <a:off x="5744880" y="4723920"/>
                <a:ext cx="544680" cy="752760"/>
              </a:xfrm>
              <a:custGeom>
                <a:avLst/>
                <a:gdLst/>
                <a:ahLst/>
                <a:rect l="l" t="t" r="r" b="b"/>
                <a:pathLst>
                  <a:path w="343" h="666">
                    <a:moveTo>
                      <a:pt x="75" y="113"/>
                    </a:moveTo>
                    <a:cubicBezTo>
                      <a:pt x="111" y="260"/>
                      <a:pt x="0" y="596"/>
                      <a:pt x="210" y="666"/>
                    </a:cubicBezTo>
                    <a:cubicBezTo>
                      <a:pt x="230" y="660"/>
                      <a:pt x="266" y="651"/>
                      <a:pt x="278" y="632"/>
                    </a:cubicBezTo>
                    <a:cubicBezTo>
                      <a:pt x="291" y="612"/>
                      <a:pt x="293" y="587"/>
                      <a:pt x="301" y="565"/>
                    </a:cubicBezTo>
                    <a:cubicBezTo>
                      <a:pt x="309" y="541"/>
                      <a:pt x="327" y="521"/>
                      <a:pt x="335" y="497"/>
                    </a:cubicBezTo>
                    <a:cubicBezTo>
                      <a:pt x="327" y="380"/>
                      <a:pt x="343" y="340"/>
                      <a:pt x="289" y="260"/>
                    </a:cubicBezTo>
                    <a:cubicBezTo>
                      <a:pt x="277" y="223"/>
                      <a:pt x="250" y="186"/>
                      <a:pt x="222" y="158"/>
                    </a:cubicBezTo>
                    <a:cubicBezTo>
                      <a:pt x="158" y="93"/>
                      <a:pt x="217" y="183"/>
                      <a:pt x="154" y="102"/>
                    </a:cubicBezTo>
                    <a:cubicBezTo>
                      <a:pt x="110" y="46"/>
                      <a:pt x="115" y="50"/>
                      <a:pt x="97" y="0"/>
                    </a:cubicBezTo>
                    <a:cubicBezTo>
                      <a:pt x="67" y="46"/>
                      <a:pt x="62" y="59"/>
                      <a:pt x="75" y="113"/>
                    </a:cubicBezTo>
                    <a:close/>
                  </a:path>
                </a:pathLst>
              </a:custGeom>
              <a:solidFill>
                <a:srgbClr val="ff6600"/>
              </a:solidFill>
              <a:ln w="60480">
                <a:solidFill>
                  <a:srgbClr val="ff99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280000">
                <a:off x="4716720" y="5082840"/>
                <a:ext cx="696960" cy="860400"/>
              </a:xfrm>
              <a:custGeom>
                <a:avLst/>
                <a:gdLst/>
                <a:ahLst/>
                <a:rect l="l" t="t" r="r" b="b"/>
                <a:pathLst>
                  <a:path w="343" h="666">
                    <a:moveTo>
                      <a:pt x="75" y="113"/>
                    </a:moveTo>
                    <a:cubicBezTo>
                      <a:pt x="111" y="260"/>
                      <a:pt x="0" y="596"/>
                      <a:pt x="210" y="666"/>
                    </a:cubicBezTo>
                    <a:cubicBezTo>
                      <a:pt x="230" y="660"/>
                      <a:pt x="266" y="651"/>
                      <a:pt x="278" y="632"/>
                    </a:cubicBezTo>
                    <a:cubicBezTo>
                      <a:pt x="291" y="612"/>
                      <a:pt x="293" y="587"/>
                      <a:pt x="301" y="565"/>
                    </a:cubicBezTo>
                    <a:cubicBezTo>
                      <a:pt x="309" y="541"/>
                      <a:pt x="327" y="521"/>
                      <a:pt x="335" y="497"/>
                    </a:cubicBezTo>
                    <a:cubicBezTo>
                      <a:pt x="327" y="380"/>
                      <a:pt x="343" y="340"/>
                      <a:pt x="289" y="260"/>
                    </a:cubicBezTo>
                    <a:cubicBezTo>
                      <a:pt x="277" y="223"/>
                      <a:pt x="250" y="186"/>
                      <a:pt x="222" y="158"/>
                    </a:cubicBezTo>
                    <a:cubicBezTo>
                      <a:pt x="158" y="93"/>
                      <a:pt x="217" y="183"/>
                      <a:pt x="154" y="102"/>
                    </a:cubicBezTo>
                    <a:cubicBezTo>
                      <a:pt x="110" y="46"/>
                      <a:pt x="115" y="50"/>
                      <a:pt x="97" y="0"/>
                    </a:cubicBezTo>
                    <a:cubicBezTo>
                      <a:pt x="67" y="46"/>
                      <a:pt x="62" y="59"/>
                      <a:pt x="75" y="113"/>
                    </a:cubicBezTo>
                    <a:close/>
                  </a:path>
                </a:pathLst>
              </a:custGeom>
              <a:solidFill>
                <a:srgbClr val="ff6600"/>
              </a:solidFill>
              <a:ln w="60480">
                <a:solidFill>
                  <a:srgbClr val="ff99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rot="20340000">
              <a:off x="2916000" y="4509720"/>
              <a:ext cx="544320" cy="1056960"/>
            </a:xfrm>
            <a:custGeom>
              <a:avLst/>
              <a:gdLst/>
              <a:ahLst/>
              <a:rect l="l" t="t" r="r" b="b"/>
              <a:pathLst>
                <a:path w="343" h="666">
                  <a:moveTo>
                    <a:pt x="75" y="113"/>
                  </a:moveTo>
                  <a:cubicBezTo>
                    <a:pt x="111" y="260"/>
                    <a:pt x="0" y="596"/>
                    <a:pt x="210" y="666"/>
                  </a:cubicBezTo>
                  <a:cubicBezTo>
                    <a:pt x="230" y="660"/>
                    <a:pt x="266" y="651"/>
                    <a:pt x="278" y="632"/>
                  </a:cubicBezTo>
                  <a:cubicBezTo>
                    <a:pt x="291" y="612"/>
                    <a:pt x="293" y="587"/>
                    <a:pt x="301" y="565"/>
                  </a:cubicBezTo>
                  <a:cubicBezTo>
                    <a:pt x="309" y="541"/>
                    <a:pt x="327" y="521"/>
                    <a:pt x="335" y="497"/>
                  </a:cubicBezTo>
                  <a:cubicBezTo>
                    <a:pt x="327" y="380"/>
                    <a:pt x="343" y="340"/>
                    <a:pt x="289" y="260"/>
                  </a:cubicBezTo>
                  <a:cubicBezTo>
                    <a:pt x="277" y="223"/>
                    <a:pt x="250" y="186"/>
                    <a:pt x="222" y="158"/>
                  </a:cubicBezTo>
                  <a:cubicBezTo>
                    <a:pt x="158" y="93"/>
                    <a:pt x="217" y="183"/>
                    <a:pt x="154" y="102"/>
                  </a:cubicBezTo>
                  <a:cubicBezTo>
                    <a:pt x="110" y="46"/>
                    <a:pt x="115" y="50"/>
                    <a:pt x="97" y="0"/>
                  </a:cubicBezTo>
                  <a:cubicBezTo>
                    <a:pt x="67" y="46"/>
                    <a:pt x="62" y="59"/>
                    <a:pt x="75" y="113"/>
                  </a:cubicBezTo>
                  <a:close/>
                </a:path>
              </a:pathLst>
            </a:custGeom>
            <a:solidFill>
              <a:srgbClr val="ff6600"/>
            </a:solidFill>
            <a:ln w="60480">
              <a:solidFill>
                <a:srgbClr val="ff99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480000">
              <a:off x="3708360" y="4941360"/>
              <a:ext cx="863640" cy="615960"/>
            </a:xfrm>
            <a:custGeom>
              <a:avLst/>
              <a:gdLst/>
              <a:ahLst/>
              <a:rect l="l" t="t" r="r" b="b"/>
              <a:pathLst>
                <a:path w="343" h="666">
                  <a:moveTo>
                    <a:pt x="75" y="113"/>
                  </a:moveTo>
                  <a:cubicBezTo>
                    <a:pt x="111" y="260"/>
                    <a:pt x="0" y="596"/>
                    <a:pt x="210" y="666"/>
                  </a:cubicBezTo>
                  <a:cubicBezTo>
                    <a:pt x="230" y="660"/>
                    <a:pt x="266" y="651"/>
                    <a:pt x="278" y="632"/>
                  </a:cubicBezTo>
                  <a:cubicBezTo>
                    <a:pt x="291" y="612"/>
                    <a:pt x="293" y="587"/>
                    <a:pt x="301" y="565"/>
                  </a:cubicBezTo>
                  <a:cubicBezTo>
                    <a:pt x="309" y="541"/>
                    <a:pt x="327" y="521"/>
                    <a:pt x="335" y="497"/>
                  </a:cubicBezTo>
                  <a:cubicBezTo>
                    <a:pt x="327" y="380"/>
                    <a:pt x="343" y="340"/>
                    <a:pt x="289" y="260"/>
                  </a:cubicBezTo>
                  <a:cubicBezTo>
                    <a:pt x="277" y="223"/>
                    <a:pt x="250" y="186"/>
                    <a:pt x="222" y="158"/>
                  </a:cubicBezTo>
                  <a:cubicBezTo>
                    <a:pt x="158" y="93"/>
                    <a:pt x="217" y="183"/>
                    <a:pt x="154" y="102"/>
                  </a:cubicBezTo>
                  <a:cubicBezTo>
                    <a:pt x="110" y="46"/>
                    <a:pt x="115" y="50"/>
                    <a:pt x="97" y="0"/>
                  </a:cubicBezTo>
                  <a:cubicBezTo>
                    <a:pt x="67" y="46"/>
                    <a:pt x="62" y="59"/>
                    <a:pt x="75" y="113"/>
                  </a:cubicBezTo>
                  <a:close/>
                </a:path>
              </a:pathLst>
            </a:custGeom>
            <a:solidFill>
              <a:srgbClr val="ff6600"/>
            </a:solidFill>
            <a:ln w="60480">
              <a:solidFill>
                <a:srgbClr val="ff99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noFill/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4290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819520"/>
            <a:ext cx="30492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14800"/>
            <a:ext cx="152640" cy="228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44956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911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0481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8195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3440" y="9144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行楷"/>
              </a:rPr>
              <a:t>青蛙的故事告诉我们什么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青蛙的故事告诉我们什么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每个人身上，都免不了有一些根深蒂固的坏习惯，它们并不是突然形成的，而是随着时间的推移逐步养成，甚至我们自己都没有注意到它的存在。这无疑再次说明，有目的地生活是多么重要。我们完全可以选择改变某些不好的习惯，而培养一些良好的习惯。但是，更多时候，我们却选择了“不选择”，随波逐流，随遇而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心！或许，你就是那只即将被煮熟的“冷水中的青蛙”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617220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470000" y="762120"/>
            <a:ext cx="75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一定要让孩子上学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077320" cy="5229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66680" y="56386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一定要好好学习，我要走出去，我要改变家乡落后的面貌！我要让我的父母过上好日子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5330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9933"/>
                </a:solidFill>
                <a:latin typeface="Verdana"/>
              </a:rPr>
              <a:t>我一定要好好学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7620120" cy="6172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们的小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228600"/>
            <a:ext cx="7621560" cy="6369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54864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要走向世界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08720" cy="6857640"/>
        </p:xfrm>
        <a:graphic>
          <a:graphicData uri="http://schemas.openxmlformats.org/drawingml/2006/table">
            <a:tbl>
              <a:tblPr/>
              <a:tblGrid>
                <a:gridCol w="740520"/>
                <a:gridCol w="862560"/>
                <a:gridCol w="862200"/>
                <a:gridCol w="864000"/>
                <a:gridCol w="862920"/>
                <a:gridCol w="862560"/>
                <a:gridCol w="864000"/>
                <a:gridCol w="862920"/>
                <a:gridCol w="834120"/>
                <a:gridCol w="14929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8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8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0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6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2.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6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8548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教室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8001000" cy="4952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66680" y="5334120"/>
            <a:ext cx="6782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5627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高中生在吃什么？他们在想什么？这两个同学在饭里找什么？他们中为什么没有少男少女的打情骂俏？正是在这里，走出了高达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的两院院士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就餐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8076960" cy="5645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5877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睡觉前，再把今天学的功课看看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寝室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467480" cy="5118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47640" y="5877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孩子的学费怎么办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620120" cy="5105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42920" y="58770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不能不上学！我要减轻父母的负担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17200" y="304920"/>
            <a:ext cx="17780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9933"/>
                </a:solidFill>
                <a:latin typeface="Verdana"/>
              </a:rPr>
              <a:t>打工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们缺什么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生于忧患，死于安乐。太舒适的环境是我们养成了贪图享受、不愿吃苦的坏毛病。高考是没有硝烟的战争，虽然不需要流血牺牲，但却需要付出汗水和辛劳。高中了，我们必须时时注意，时刻警醒，未雨绸缪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缺什么？责任心、吃苦精神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了最后的微笑—挑战自我，开发自身潜力。今后的胜利，我们必须奋勇拼搏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机遇和鲜花只垂青于那些具有远大志向，奋勇拼搏的人。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成绩暂时落后的同学怎么办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54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三只青蛙掉进鲜奶桶中。第一只青蛙说：“这是命。”于是它盘起后腿，一动不动等待着死亡的降临。第二只青蛙说：“这桶看来太深了，凭我的跳跃能力，是不可能跳出去了。今天死定了。”于是，它沉入桶底淹死了。第三只青蛙打量着四周说：“真是不幸！但我的后腿还有劲，我要找到垫脚的东西，跳出这可怕的桶？”于是，这第三只青蛙一边划一边跳。慢慢地，鲜奶在它的搅拌下变成了奶油块。在奶油块的支撑下，运用牛顿第三定律，这只青蛙奋力一跃，终于跳出了奶桶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启示：今天不行我明天行，明天不行我后天行，最后胜利一定属于我们！前进才是硬道理，奋勇拼搏才是硬道理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</a:rPr>
              <a:t> ，科学应考才是硬道理！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们缺什么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生于忧患，死于安乐。太舒适的环境是我们养成了贪图享受、不愿吃苦的坏毛病。高考是没有硝烟的战争，虽然不需要流血牺牲，但却需要付出汗水和辛劳。高中了，我们必须时时注意，时刻警醒，未雨绸缪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缺什么？责任心、吃苦精神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了最后的微笑—挑战自我，开发自身潜力。今后的胜利，我们必须奋勇拼搏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机遇和鲜花只垂青于那些具有远大志向，奋勇拼搏的人。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忠言逆耳利于行——成功者的忠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独学而无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则孤陋而寡闻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不喜欢老师的同学是很难进步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错误的概念和方法是非常顽固的，非一次校正就能改正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学习具有计划性规律性的同学会学得更好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教室安静才能独立思考。限时练习才能提高效率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心情愉快才能学得更好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闲事闲话闲思是学习的大敌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不要被失败吓倒，不要被胜利冲昏头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如何营造正确的学习风气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看小自己，做大事情。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从今以后不要说“重点班”这个字眼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摆正位置，放平心态，知耻而后勇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树立正气，杜绝不良思想的蔓延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坚决打击上课、自修聊天无所事事的行为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严厉关注并处理课间疯闹乱窜的行为，尤其“出挑”的男女生言行举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加强班级干部的监管力度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全校前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30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名学生分布情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052640"/>
          <a:ext cx="9036000" cy="5848200"/>
        </p:xfrm>
        <a:graphic>
          <a:graphicData uri="http://schemas.openxmlformats.org/drawingml/2006/table">
            <a:tbl>
              <a:tblPr/>
              <a:tblGrid>
                <a:gridCol w="1619280"/>
                <a:gridCol w="1152360"/>
                <a:gridCol w="1224000"/>
                <a:gridCol w="1081080"/>
                <a:gridCol w="1295640"/>
                <a:gridCol w="1295280"/>
                <a:gridCol w="13683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班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635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去想是否能够成功，既然选择了远方，便只顾风雨兼程。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去想未来是平坦还是泥泞，只要热爱生命，一切，都在意料之中。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692280"/>
          <a:ext cx="9144000" cy="6048360"/>
        </p:xfrm>
        <a:graphic>
          <a:graphicData uri="http://schemas.openxmlformats.org/drawingml/2006/table">
            <a:tbl>
              <a:tblPr/>
              <a:tblGrid>
                <a:gridCol w="1763640"/>
                <a:gridCol w="1368360"/>
                <a:gridCol w="863640"/>
                <a:gridCol w="863640"/>
                <a:gridCol w="865080"/>
                <a:gridCol w="935280"/>
                <a:gridCol w="936720"/>
                <a:gridCol w="863280"/>
                <a:gridCol w="68436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班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最高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4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6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0" y="708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87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各班级分数段分布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9280" y="2997360"/>
          <a:ext cx="8964720" cy="1888920"/>
        </p:xfrm>
        <a:graphic>
          <a:graphicData uri="http://schemas.openxmlformats.org/drawingml/2006/table">
            <a:tbl>
              <a:tblPr/>
              <a:tblGrid>
                <a:gridCol w="701640"/>
                <a:gridCol w="698400"/>
                <a:gridCol w="701640"/>
                <a:gridCol w="698760"/>
                <a:gridCol w="723960"/>
                <a:gridCol w="722160"/>
                <a:gridCol w="722160"/>
                <a:gridCol w="755640"/>
                <a:gridCol w="792360"/>
                <a:gridCol w="762120"/>
                <a:gridCol w="842760"/>
                <a:gridCol w="843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809000" y="90792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全校共有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750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名同学参加考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班级名次分布如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班级学风情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一、缺少浓烈的竞争氛围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上课不能集中精力，甚至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聊天讲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吃零食、睡觉，不能认真记笔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自修课学习效率相当低，有些同学装模作样，没有目标，不能入境。（尤其没有老师的时候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课间很少有同学问问题（课堂上疑难题），热情不高，自修课借问题闲聊，效率大减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班级学风情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能很好的支配课余时间（晚饭后读报课前），要在这个时间背诵文科或看理科例题公式或整理课堂笔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课后作业应付了事，蒙混过关，不能严格要求自己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不能很好的把握休息时间（午睡），使得自己学得很累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缺少自觉意识，自控能力差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班级学风情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二、行为散漫随便，心态不稳定，杂念太多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学习重心偏移，把处理同学关系，交往放在第一位，甚至有的同学心理上有不好的想法，思想严重堕落（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谈恋爱、玩游戏、看课外书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课间乱窜，追逐打闹，没有学生的样子，甚至有不雅的动作，显得特别乱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自修课做完作业后没有目标，东一头西一头。无计划性、无紧迫感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2193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们的不足之处在哪里呢？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2:10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1:00Z</dcterms:modified>
  <cp:revision>285</cp:revision>
  <dc:subject>主题班会课件(分28大类): http://shop62905894.taobao.com</dc:subject>
  <dc:title>主题班会课件(分28大类): http://shop62905894.taobao.com</dc:title>
</cp:coreProperties>
</file>