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chimes.wav" ContentType="audio/x-wav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3A1-0563-4D76-875B-5EEB547F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D21-5020-4C9F-9637-594C310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12B-D6EF-46BE-AFC5-5325D4B3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6A0-CA55-4D20-8795-0F8F1F02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4CC0-4E7A-4D03-8ABD-754B7420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89C2-0FE8-4DEC-A945-C1575100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334E-D1B5-4E81-8165-56BF0104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D912-00EC-40CC-B47B-A92B6316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25A1-4C72-45D7-90A6-FAA1E94A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1555-5BCB-4286-A430-B8278225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89E0-5342-466B-A2E2-22E8D2E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366-31B9-4DF3-809E-A15F275C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3717-DE97-476A-B9A0-D5B28E6D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1863-8315-47B4-B28D-5F98ABAE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5FE5-410A-4C53-A80F-275CF181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1826-227B-4F04-8865-2AB4C7E0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C775-B7BE-4712-9716-48CB2773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1986-B53D-4984-B4DE-899CF9D4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4D81A-8201-4FAB-A9F8-8D6DCBF4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FA37-81F8-4C8E-B2A5-683CFCC8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97A5-732D-4B2E-BBB2-3AA0D252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9B07-D3CC-468D-AD4D-0830E954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FAF-2C8F-4ECA-850C-DF46EE58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C218-8990-4D71-9FB3-5E73DFEF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6519-B725-4FFB-82FF-CF5A6A1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9FD7-7B07-4E69-BCE4-822B92C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3073-67DB-4046-95B6-0719026A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4BB89-6D7E-4043-8E1C-C7E63A81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76BF-1F0B-4B6E-BD0C-26DB3674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9390-5E88-458F-A2E8-C58A4C0A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D36-0FAF-4FC6-8DC5-A9F0BBE9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49F-F287-40A9-8B22-CEBBBAED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159-C10F-42D6-A1C3-F8983231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9B2-E507-43A8-8675-9E16C165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099-EF53-4261-A638-660699D6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E1D-76D8-408A-B8A5-C00511E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4BDF-C28A-47D4-BEC5-266AF2037C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BA11-A7F8-4EB5-8601-3B20D1ED84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3677-7C75-4027-8C63-569F33FFBB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5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6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5">
              <a:lum bright="24000"/>
            </a:blip>
            <a:stretch/>
          </p:blipFill>
          <p:spPr>
            <a:xfrm>
              <a:off x="0" y="0"/>
              <a:ext cx="2514600" cy="15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6"/>
            <a:stretch/>
          </p:blipFill>
          <p:spPr>
            <a:xfrm>
              <a:off x="5256360" y="501336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7"/>
            <a:stretch/>
          </p:blipFill>
          <p:spPr>
            <a:xfrm>
              <a:off x="3527280" y="12682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" descr=""/>
            <p:cNvPicPr/>
            <p:nvPr/>
          </p:nvPicPr>
          <p:blipFill>
            <a:blip r:embed="rId8"/>
            <a:stretch/>
          </p:blipFill>
          <p:spPr>
            <a:xfrm>
              <a:off x="611280" y="400536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9"/>
            <a:stretch/>
          </p:blipFill>
          <p:spPr>
            <a:xfrm>
              <a:off x="7704000" y="836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10"/>
            <a:stretch/>
          </p:blipFill>
          <p:spPr>
            <a:xfrm>
              <a:off x="2590920" y="49402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3" name=""/>
          <p:cNvGrpSpPr/>
          <p:nvPr/>
        </p:nvGrpSpPr>
        <p:grpSpPr>
          <a:xfrm>
            <a:off x="-252360" y="2266920"/>
            <a:ext cx="21070080" cy="2456640"/>
            <a:chOff x="-252360" y="2266920"/>
            <a:chExt cx="21070080" cy="2456640"/>
          </a:xfrm>
        </p:grpSpPr>
        <p:grpSp>
          <p:nvGrpSpPr>
            <p:cNvPr id="554" name=""/>
            <p:cNvGrpSpPr/>
            <p:nvPr/>
          </p:nvGrpSpPr>
          <p:grpSpPr>
            <a:xfrm>
              <a:off x="-133920" y="2266920"/>
              <a:ext cx="20951640" cy="2019960"/>
              <a:chOff x="-133920" y="2266920"/>
              <a:chExt cx="20951640" cy="2019960"/>
            </a:xfrm>
          </p:grpSpPr>
          <p:sp>
            <p:nvSpPr>
              <p:cNvPr id="555" name=""/>
              <p:cNvSpPr/>
              <p:nvPr/>
            </p:nvSpPr>
            <p:spPr>
              <a:xfrm>
                <a:off x="-133920" y="2276640"/>
                <a:ext cx="20951640" cy="201024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0" bIns="298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743480" y="2266920"/>
                <a:ext cx="6055920" cy="144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0" bIns="298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0066"/>
                    </a:solidFill>
                    <a:latin typeface="华文行楷"/>
                    <a:ea typeface="华文行楷"/>
                  </a:rPr>
                  <a:t>欢迎领导同仁来我们班指导</a:t>
                </a:r>
                <a:r>
                  <a:rPr b="0" lang="zh-CN" sz="6000" spc="-1" strike="noStrike">
                    <a:solidFill>
                      <a:srgbClr val="ff0066"/>
                    </a:solidFill>
                    <a:latin typeface="华文行楷"/>
                    <a:ea typeface="华文行楷"/>
                  </a:rPr>
                  <a:t>!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7" name="" descr=""/>
            <p:cNvPicPr/>
            <p:nvPr/>
          </p:nvPicPr>
          <p:blipFill>
            <a:blip r:embed="rId11"/>
            <a:stretch/>
          </p:blipFill>
          <p:spPr>
            <a:xfrm>
              <a:off x="-252360" y="2402640"/>
              <a:ext cx="1133640" cy="14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12"/>
            <a:stretch/>
          </p:blipFill>
          <p:spPr>
            <a:xfrm>
              <a:off x="3676320" y="2402640"/>
              <a:ext cx="1133640" cy="14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" descr=""/>
            <p:cNvPicPr/>
            <p:nvPr/>
          </p:nvPicPr>
          <p:blipFill>
            <a:blip r:embed="rId13"/>
            <a:stretch/>
          </p:blipFill>
          <p:spPr>
            <a:xfrm>
              <a:off x="6891120" y="2713320"/>
              <a:ext cx="1133640" cy="14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14"/>
            <a:stretch/>
          </p:blipFill>
          <p:spPr>
            <a:xfrm>
              <a:off x="9447120" y="2866320"/>
              <a:ext cx="1133640" cy="14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15"/>
            <a:stretch/>
          </p:blipFill>
          <p:spPr>
            <a:xfrm>
              <a:off x="14627160" y="2866320"/>
              <a:ext cx="1133640" cy="14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16"/>
            <a:stretch/>
          </p:blipFill>
          <p:spPr>
            <a:xfrm>
              <a:off x="18912600" y="3251520"/>
              <a:ext cx="1133640" cy="147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3" name=""/>
          <p:cNvSpPr/>
          <p:nvPr/>
        </p:nvSpPr>
        <p:spPr>
          <a:xfrm>
            <a:off x="1600200" y="518148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7"/>
          <a:stretch/>
        </p:blipFill>
        <p:spPr>
          <a:xfrm>
            <a:off x="5410080" y="731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8"/>
          <a:stretch/>
        </p:blipFill>
        <p:spPr>
          <a:xfrm>
            <a:off x="4800600" y="7543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9"/>
          <a:stretch/>
        </p:blipFill>
        <p:spPr>
          <a:xfrm>
            <a:off x="304920" y="6095880"/>
            <a:ext cx="38088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87136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87636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87136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7477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87136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三相信”“一莫要”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93963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信暂时的挫折无碍大局，只会帮你积累经验教训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信自己有能力，只是不得要领，没有施展出来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信自己定能总结出一套只属于自己的好方法来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切莫要一遇到困难，就沮丧、心烦、寝食不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915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三、勤学、善思、好问，在班级形成一片浓郁的研究氛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四、树立竞争意识，在班级形成你追我赶的势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五、   形成品质，培养科学严谨的作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15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六、   明确目标，让奋斗有一盏明确的指航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28191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40000"/>
                </a:solidFill>
                <a:latin typeface="Arial"/>
              </a:rPr>
              <a:t>第四板块：展望期中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676520" y="266688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谢谢指导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40000"/>
                </a:solidFill>
                <a:latin typeface="Arial"/>
              </a:rPr>
              <a:t>第一次月考分析</a:t>
            </a:r>
            <a:endParaRPr b="0" lang="en-US" sz="8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制作者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卢冬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Arial"/>
              </a:rPr>
              <a:t>第一板快</a:t>
            </a:r>
            <a:r>
              <a:rPr b="0" lang="zh-CN" sz="6000" spc="-1" strike="noStrike">
                <a:solidFill>
                  <a:srgbClr val="e40000"/>
                </a:solidFill>
                <a:latin typeface="Arial"/>
              </a:rPr>
              <a:t>:      </a:t>
            </a:r>
            <a:r>
              <a:rPr b="0" lang="zh-CN" sz="6000" spc="-1" strike="noStrike">
                <a:solidFill>
                  <a:srgbClr val="e40000"/>
                </a:solidFill>
                <a:latin typeface="Arial"/>
              </a:rPr>
              <a:t>自己分析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示成绩，自己分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40000"/>
                </a:solidFill>
                <a:latin typeface="Arial"/>
              </a:rPr>
              <a:t>第二板块： </a:t>
            </a:r>
            <a:r>
              <a:rPr b="0" lang="zh-CN" sz="7200" spc="-1" strike="noStrike">
                <a:solidFill>
                  <a:srgbClr val="e40000"/>
                </a:solidFill>
                <a:latin typeface="Arial"/>
              </a:rPr>
              <a:t>:</a:t>
            </a:r>
            <a:r>
              <a:rPr b="0" lang="zh-CN" sz="7200" spc="-1" strike="noStrike">
                <a:solidFill>
                  <a:srgbClr val="e40000"/>
                </a:solidFill>
                <a:latin typeface="Arial"/>
              </a:rPr>
              <a:t>老师分析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-1067040" y="1828800"/>
            <a:ext cx="102106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 学习不够主动，没有把学习当作一  种自觉的内在的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学习方法不够灵活，比较被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缺乏竞争意识，没有形成你追我赶的气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目标不明确，不知道为什么而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粗心大意，做题目时不够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40000"/>
                </a:solidFill>
                <a:latin typeface="Arial"/>
              </a:rPr>
              <a:t>第三板块：各显神通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296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针对大家刚才分析出的不足，大家觉得应该采取怎样的措施，才能使我们二五班蒸蒸日上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124440" y="2282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Arial"/>
              </a:rPr>
              <a:t>老师建议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一、把学习变成一种自觉的内在的行动，我要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二、学海无涯乐作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黑体"/>
              </a:rPr>
              <a:t>三先三后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831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预习后听课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复习后做作业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独立思考后请教别人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40000"/>
                </a:solidFill>
                <a:latin typeface="Arial"/>
                <a:ea typeface="黑体"/>
              </a:rPr>
              <a:t>三戒三倡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戒把学习当做是苦差役，缺乏学习兴趣，提倡对知识的追求，对智慧的启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戒过多地、单纯的死记硬背，提倡以掌握事物本质和规律的理解记忆为主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戒解题模式化，提倡勤于思考，提高思维的灵活性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41:1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7:26Z</dcterms:modified>
  <cp:revision>1</cp:revision>
  <dc:subject>主题班会课件(分28大类): http://shop62905894.taobao.com</dc:subject>
  <dc:title>主题班会课件(分28大类): http://shop62905894.taobao.com</dc:title>
</cp:coreProperties>
</file>