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DEE1-95AE-4E4A-A1FD-103738A05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A74A-8EEC-4D26-ADB9-D377D57FD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0E8A-3DC6-4AA5-8992-493039315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D200-3826-4018-9AD3-09738BE66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57DAD-AF2F-4D63-B194-E59157603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7BACD-CBA4-4A3E-8A18-55DD9A792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7ABE2-1C52-4F2F-9325-B6BE107BB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8871F-1728-4F1B-AD9E-A74EAD784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91850-C5F0-4F4D-95B5-715AB1517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E8431-5ACF-4EBF-8624-A7FE5E90F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9AC3A-871C-470A-A2DB-F723DA0EF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DA5A-776E-4B11-BFCC-E7117F0AD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50750-1FA7-4F66-A450-8C50396A9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B68A1-9B5B-46C8-B8F8-03F150D4E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A892A-7719-4AFC-87F6-588DAA21E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63094-EC4E-478E-B1F6-F3F3D16A9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0CB3F-5884-4B27-94B5-9DBC59EFB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EFE0-5856-489F-96CC-4E139D97A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872B-8711-472D-9A62-61AA5C5E5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7C72-D101-41ED-97C1-FC8B38D97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826F-3660-4E81-8A67-F42B5D568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F24B-6CE1-4D58-A659-023B367B5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E3F1-2C1A-4AE4-B708-BFA72B1FC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6474-368B-4566-B99B-9C48C24E7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9ED13-EC78-4479-8DE9-12644E8F2E75}" type="slidenum"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7649F-C727-4915-9C32-725F80398023}" type="slidenum"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990720" y="1219320"/>
            <a:ext cx="701028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百日誓师主题班会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1"/>
          <a:stretch/>
        </p:blipFill>
        <p:spPr>
          <a:xfrm>
            <a:off x="304920" y="4343400"/>
            <a:ext cx="8458200" cy="220968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ffcc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3" name=""/>
          <p:cNvGraphicFramePr/>
          <p:nvPr/>
        </p:nvGraphicFramePr>
        <p:xfrm>
          <a:off x="457200" y="838080"/>
          <a:ext cx="7467480" cy="5834160"/>
        </p:xfrm>
        <a:graphic>
          <a:graphicData uri="http://schemas.openxmlformats.org/drawingml/2006/table">
            <a:tbl>
              <a:tblPr/>
              <a:tblGrid>
                <a:gridCol w="1494000"/>
                <a:gridCol w="1493640"/>
                <a:gridCol w="1492200"/>
                <a:gridCol w="1494000"/>
                <a:gridCol w="149364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ffff00"/>
                          </a:solidFill>
                          <a:latin typeface="Arial Black"/>
                          <a:ea typeface="黑体"/>
                        </a:rPr>
                        <a:t>姓  名</a:t>
                      </a:r>
                      <a:endParaRPr b="0" lang="en-US" sz="36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00"/>
                          </a:solidFill>
                          <a:latin typeface="Arial Black"/>
                          <a:ea typeface="黑体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Arial Black"/>
                          <a:ea typeface="黑体"/>
                        </a:rPr>
                        <a:t>本次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Arial Black"/>
                          <a:ea typeface="黑体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Arial Black"/>
                          <a:ea typeface="黑体"/>
                        </a:rPr>
                        <a:t>分数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 Black"/>
                          <a:ea typeface="黑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 Black"/>
                          <a:ea typeface="黑体"/>
                        </a:rPr>
                        <a:t>年级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 Black"/>
                          <a:ea typeface="黑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 Black"/>
                          <a:ea typeface="黑体"/>
                        </a:rPr>
                        <a:t>名次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Arial Black"/>
                          <a:ea typeface="黑体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Arial Black"/>
                          <a:ea typeface="黑体"/>
                        </a:rPr>
                        <a:t>最高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Arial Black"/>
                          <a:ea typeface="黑体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Arial Black"/>
                          <a:ea typeface="黑体"/>
                        </a:rPr>
                        <a:t>分数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 Black"/>
                          <a:ea typeface="黑体"/>
                        </a:rPr>
                        <a:t>  </a:t>
                      </a: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 Black"/>
                          <a:ea typeface="黑体"/>
                        </a:rPr>
                        <a:t>最优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 Black"/>
                          <a:ea typeface="黑体"/>
                        </a:rPr>
                        <a:t>  </a:t>
                      </a: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 Black"/>
                          <a:ea typeface="黑体"/>
                        </a:rPr>
                        <a:t>名次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59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 Black"/>
                          <a:ea typeface="黑体"/>
                        </a:rPr>
                        <a:t>刘弯弯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00"/>
                          </a:solidFill>
                          <a:latin typeface="Arial Black"/>
                        </a:rPr>
                        <a:t>  </a:t>
                      </a:r>
                      <a:r>
                        <a:rPr b="0" lang="zh-CN" sz="2800" spc="-1" strike="noStrike">
                          <a:solidFill>
                            <a:srgbClr val="ffff00"/>
                          </a:solidFill>
                          <a:latin typeface="Arial Black"/>
                        </a:rPr>
                        <a:t>449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   </a:t>
                      </a: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206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00"/>
                          </a:solidFill>
                          <a:latin typeface="Arial Black"/>
                        </a:rPr>
                        <a:t>452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194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60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70f09"/>
                          </a:solidFill>
                          <a:latin typeface="Arial Black"/>
                          <a:ea typeface="黑体"/>
                        </a:rPr>
                        <a:t>张   帅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70f09"/>
                          </a:solidFill>
                          <a:latin typeface="Arial Black"/>
                        </a:rPr>
                        <a:t>  </a:t>
                      </a:r>
                      <a:r>
                        <a:rPr b="0" lang="zh-CN" sz="2800" spc="-1" strike="noStrike">
                          <a:solidFill>
                            <a:srgbClr val="f70f09"/>
                          </a:solidFill>
                          <a:latin typeface="Arial Black"/>
                        </a:rPr>
                        <a:t>440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70f09"/>
                          </a:solidFill>
                          <a:latin typeface="Arial Black"/>
                        </a:rPr>
                        <a:t>   </a:t>
                      </a:r>
                      <a:r>
                        <a:rPr b="0" lang="zh-CN" sz="2800" spc="-1" strike="noStrike">
                          <a:solidFill>
                            <a:srgbClr val="f70f09"/>
                          </a:solidFill>
                          <a:latin typeface="Arial Black"/>
                        </a:rPr>
                        <a:t>220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70f09"/>
                          </a:solidFill>
                          <a:latin typeface="Arial Black"/>
                        </a:rPr>
                        <a:t>  </a:t>
                      </a:r>
                      <a:r>
                        <a:rPr b="0" lang="zh-CN" sz="2800" spc="-1" strike="noStrike">
                          <a:solidFill>
                            <a:srgbClr val="f70f09"/>
                          </a:solidFill>
                          <a:latin typeface="Arial Black"/>
                        </a:rPr>
                        <a:t>440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70f09"/>
                          </a:solidFill>
                          <a:latin typeface="Arial Black"/>
                        </a:rPr>
                        <a:t>   </a:t>
                      </a:r>
                      <a:r>
                        <a:rPr b="0" lang="zh-CN" sz="2800" spc="-1" strike="noStrike">
                          <a:solidFill>
                            <a:srgbClr val="f70f09"/>
                          </a:solidFill>
                          <a:latin typeface="Arial Black"/>
                        </a:rPr>
                        <a:t>220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59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 Black"/>
                          <a:ea typeface="黑体"/>
                        </a:rPr>
                        <a:t>杨   开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00"/>
                          </a:solidFill>
                          <a:latin typeface="Arial Black"/>
                        </a:rPr>
                        <a:t>  </a:t>
                      </a:r>
                      <a:r>
                        <a:rPr b="0" lang="zh-CN" sz="2800" spc="-1" strike="noStrike">
                          <a:solidFill>
                            <a:srgbClr val="ffff00"/>
                          </a:solidFill>
                          <a:latin typeface="Arial Black"/>
                        </a:rPr>
                        <a:t>430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   </a:t>
                      </a: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236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00"/>
                          </a:solidFill>
                          <a:latin typeface="Arial Black"/>
                        </a:rPr>
                        <a:t>391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197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59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 Black"/>
                          <a:ea typeface="黑体"/>
                        </a:rPr>
                        <a:t>韩再博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00"/>
                          </a:solidFill>
                          <a:latin typeface="Arial Black"/>
                        </a:rPr>
                        <a:t>428.5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   </a:t>
                      </a: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238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00"/>
                          </a:solidFill>
                          <a:latin typeface="Arial Black"/>
                        </a:rPr>
                        <a:t>428.5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209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59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 Black"/>
                          <a:ea typeface="黑体"/>
                        </a:rPr>
                        <a:t>李   阳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00"/>
                          </a:solidFill>
                          <a:latin typeface="Arial Black"/>
                        </a:rPr>
                        <a:t>  </a:t>
                      </a:r>
                      <a:r>
                        <a:rPr b="0" lang="zh-CN" sz="2800" spc="-1" strike="noStrike">
                          <a:solidFill>
                            <a:srgbClr val="ffff00"/>
                          </a:solidFill>
                          <a:latin typeface="Arial Black"/>
                        </a:rPr>
                        <a:t>427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   </a:t>
                      </a: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243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00"/>
                          </a:solidFill>
                          <a:latin typeface="Arial Black"/>
                        </a:rPr>
                        <a:t>427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230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60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 Black"/>
                          <a:ea typeface="黑体"/>
                        </a:rPr>
                        <a:t>王   蕊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00"/>
                          </a:solidFill>
                          <a:latin typeface="Arial Black"/>
                        </a:rPr>
                        <a:t>  </a:t>
                      </a:r>
                      <a:r>
                        <a:rPr b="0" lang="zh-CN" sz="2800" spc="-1" strike="noStrike">
                          <a:solidFill>
                            <a:srgbClr val="ffff00"/>
                          </a:solidFill>
                          <a:latin typeface="Arial Black"/>
                        </a:rPr>
                        <a:t>426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   </a:t>
                      </a: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245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00"/>
                          </a:solidFill>
                          <a:latin typeface="Arial Black"/>
                        </a:rPr>
                        <a:t>426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222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59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 Black"/>
                          <a:ea typeface="黑体"/>
                        </a:rPr>
                        <a:t>付   萌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00"/>
                          </a:solidFill>
                          <a:latin typeface="Arial Black"/>
                        </a:rPr>
                        <a:t>  </a:t>
                      </a:r>
                      <a:r>
                        <a:rPr b="0" lang="zh-CN" sz="2800" spc="-1" strike="noStrike">
                          <a:solidFill>
                            <a:srgbClr val="ffff00"/>
                          </a:solidFill>
                          <a:latin typeface="Arial Black"/>
                        </a:rPr>
                        <a:t>423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   </a:t>
                      </a: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248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00"/>
                          </a:solidFill>
                          <a:latin typeface="Arial Black"/>
                        </a:rPr>
                        <a:t>449.5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199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59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 Black"/>
                          <a:ea typeface="黑体"/>
                        </a:rPr>
                        <a:t>徐   可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00"/>
                          </a:solidFill>
                          <a:latin typeface="Arial Black"/>
                        </a:rPr>
                        <a:t>  </a:t>
                      </a:r>
                      <a:r>
                        <a:rPr b="0" lang="zh-CN" sz="2800" spc="-1" strike="noStrike">
                          <a:solidFill>
                            <a:srgbClr val="ffff00"/>
                          </a:solidFill>
                          <a:latin typeface="Arial Black"/>
                        </a:rPr>
                        <a:t>423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   </a:t>
                      </a: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248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00"/>
                          </a:solidFill>
                          <a:latin typeface="Arial Black"/>
                        </a:rPr>
                        <a:t>464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168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4" name=""/>
          <p:cNvSpPr/>
          <p:nvPr/>
        </p:nvSpPr>
        <p:spPr>
          <a:xfrm>
            <a:off x="304920" y="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年级前</a:t>
            </a: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250</a:t>
            </a: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名中：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15228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年级前</a:t>
            </a: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300</a:t>
            </a: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名中：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386" name=""/>
          <p:cNvGraphicFramePr/>
          <p:nvPr/>
        </p:nvGraphicFramePr>
        <p:xfrm>
          <a:off x="685800" y="1295280"/>
          <a:ext cx="8001000" cy="509436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676160"/>
                <a:gridCol w="1676520"/>
                <a:gridCol w="160020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ffff00"/>
                          </a:solidFill>
                          <a:latin typeface="Arial Black"/>
                          <a:ea typeface="黑体"/>
                        </a:rPr>
                        <a:t>姓  名</a:t>
                      </a:r>
                      <a:endParaRPr b="0" lang="en-US" sz="36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00"/>
                          </a:solidFill>
                          <a:latin typeface="Arial Black"/>
                          <a:ea typeface="黑体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Arial Black"/>
                          <a:ea typeface="黑体"/>
                        </a:rPr>
                        <a:t>本次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Arial Black"/>
                          <a:ea typeface="黑体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Arial Black"/>
                          <a:ea typeface="黑体"/>
                        </a:rPr>
                        <a:t>分数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年级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名次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Arial Black"/>
                          <a:ea typeface="黑体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Arial Black"/>
                          <a:ea typeface="黑体"/>
                        </a:rPr>
                        <a:t>最高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Arial Black"/>
                          <a:ea typeface="黑体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Arial Black"/>
                          <a:ea typeface="黑体"/>
                        </a:rPr>
                        <a:t>分数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最优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名次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67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70f09"/>
                          </a:solidFill>
                          <a:latin typeface="Arial Black"/>
                          <a:ea typeface="黑体"/>
                        </a:rPr>
                        <a:t>王   钊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70f09"/>
                          </a:solidFill>
                          <a:latin typeface="Arial Black"/>
                        </a:rPr>
                        <a:t>417.5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70f09"/>
                          </a:solidFill>
                          <a:latin typeface="黑体"/>
                          <a:ea typeface="黑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f70f09"/>
                          </a:solidFill>
                          <a:latin typeface="黑体"/>
                          <a:ea typeface="黑体"/>
                        </a:rPr>
                        <a:t>262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70f09"/>
                          </a:solidFill>
                          <a:latin typeface="Arial Black"/>
                        </a:rPr>
                        <a:t>417.5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70f09"/>
                          </a:solidFill>
                          <a:latin typeface="黑体"/>
                          <a:ea typeface="黑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f70f09"/>
                          </a:solidFill>
                          <a:latin typeface="黑体"/>
                          <a:ea typeface="黑体"/>
                        </a:rPr>
                        <a:t>262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67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 Black"/>
                          <a:ea typeface="黑体"/>
                        </a:rPr>
                        <a:t>张   凡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00"/>
                          </a:solidFill>
                          <a:latin typeface="Arial Black"/>
                        </a:rPr>
                        <a:t>415.5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268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00"/>
                          </a:solidFill>
                          <a:latin typeface="Arial Black"/>
                        </a:rPr>
                        <a:t>410.5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218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67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 Black"/>
                          <a:ea typeface="黑体"/>
                        </a:rPr>
                        <a:t>安   岩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00"/>
                          </a:solidFill>
                          <a:latin typeface="Arial Black"/>
                        </a:rPr>
                        <a:t>414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271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00"/>
                          </a:solidFill>
                          <a:latin typeface="Arial Black"/>
                        </a:rPr>
                        <a:t>457.5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182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67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 Black"/>
                          <a:ea typeface="黑体"/>
                        </a:rPr>
                        <a:t>田   洋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00"/>
                          </a:solidFill>
                          <a:latin typeface="Arial Black"/>
                        </a:rPr>
                        <a:t>411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274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00"/>
                          </a:solidFill>
                          <a:latin typeface="Arial Black"/>
                        </a:rPr>
                        <a:t>421.5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218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67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70f09"/>
                          </a:solidFill>
                          <a:latin typeface="Arial Black"/>
                          <a:ea typeface="黑体"/>
                        </a:rPr>
                        <a:t>许   瑾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70f09"/>
                          </a:solidFill>
                          <a:latin typeface="Arial Black"/>
                        </a:rPr>
                        <a:t>407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70f09"/>
                          </a:solidFill>
                          <a:latin typeface="黑体"/>
                          <a:ea typeface="黑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f70f09"/>
                          </a:solidFill>
                          <a:latin typeface="黑体"/>
                          <a:ea typeface="黑体"/>
                        </a:rPr>
                        <a:t>277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70f09"/>
                          </a:solidFill>
                          <a:latin typeface="Arial Black"/>
                        </a:rPr>
                        <a:t>407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70f09"/>
                          </a:solidFill>
                          <a:latin typeface="黑体"/>
                          <a:ea typeface="黑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f70f09"/>
                          </a:solidFill>
                          <a:latin typeface="黑体"/>
                          <a:ea typeface="黑体"/>
                        </a:rPr>
                        <a:t>277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67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70f09"/>
                          </a:solidFill>
                          <a:latin typeface="Arial Black"/>
                          <a:ea typeface="黑体"/>
                        </a:rPr>
                        <a:t>刘   彬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70f09"/>
                          </a:solidFill>
                          <a:latin typeface="Arial Black"/>
                        </a:rPr>
                        <a:t>400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70f09"/>
                          </a:solidFill>
                          <a:latin typeface="黑体"/>
                          <a:ea typeface="黑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f70f09"/>
                          </a:solidFill>
                          <a:latin typeface="黑体"/>
                          <a:ea typeface="黑体"/>
                        </a:rPr>
                        <a:t>289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70f09"/>
                          </a:solidFill>
                          <a:latin typeface="Arial Black"/>
                        </a:rPr>
                        <a:t>400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70f09"/>
                          </a:solidFill>
                          <a:latin typeface="黑体"/>
                          <a:ea typeface="黑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f70f09"/>
                          </a:solidFill>
                          <a:latin typeface="黑体"/>
                          <a:ea typeface="黑体"/>
                        </a:rPr>
                        <a:t>289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609480" y="228600"/>
            <a:ext cx="6096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0" y="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年级前</a:t>
            </a: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350</a:t>
            </a: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名中：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152280" y="762120"/>
          <a:ext cx="8001000" cy="5688000"/>
        </p:xfrm>
        <a:graphic>
          <a:graphicData uri="http://schemas.openxmlformats.org/drawingml/2006/table">
            <a:tbl>
              <a:tblPr/>
              <a:tblGrid>
                <a:gridCol w="1524240"/>
                <a:gridCol w="1600200"/>
                <a:gridCol w="1752480"/>
                <a:gridCol w="1600200"/>
                <a:gridCol w="152388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ffff00"/>
                          </a:solidFill>
                          <a:latin typeface="Arial Black"/>
                          <a:ea typeface="黑体"/>
                        </a:rPr>
                        <a:t>姓  名</a:t>
                      </a:r>
                      <a:endParaRPr b="0" lang="en-US" sz="36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00"/>
                          </a:solidFill>
                          <a:latin typeface="Arial Black"/>
                          <a:ea typeface="黑体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Arial Black"/>
                          <a:ea typeface="黑体"/>
                        </a:rPr>
                        <a:t>本次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Arial Black"/>
                          <a:ea typeface="黑体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Arial Black"/>
                          <a:ea typeface="黑体"/>
                        </a:rPr>
                        <a:t>分数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年级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名次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Arial Black"/>
                          <a:ea typeface="黑体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Arial Black"/>
                          <a:ea typeface="黑体"/>
                        </a:rPr>
                        <a:t>最高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Arial Black"/>
                          <a:ea typeface="黑体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Arial Black"/>
                          <a:ea typeface="黑体"/>
                        </a:rPr>
                        <a:t>分数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最优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名次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70f09"/>
                          </a:solidFill>
                          <a:latin typeface="Arial Black"/>
                          <a:ea typeface="黑体"/>
                        </a:rPr>
                        <a:t>邢宇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70f09"/>
                          </a:solidFill>
                          <a:latin typeface="Arial Black"/>
                        </a:rPr>
                        <a:t>382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70f09"/>
                          </a:solidFill>
                          <a:latin typeface="Arial Black"/>
                        </a:rPr>
                        <a:t>    </a:t>
                      </a:r>
                      <a:r>
                        <a:rPr b="0" lang="zh-CN" sz="2800" spc="-1" strike="noStrike">
                          <a:solidFill>
                            <a:srgbClr val="f70f09"/>
                          </a:solidFill>
                          <a:latin typeface="Arial Black"/>
                        </a:rPr>
                        <a:t>307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70f09"/>
                          </a:solidFill>
                          <a:latin typeface="Arial Black"/>
                        </a:rPr>
                        <a:t>382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70f09"/>
                          </a:solidFill>
                          <a:latin typeface="Arial Black"/>
                        </a:rPr>
                        <a:t>    </a:t>
                      </a:r>
                      <a:r>
                        <a:rPr b="0" lang="zh-CN" sz="2800" spc="-1" strike="noStrike">
                          <a:solidFill>
                            <a:srgbClr val="f70f09"/>
                          </a:solidFill>
                          <a:latin typeface="Arial Black"/>
                        </a:rPr>
                        <a:t>307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70f09"/>
                          </a:solidFill>
                          <a:latin typeface="Arial Black"/>
                          <a:ea typeface="黑体"/>
                        </a:rPr>
                        <a:t>杨萌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70f09"/>
                          </a:solidFill>
                          <a:latin typeface="Arial Black"/>
                        </a:rPr>
                        <a:t>376.5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70f09"/>
                          </a:solidFill>
                          <a:latin typeface="Arial Black"/>
                        </a:rPr>
                        <a:t>    </a:t>
                      </a:r>
                      <a:r>
                        <a:rPr b="0" lang="zh-CN" sz="2800" spc="-1" strike="noStrike">
                          <a:solidFill>
                            <a:srgbClr val="f70f09"/>
                          </a:solidFill>
                          <a:latin typeface="Arial Black"/>
                        </a:rPr>
                        <a:t>312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70f09"/>
                          </a:solidFill>
                          <a:latin typeface="Arial Black"/>
                        </a:rPr>
                        <a:t>376.5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70f09"/>
                          </a:solidFill>
                          <a:latin typeface="Arial Black"/>
                        </a:rPr>
                        <a:t>    </a:t>
                      </a:r>
                      <a:r>
                        <a:rPr b="0" lang="zh-CN" sz="2800" spc="-1" strike="noStrike">
                          <a:solidFill>
                            <a:srgbClr val="f70f09"/>
                          </a:solidFill>
                          <a:latin typeface="Arial Black"/>
                        </a:rPr>
                        <a:t>312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 Black"/>
                          <a:ea typeface="黑体"/>
                        </a:rPr>
                        <a:t>王昱力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00"/>
                          </a:solidFill>
                          <a:latin typeface="Arial Black"/>
                        </a:rPr>
                        <a:t>373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    </a:t>
                      </a: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316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00"/>
                          </a:solidFill>
                          <a:latin typeface="Arial Black"/>
                        </a:rPr>
                        <a:t>395.5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    </a:t>
                      </a: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295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70f09"/>
                          </a:solidFill>
                          <a:latin typeface="Arial Black"/>
                          <a:ea typeface="黑体"/>
                        </a:rPr>
                        <a:t>崔璐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70f09"/>
                          </a:solidFill>
                          <a:latin typeface="Arial Black"/>
                        </a:rPr>
                        <a:t>370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70f09"/>
                          </a:solidFill>
                          <a:latin typeface="Arial Black"/>
                        </a:rPr>
                        <a:t>    </a:t>
                      </a:r>
                      <a:r>
                        <a:rPr b="0" lang="zh-CN" sz="2800" spc="-1" strike="noStrike">
                          <a:solidFill>
                            <a:srgbClr val="f70f09"/>
                          </a:solidFill>
                          <a:latin typeface="Arial Black"/>
                        </a:rPr>
                        <a:t>320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70f09"/>
                          </a:solidFill>
                          <a:latin typeface="Arial Black"/>
                        </a:rPr>
                        <a:t>370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70f09"/>
                          </a:solidFill>
                          <a:latin typeface="Arial Black"/>
                        </a:rPr>
                        <a:t>    </a:t>
                      </a:r>
                      <a:r>
                        <a:rPr b="0" lang="zh-CN" sz="2800" spc="-1" strike="noStrike">
                          <a:solidFill>
                            <a:srgbClr val="f70f09"/>
                          </a:solidFill>
                          <a:latin typeface="Arial Black"/>
                        </a:rPr>
                        <a:t>320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70f09"/>
                          </a:solidFill>
                          <a:latin typeface="Arial Black"/>
                          <a:ea typeface="黑体"/>
                        </a:rPr>
                        <a:t>于路明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70f09"/>
                          </a:solidFill>
                          <a:latin typeface="Arial Black"/>
                        </a:rPr>
                        <a:t>368.5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70f09"/>
                          </a:solidFill>
                          <a:latin typeface="Arial Black"/>
                        </a:rPr>
                        <a:t>    </a:t>
                      </a:r>
                      <a:r>
                        <a:rPr b="0" lang="zh-CN" sz="2800" spc="-1" strike="noStrike">
                          <a:solidFill>
                            <a:srgbClr val="f70f09"/>
                          </a:solidFill>
                          <a:latin typeface="Arial Black"/>
                        </a:rPr>
                        <a:t>323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70f09"/>
                          </a:solidFill>
                          <a:latin typeface="Arial Black"/>
                        </a:rPr>
                        <a:t>368.5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70f09"/>
                          </a:solidFill>
                          <a:latin typeface="Arial Black"/>
                        </a:rPr>
                        <a:t>    </a:t>
                      </a:r>
                      <a:r>
                        <a:rPr b="0" lang="zh-CN" sz="2800" spc="-1" strike="noStrike">
                          <a:solidFill>
                            <a:srgbClr val="f70f09"/>
                          </a:solidFill>
                          <a:latin typeface="Arial Black"/>
                        </a:rPr>
                        <a:t>323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 Black"/>
                          <a:ea typeface="黑体"/>
                        </a:rPr>
                        <a:t>郝明欢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00"/>
                          </a:solidFill>
                          <a:latin typeface="Arial Black"/>
                        </a:rPr>
                        <a:t>368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    </a:t>
                      </a: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324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00"/>
                          </a:solidFill>
                          <a:latin typeface="Arial Black"/>
                        </a:rPr>
                        <a:t>404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    </a:t>
                      </a: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235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 Black"/>
                          <a:ea typeface="黑体"/>
                        </a:rPr>
                        <a:t>焦倩倩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00"/>
                          </a:solidFill>
                          <a:latin typeface="Arial Black"/>
                        </a:rPr>
                        <a:t>365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    </a:t>
                      </a: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329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00"/>
                          </a:solidFill>
                          <a:latin typeface="Arial Black"/>
                        </a:rPr>
                        <a:t>373.5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    </a:t>
                      </a: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306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70f09"/>
                          </a:solidFill>
                          <a:latin typeface="Arial Black"/>
                          <a:ea typeface="黑体"/>
                        </a:rPr>
                        <a:t>陈双颖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70f09"/>
                          </a:solidFill>
                          <a:latin typeface="Arial Black"/>
                        </a:rPr>
                        <a:t>358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70f09"/>
                          </a:solidFill>
                          <a:latin typeface="Arial Black"/>
                        </a:rPr>
                        <a:t>    </a:t>
                      </a:r>
                      <a:r>
                        <a:rPr b="0" lang="zh-CN" sz="2800" spc="-1" strike="noStrike">
                          <a:solidFill>
                            <a:srgbClr val="f70f09"/>
                          </a:solidFill>
                          <a:latin typeface="Arial Black"/>
                        </a:rPr>
                        <a:t>343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70f09"/>
                          </a:solidFill>
                          <a:latin typeface="Arial Black"/>
                        </a:rPr>
                        <a:t>358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70f09"/>
                          </a:solidFill>
                          <a:latin typeface="Arial Black"/>
                        </a:rPr>
                        <a:t>    </a:t>
                      </a:r>
                      <a:r>
                        <a:rPr b="0" lang="zh-CN" sz="2800" spc="-1" strike="noStrike">
                          <a:solidFill>
                            <a:srgbClr val="f70f09"/>
                          </a:solidFill>
                          <a:latin typeface="Arial Black"/>
                        </a:rPr>
                        <a:t>343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70f09"/>
                          </a:solidFill>
                          <a:latin typeface="Arial Black"/>
                          <a:ea typeface="黑体"/>
                        </a:rPr>
                        <a:t>李向辰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70f09"/>
                          </a:solidFill>
                          <a:latin typeface="Arial Black"/>
                        </a:rPr>
                        <a:t>354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70f09"/>
                          </a:solidFill>
                          <a:latin typeface="Arial Black"/>
                        </a:rPr>
                        <a:t>    </a:t>
                      </a:r>
                      <a:r>
                        <a:rPr b="0" lang="zh-CN" sz="2800" spc="-1" strike="noStrike">
                          <a:solidFill>
                            <a:srgbClr val="f70f09"/>
                          </a:solidFill>
                          <a:latin typeface="Arial Black"/>
                        </a:rPr>
                        <a:t>346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70f09"/>
                          </a:solidFill>
                          <a:latin typeface="Arial Black"/>
                        </a:rPr>
                        <a:t>354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70f09"/>
                          </a:solidFill>
                          <a:latin typeface="Arial Black"/>
                        </a:rPr>
                        <a:t>    </a:t>
                      </a:r>
                      <a:r>
                        <a:rPr b="0" lang="zh-CN" sz="2800" spc="-1" strike="noStrike">
                          <a:solidFill>
                            <a:srgbClr val="f70f09"/>
                          </a:solidFill>
                          <a:latin typeface="Arial Black"/>
                        </a:rPr>
                        <a:t>346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0" y="304920"/>
            <a:ext cx="556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年级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350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名后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391" name=""/>
          <p:cNvGraphicFramePr/>
          <p:nvPr/>
        </p:nvGraphicFramePr>
        <p:xfrm>
          <a:off x="304920" y="914400"/>
          <a:ext cx="8534160" cy="5819760"/>
        </p:xfrm>
        <a:graphic>
          <a:graphicData uri="http://schemas.openxmlformats.org/drawingml/2006/table">
            <a:tbl>
              <a:tblPr/>
              <a:tblGrid>
                <a:gridCol w="1828800"/>
                <a:gridCol w="1904760"/>
                <a:gridCol w="1524240"/>
                <a:gridCol w="1676160"/>
                <a:gridCol w="1600200"/>
              </a:tblGrid>
              <a:tr h="117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00"/>
                          </a:solidFill>
                          <a:latin typeface="黑体"/>
                          <a:ea typeface="黑体"/>
                        </a:rPr>
                        <a:t>姓  名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00"/>
                          </a:solidFill>
                          <a:latin typeface="黑体"/>
                          <a:ea typeface="黑体"/>
                        </a:rPr>
                        <a:t>  </a:t>
                      </a:r>
                      <a:r>
                        <a:rPr b="1" lang="zh-CN" sz="3200" spc="-1" strike="noStrike">
                          <a:solidFill>
                            <a:srgbClr val="ffff00"/>
                          </a:solidFill>
                          <a:latin typeface="黑体"/>
                          <a:ea typeface="黑体"/>
                        </a:rPr>
                        <a:t>本次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00"/>
                          </a:solidFill>
                          <a:latin typeface="黑体"/>
                          <a:ea typeface="黑体"/>
                        </a:rPr>
                        <a:t>  </a:t>
                      </a:r>
                      <a:r>
                        <a:rPr b="1" lang="zh-CN" sz="3200" spc="-1" strike="noStrike">
                          <a:solidFill>
                            <a:srgbClr val="ffff00"/>
                          </a:solidFill>
                          <a:latin typeface="黑体"/>
                          <a:ea typeface="黑体"/>
                        </a:rPr>
                        <a:t>分数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年级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名次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00"/>
                          </a:solidFill>
                          <a:latin typeface="黑体"/>
                          <a:ea typeface="黑体"/>
                        </a:rPr>
                        <a:t>  </a:t>
                      </a:r>
                      <a:r>
                        <a:rPr b="1" lang="zh-CN" sz="3200" spc="-1" strike="noStrike">
                          <a:solidFill>
                            <a:srgbClr val="ffff00"/>
                          </a:solidFill>
                          <a:latin typeface="黑体"/>
                          <a:ea typeface="黑体"/>
                        </a:rPr>
                        <a:t>最高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00"/>
                          </a:solidFill>
                          <a:latin typeface="黑体"/>
                          <a:ea typeface="黑体"/>
                        </a:rPr>
                        <a:t>  </a:t>
                      </a:r>
                      <a:r>
                        <a:rPr b="1" lang="zh-CN" sz="3200" spc="-1" strike="noStrike">
                          <a:solidFill>
                            <a:srgbClr val="ffff00"/>
                          </a:solidFill>
                          <a:latin typeface="黑体"/>
                          <a:ea typeface="黑体"/>
                        </a:rPr>
                        <a:t>分数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 </a:t>
                      </a: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最优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 </a:t>
                      </a: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名次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 Black"/>
                          <a:ea typeface="黑体"/>
                        </a:rPr>
                        <a:t>赵   薇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00"/>
                          </a:solidFill>
                          <a:latin typeface="Arial Black"/>
                        </a:rPr>
                        <a:t>350.5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351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00"/>
                          </a:solidFill>
                          <a:latin typeface="Arial Black"/>
                        </a:rPr>
                        <a:t>401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312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 Black"/>
                          <a:ea typeface="黑体"/>
                        </a:rPr>
                        <a:t>王   娜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00"/>
                          </a:solidFill>
                          <a:latin typeface="Arial Black"/>
                        </a:rPr>
                        <a:t>346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354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00"/>
                          </a:solidFill>
                          <a:latin typeface="Arial Black"/>
                        </a:rPr>
                        <a:t>381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352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70f09"/>
                          </a:solidFill>
                          <a:latin typeface="Arial Black"/>
                          <a:ea typeface="黑体"/>
                        </a:rPr>
                        <a:t>黄   烨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70f09"/>
                          </a:solidFill>
                          <a:latin typeface="Arial Black"/>
                        </a:rPr>
                        <a:t>344.5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70f09"/>
                          </a:solidFill>
                          <a:latin typeface="Arial Black"/>
                        </a:rPr>
                        <a:t>355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70f09"/>
                          </a:solidFill>
                          <a:latin typeface="Arial Black"/>
                        </a:rPr>
                        <a:t>344.5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70f09"/>
                          </a:solidFill>
                          <a:latin typeface="Arial Black"/>
                        </a:rPr>
                        <a:t>355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 Black"/>
                          <a:ea typeface="黑体"/>
                        </a:rPr>
                        <a:t>贺佳丽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00"/>
                          </a:solidFill>
                          <a:latin typeface="Arial Black"/>
                        </a:rPr>
                        <a:t>340.5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359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00"/>
                          </a:solidFill>
                          <a:latin typeface="Arial Black"/>
                        </a:rPr>
                        <a:t>350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344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70f09"/>
                          </a:solidFill>
                          <a:latin typeface="Arial Black"/>
                          <a:ea typeface="黑体"/>
                        </a:rPr>
                        <a:t>何   军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70f09"/>
                          </a:solidFill>
                          <a:latin typeface="Arial Black"/>
                        </a:rPr>
                        <a:t>340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70f09"/>
                          </a:solidFill>
                          <a:latin typeface="Arial Black"/>
                        </a:rPr>
                        <a:t>361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70f09"/>
                          </a:solidFill>
                          <a:latin typeface="Arial Black"/>
                        </a:rPr>
                        <a:t>340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70f09"/>
                          </a:solidFill>
                          <a:latin typeface="Arial Black"/>
                        </a:rPr>
                        <a:t>361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 Black"/>
                          <a:ea typeface="黑体"/>
                        </a:rPr>
                        <a:t>王   倩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00"/>
                          </a:solidFill>
                          <a:latin typeface="Arial Black"/>
                        </a:rPr>
                        <a:t>332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368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00"/>
                          </a:solidFill>
                          <a:latin typeface="Arial Black"/>
                        </a:rPr>
                        <a:t>342.5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368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70f09"/>
                          </a:solidFill>
                          <a:latin typeface="Arial Black"/>
                          <a:ea typeface="黑体"/>
                        </a:rPr>
                        <a:t>张   瑾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70f09"/>
                          </a:solidFill>
                          <a:latin typeface="Arial Black"/>
                        </a:rPr>
                        <a:t>329.5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70f09"/>
                          </a:solidFill>
                          <a:latin typeface="Arial Black"/>
                        </a:rPr>
                        <a:t>370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70f09"/>
                          </a:solidFill>
                          <a:latin typeface="Arial Black"/>
                        </a:rPr>
                        <a:t>329.5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70f09"/>
                          </a:solidFill>
                          <a:latin typeface="Arial Black"/>
                        </a:rPr>
                        <a:t>370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70f09"/>
                          </a:solidFill>
                          <a:latin typeface="Arial Black"/>
                          <a:ea typeface="黑体"/>
                        </a:rPr>
                        <a:t>司唯袆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70f09"/>
                          </a:solidFill>
                          <a:latin typeface="Arial Black"/>
                        </a:rPr>
                        <a:t>318.5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70f09"/>
                          </a:solidFill>
                          <a:latin typeface="Arial Black"/>
                        </a:rPr>
                        <a:t>376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70f09"/>
                          </a:solidFill>
                          <a:latin typeface="Arial Black"/>
                        </a:rPr>
                        <a:t>318.5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70f09"/>
                          </a:solidFill>
                          <a:latin typeface="Arial Black"/>
                        </a:rPr>
                        <a:t>376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 Black"/>
                          <a:ea typeface="黑体"/>
                        </a:rPr>
                        <a:t>刘政涛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00"/>
                          </a:solidFill>
                          <a:latin typeface="Arial Black"/>
                        </a:rPr>
                        <a:t>307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382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00"/>
                          </a:solidFill>
                          <a:latin typeface="Arial Black"/>
                        </a:rPr>
                        <a:t>380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353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2" name=""/>
          <p:cNvGraphicFramePr/>
          <p:nvPr/>
        </p:nvGraphicFramePr>
        <p:xfrm>
          <a:off x="228600" y="1219320"/>
          <a:ext cx="8686800" cy="3749400"/>
        </p:xfrm>
        <a:graphic>
          <a:graphicData uri="http://schemas.openxmlformats.org/drawingml/2006/table">
            <a:tbl>
              <a:tblPr/>
              <a:tblGrid>
                <a:gridCol w="1905120"/>
                <a:gridCol w="1523880"/>
                <a:gridCol w="1752480"/>
                <a:gridCol w="1752840"/>
                <a:gridCol w="1752480"/>
              </a:tblGrid>
              <a:tr h="117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00"/>
                          </a:solidFill>
                          <a:latin typeface="黑体"/>
                          <a:ea typeface="黑体"/>
                        </a:rPr>
                        <a:t>姓  名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00"/>
                          </a:solidFill>
                          <a:latin typeface="黑体"/>
                          <a:ea typeface="黑体"/>
                        </a:rPr>
                        <a:t> </a:t>
                      </a:r>
                      <a:r>
                        <a:rPr b="1" lang="zh-CN" sz="3200" spc="-1" strike="noStrike">
                          <a:solidFill>
                            <a:srgbClr val="ffff00"/>
                          </a:solidFill>
                          <a:latin typeface="黑体"/>
                          <a:ea typeface="黑体"/>
                        </a:rPr>
                        <a:t>本次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00"/>
                          </a:solidFill>
                          <a:latin typeface="黑体"/>
                          <a:ea typeface="黑体"/>
                        </a:rPr>
                        <a:t> </a:t>
                      </a:r>
                      <a:r>
                        <a:rPr b="1" lang="zh-CN" sz="3200" spc="-1" strike="noStrike">
                          <a:solidFill>
                            <a:srgbClr val="ffff00"/>
                          </a:solidFill>
                          <a:latin typeface="黑体"/>
                          <a:ea typeface="黑体"/>
                        </a:rPr>
                        <a:t>分数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  </a:t>
                      </a: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年级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  </a:t>
                      </a: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名次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00"/>
                          </a:solidFill>
                          <a:latin typeface="黑体"/>
                          <a:ea typeface="黑体"/>
                        </a:rPr>
                        <a:t>  </a:t>
                      </a:r>
                      <a:r>
                        <a:rPr b="1" lang="zh-CN" sz="3200" spc="-1" strike="noStrike">
                          <a:solidFill>
                            <a:srgbClr val="ffff00"/>
                          </a:solidFill>
                          <a:latin typeface="黑体"/>
                          <a:ea typeface="黑体"/>
                        </a:rPr>
                        <a:t>最高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00"/>
                          </a:solidFill>
                          <a:latin typeface="黑体"/>
                          <a:ea typeface="黑体"/>
                        </a:rPr>
                        <a:t>  </a:t>
                      </a:r>
                      <a:r>
                        <a:rPr b="1" lang="zh-CN" sz="3200" spc="-1" strike="noStrike">
                          <a:solidFill>
                            <a:srgbClr val="ffff00"/>
                          </a:solidFill>
                          <a:latin typeface="黑体"/>
                          <a:ea typeface="黑体"/>
                        </a:rPr>
                        <a:t>分数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 </a:t>
                      </a: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最优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 </a:t>
                      </a: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名次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 Black"/>
                          <a:ea typeface="黑体"/>
                        </a:rPr>
                        <a:t>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 Black"/>
                          <a:ea typeface="黑体"/>
                        </a:rPr>
                        <a:t>冯梦岩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00"/>
                          </a:solidFill>
                          <a:latin typeface="Arial Black"/>
                        </a:rPr>
                        <a:t>306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384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00"/>
                          </a:solidFill>
                          <a:latin typeface="Arial Black"/>
                        </a:rPr>
                        <a:t>315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384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 Black"/>
                          <a:ea typeface="黑体"/>
                        </a:rPr>
                        <a:t>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 Black"/>
                          <a:ea typeface="黑体"/>
                        </a:rPr>
                        <a:t>张   洁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00"/>
                          </a:solidFill>
                          <a:latin typeface="Arial Black"/>
                        </a:rPr>
                        <a:t>305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385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00"/>
                          </a:solidFill>
                          <a:latin typeface="Arial Black"/>
                        </a:rPr>
                        <a:t>306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385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70f09"/>
                          </a:solidFill>
                          <a:latin typeface="Arial Black"/>
                          <a:ea typeface="黑体"/>
                        </a:rPr>
                        <a:t> </a:t>
                      </a:r>
                      <a:r>
                        <a:rPr b="1" lang="zh-CN" sz="2800" spc="-1" strike="noStrike">
                          <a:solidFill>
                            <a:srgbClr val="f70f09"/>
                          </a:solidFill>
                          <a:latin typeface="Arial Black"/>
                          <a:ea typeface="黑体"/>
                        </a:rPr>
                        <a:t>崔   扬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70f09"/>
                          </a:solidFill>
                          <a:latin typeface="Arial Black"/>
                        </a:rPr>
                        <a:t>280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70f09"/>
                          </a:solidFill>
                          <a:latin typeface="Arial Black"/>
                        </a:rPr>
                        <a:t>396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70f09"/>
                          </a:solidFill>
                          <a:latin typeface="Arial Black"/>
                        </a:rPr>
                        <a:t>280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70f09"/>
                          </a:solidFill>
                          <a:latin typeface="Arial Black"/>
                        </a:rPr>
                        <a:t>396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 Black"/>
                          <a:ea typeface="黑体"/>
                        </a:rPr>
                        <a:t>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 Black"/>
                          <a:ea typeface="黑体"/>
                        </a:rPr>
                        <a:t>葛晨杨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00"/>
                          </a:solidFill>
                          <a:latin typeface="Arial Black"/>
                        </a:rPr>
                        <a:t>279.5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397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00"/>
                          </a:solidFill>
                          <a:latin typeface="Arial Black"/>
                        </a:rPr>
                        <a:t>338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361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 Black"/>
                          <a:ea typeface="黑体"/>
                        </a:rPr>
                        <a:t>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 Black"/>
                          <a:ea typeface="黑体"/>
                        </a:rPr>
                        <a:t>翟梦雪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00"/>
                          </a:solidFill>
                          <a:latin typeface="Arial Black"/>
                        </a:rPr>
                        <a:t>240.5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401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3" name=""/>
          <p:cNvSpPr/>
          <p:nvPr/>
        </p:nvSpPr>
        <p:spPr>
          <a:xfrm>
            <a:off x="609480" y="304920"/>
            <a:ext cx="457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80880" y="380880"/>
            <a:ext cx="556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年级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350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名后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39640" y="206028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bf907"/>
                </a:solidFill>
                <a:latin typeface="Arial Black"/>
              </a:rPr>
              <a:t>       </a:t>
            </a:r>
            <a:r>
              <a:rPr b="1" lang="en-US" sz="4400" spc="-1" strike="noStrike">
                <a:solidFill>
                  <a:srgbClr val="cbf907"/>
                </a:solidFill>
                <a:latin typeface="Arial Black"/>
              </a:rPr>
              <a:t>3</a:t>
            </a:r>
            <a:r>
              <a:rPr b="1" lang="zh-CN" sz="4400" spc="-1" strike="noStrike">
                <a:solidFill>
                  <a:srgbClr val="cbf907"/>
                </a:solidFill>
                <a:latin typeface="Arial Black"/>
              </a:rPr>
              <a:t>个月如何提高几十分？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96" name="" descr=""/>
          <p:cNvPicPr/>
          <p:nvPr/>
        </p:nvPicPr>
        <p:blipFill>
          <a:blip r:embed="rId1"/>
          <a:stretch/>
        </p:blipFill>
        <p:spPr>
          <a:xfrm>
            <a:off x="0" y="6103800"/>
            <a:ext cx="4492800" cy="754200"/>
          </a:xfrm>
          <a:prstGeom prst="rect">
            <a:avLst/>
          </a:prstGeom>
          <a:ln w="0">
            <a:noFill/>
          </a:ln>
        </p:spPr>
      </p:pic>
      <p:pic>
        <p:nvPicPr>
          <p:cNvPr id="397" name="" descr=""/>
          <p:cNvPicPr/>
          <p:nvPr/>
        </p:nvPicPr>
        <p:blipFill>
          <a:blip r:embed="rId2"/>
          <a:stretch/>
        </p:blipFill>
        <p:spPr>
          <a:xfrm>
            <a:off x="4427640" y="6103800"/>
            <a:ext cx="4492440" cy="7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0" y="0"/>
            <a:ext cx="8964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考生存在三大备考误区 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:       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高考作为一门科学，命题人员是按照科学的方法和科学的态度进行命题的，因此，考生的备考也必须走上科学之路。可实际上有非常多的考生在备考中陷入了三个误区中。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bf907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cbf907"/>
                </a:solidFill>
                <a:latin typeface="黑体"/>
                <a:ea typeface="黑体"/>
              </a:rPr>
              <a:t>一是盲目备考。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一些学生不清楚高考的要求，只管自己埋头苦学，而不管高考的需求。有的人没有自己的主见，被各种指导和诱惑牵着向前走。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bf907"/>
                </a:solidFill>
                <a:latin typeface="Arial Black"/>
                <a:ea typeface="黑体"/>
              </a:rPr>
              <a:t>    </a:t>
            </a:r>
            <a:r>
              <a:rPr b="1" lang="zh-CN" sz="2800" spc="-1" strike="noStrike">
                <a:solidFill>
                  <a:srgbClr val="cbf907"/>
                </a:solidFill>
                <a:latin typeface="Arial Black"/>
                <a:ea typeface="黑体"/>
              </a:rPr>
              <a:t>二是焦急万分。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一些人渴望成功，给自己背上沉重的负担，有时家长殷切的目光也带来了莫名的压力。弄得有时就像没头的苍蝇，每天都很紧张，急得不得了。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    </a:t>
            </a:r>
            <a:r>
              <a:rPr b="1" lang="zh-CN" sz="2800" spc="-1" strike="noStrike">
                <a:solidFill>
                  <a:srgbClr val="cbf907"/>
                </a:solidFill>
                <a:latin typeface="Arial Black"/>
                <a:ea typeface="黑体"/>
              </a:rPr>
              <a:t>三是投机取巧。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有的考生削尖了脑袋，四处探听消息，追求猜题、押题。有的则怕吃苦，备考时不努力还自我安慰，找借口。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6103800"/>
            <a:ext cx="4492800" cy="754200"/>
          </a:xfrm>
          <a:prstGeom prst="rect">
            <a:avLst/>
          </a:prstGeom>
          <a:ln w="0">
            <a:noFill/>
          </a:ln>
        </p:spPr>
      </p:pic>
      <p:pic>
        <p:nvPicPr>
          <p:cNvPr id="400" name="" descr=""/>
          <p:cNvPicPr/>
          <p:nvPr/>
        </p:nvPicPr>
        <p:blipFill>
          <a:blip r:embed="rId2"/>
          <a:stretch/>
        </p:blipFill>
        <p:spPr>
          <a:xfrm>
            <a:off x="4427640" y="6103800"/>
            <a:ext cx="4492440" cy="7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0" y="189000"/>
            <a:ext cx="9144000" cy="41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          </a:t>
            </a: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科学备考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黑体"/>
                <a:ea typeface="黑体"/>
              </a:rPr>
              <a:t>　　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如果你能按照下面的思路和方法进行复习，每科提高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10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分至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20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分没有问题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: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70f09"/>
                </a:solidFill>
                <a:latin typeface="黑体"/>
                <a:ea typeface="黑体"/>
              </a:rPr>
              <a:t>    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方法一：科学高效地使用</a:t>
            </a:r>
            <a:r>
              <a:rPr b="1" lang="en-US" sz="2800" spc="-1" strike="noStrike">
                <a:solidFill>
                  <a:srgbClr val="ffff00"/>
                </a:solidFill>
                <a:latin typeface="黑体"/>
                <a:ea typeface="黑体"/>
              </a:rPr>
              <a:t>《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考试大纲</a:t>
            </a:r>
            <a:r>
              <a:rPr b="1" lang="en-US" sz="2800" spc="-1" strike="noStrike">
                <a:solidFill>
                  <a:srgbClr val="ffff00"/>
                </a:solidFill>
                <a:latin typeface="黑体"/>
                <a:ea typeface="黑体"/>
              </a:rPr>
              <a:t>》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要破除备考误区，要科学高效地使用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《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考试大纲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》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首先考生要学习钻研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《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考试大纲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》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，按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《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考试大纲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》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要求复习备考，把握要求，明确方向。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其次，要把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《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考试大纲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》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与高考试题、教材、练习相结合，重在发现高考内容的必考点，把握领会高考试题特点及其变化规律，发现今年处在高考考查方向上的知识点。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0" y="6103800"/>
            <a:ext cx="4492800" cy="7542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4427640" y="6103800"/>
            <a:ext cx="4492440" cy="7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250920" y="1268280"/>
            <a:ext cx="889308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在此基础上，要对照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《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考试大纲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》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把知识点从整体上再梳理一遍，在第二轮复习中加强针对性的专题训练，并不断地进行归纳、领会、应用，以此提高得分能力。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在最后的三个多月的复习中，则要挑选导向性好、难度适中的综合卷进行考前适应性训练，特别要重视完卷之后的总结反思，找准薄弱环节，对易出错的地方要分析原因，减少失误。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405" name="" descr=""/>
          <p:cNvPicPr/>
          <p:nvPr/>
        </p:nvPicPr>
        <p:blipFill>
          <a:blip r:embed="rId1"/>
          <a:stretch/>
        </p:blipFill>
        <p:spPr>
          <a:xfrm>
            <a:off x="0" y="6103800"/>
            <a:ext cx="4492800" cy="754200"/>
          </a:xfrm>
          <a:prstGeom prst="rect">
            <a:avLst/>
          </a:prstGeom>
          <a:ln w="0">
            <a:noFill/>
          </a:ln>
        </p:spPr>
      </p:pic>
      <p:pic>
        <p:nvPicPr>
          <p:cNvPr id="406" name="" descr=""/>
          <p:cNvPicPr/>
          <p:nvPr/>
        </p:nvPicPr>
        <p:blipFill>
          <a:blip r:embed="rId2"/>
          <a:stretch/>
        </p:blipFill>
        <p:spPr>
          <a:xfrm>
            <a:off x="4427640" y="6103800"/>
            <a:ext cx="4492440" cy="7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0" y="26028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方法二：把握命题趋向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在吃透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《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考试大纲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》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的基础上，考生还要把握命题趋向，增强备考的目的性。强调学科间的真正融合，是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2006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年之后高考的一个明显的发展趋势。因此，考生要重视加强相关学科间的交融。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0" y="2708280"/>
            <a:ext cx="914400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 Black"/>
                <a:ea typeface="黑体"/>
              </a:rPr>
              <a:t>方法三：“补弱”不是一个好思路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优点发挥法是提高效率的有效手段。然而一些同学备考时，喜欢采用‘补弱’的办法。其实对很多学生而言，‘补弱’是一件‘痛苦’的事情，有的时候无论怎样用功，‘弱势’仍不见好转。因此，建议大家学会扬长避短，确定与自身优势相关密切的内容，以</a:t>
            </a: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《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考试大纲</a:t>
            </a: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》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为依据，采用多点（优势）进攻、分割包围的战术，充分发挥自己优势，提高备考效率。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0" y="6103800"/>
            <a:ext cx="4492800" cy="754200"/>
          </a:xfrm>
          <a:prstGeom prst="rect">
            <a:avLst/>
          </a:prstGeom>
          <a:ln w="0">
            <a:noFill/>
          </a:ln>
        </p:spPr>
      </p:pic>
      <p:pic>
        <p:nvPicPr>
          <p:cNvPr id="410" name="" descr=""/>
          <p:cNvPicPr/>
          <p:nvPr/>
        </p:nvPicPr>
        <p:blipFill>
          <a:blip r:embed="rId2"/>
          <a:stretch/>
        </p:blipFill>
        <p:spPr>
          <a:xfrm>
            <a:off x="4427640" y="6103800"/>
            <a:ext cx="4492440" cy="7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 txBox="1"/>
          <p:nvPr/>
        </p:nvSpPr>
        <p:spPr>
          <a:xfrm>
            <a:off x="685800" y="762120"/>
            <a:ext cx="7620120" cy="30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距离高考</a:t>
            </a:r>
            <a:r>
              <a:rPr b="1" lang="en-US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95</a:t>
            </a:r>
            <a:r>
              <a:rPr b="1" lang="zh-CN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天</a:t>
            </a:r>
            <a:endParaRPr b="1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53" name=""/>
          <p:cNvSpPr/>
          <p:nvPr/>
        </p:nvSpPr>
        <p:spPr>
          <a:xfrm>
            <a:off x="762120" y="4495680"/>
            <a:ext cx="807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70f09"/>
                </a:solidFill>
                <a:latin typeface="Times New Roman"/>
              </a:rPr>
              <a:t>200</a:t>
            </a:r>
            <a:r>
              <a:rPr b="1" lang="en-US" sz="4000" spc="-1" strike="noStrike">
                <a:solidFill>
                  <a:srgbClr val="f70f09"/>
                </a:solidFill>
                <a:latin typeface="Times New Roman"/>
              </a:rPr>
              <a:t>9</a:t>
            </a:r>
            <a:r>
              <a:rPr b="1" lang="zh-CN" sz="4000" spc="-1" strike="noStrike">
                <a:solidFill>
                  <a:srgbClr val="f70f09"/>
                </a:solidFill>
                <a:latin typeface="Times New Roman"/>
              </a:rPr>
              <a:t>年</a:t>
            </a:r>
            <a:r>
              <a:rPr b="1" lang="zh-CN" sz="4000" spc="-1" strike="noStrike">
                <a:solidFill>
                  <a:srgbClr val="f70f09"/>
                </a:solidFill>
                <a:latin typeface="Times New Roman"/>
              </a:rPr>
              <a:t>3</a:t>
            </a:r>
            <a:r>
              <a:rPr b="1" lang="zh-CN" sz="4000" spc="-1" strike="noStrike">
                <a:solidFill>
                  <a:srgbClr val="f70f09"/>
                </a:solidFill>
                <a:latin typeface="Times New Roman"/>
              </a:rPr>
              <a:t>月</a:t>
            </a:r>
            <a:r>
              <a:rPr b="1" lang="zh-CN" sz="4000" spc="-1" strike="noStrike">
                <a:solidFill>
                  <a:srgbClr val="f70f09"/>
                </a:solidFill>
                <a:latin typeface="Times New Roman"/>
              </a:rPr>
              <a:t>3</a:t>
            </a:r>
            <a:r>
              <a:rPr b="1" lang="zh-CN" sz="4000" spc="-1" strike="noStrike">
                <a:solidFill>
                  <a:srgbClr val="f70f09"/>
                </a:solidFill>
                <a:latin typeface="Times New Roman"/>
              </a:rPr>
              <a:t>日</a:t>
            </a:r>
            <a:r>
              <a:rPr b="1" lang="zh-CN" sz="4000" spc="-1" strike="noStrike">
                <a:solidFill>
                  <a:srgbClr val="f70f09"/>
                </a:solidFill>
                <a:latin typeface="Times New Roman"/>
              </a:rPr>
              <a:t>-----200</a:t>
            </a:r>
            <a:r>
              <a:rPr b="1" lang="en-US" sz="4000" spc="-1" strike="noStrike">
                <a:solidFill>
                  <a:srgbClr val="f70f09"/>
                </a:solidFill>
                <a:latin typeface="Times New Roman"/>
              </a:rPr>
              <a:t>9</a:t>
            </a:r>
            <a:r>
              <a:rPr b="1" lang="zh-CN" sz="4000" spc="-1" strike="noStrike">
                <a:solidFill>
                  <a:srgbClr val="f70f09"/>
                </a:solidFill>
                <a:latin typeface="Times New Roman"/>
              </a:rPr>
              <a:t>年</a:t>
            </a:r>
            <a:r>
              <a:rPr b="1" lang="zh-CN" sz="4000" spc="-1" strike="noStrike">
                <a:solidFill>
                  <a:srgbClr val="f70f09"/>
                </a:solidFill>
                <a:latin typeface="Times New Roman"/>
              </a:rPr>
              <a:t>6</a:t>
            </a:r>
            <a:r>
              <a:rPr b="1" lang="zh-CN" sz="4000" spc="-1" strike="noStrike">
                <a:solidFill>
                  <a:srgbClr val="f70f09"/>
                </a:solidFill>
                <a:latin typeface="Times New Roman"/>
              </a:rPr>
              <a:t>月</a:t>
            </a:r>
            <a:r>
              <a:rPr b="1" lang="zh-CN" sz="4000" spc="-1" strike="noStrike">
                <a:solidFill>
                  <a:srgbClr val="f70f09"/>
                </a:solidFill>
                <a:latin typeface="Times New Roman"/>
              </a:rPr>
              <a:t>6</a:t>
            </a:r>
            <a:r>
              <a:rPr b="1" lang="zh-CN" sz="4000" spc="-1" strike="noStrike">
                <a:solidFill>
                  <a:srgbClr val="f70f09"/>
                </a:solidFill>
                <a:latin typeface="Times New Roman"/>
              </a:rPr>
              <a:t>日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tretch/>
        </p:blipFill>
        <p:spPr>
          <a:xfrm>
            <a:off x="0" y="6103800"/>
            <a:ext cx="4492800" cy="75420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2"/>
          <a:stretch/>
        </p:blipFill>
        <p:spPr>
          <a:xfrm>
            <a:off x="4651200" y="5943600"/>
            <a:ext cx="4492800" cy="91440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ffcc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179280" y="692280"/>
            <a:ext cx="8964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 Black"/>
                <a:ea typeface="黑体"/>
              </a:rPr>
              <a:t>方法四：培养答题技巧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一是将题目中的相关信息与学科知识挂钩，使问题得到解决。考题设置不像书本知识高度理想化、模式化，有些情境甚至是学生前所未闻的，但总可以从课本上找出知识依据。从这些题目信息中，要学会捕捉相关的学科信息，归纳成学科中的问题，再对知识点进行串联、分析、综合等，加以解决。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二是抓住关键词句，找出解题的突破口。挖掘题目中的隐含条件，将所给信息进行合理转换，例如换一种方式表述条件、将图表转换成文字、将文字信息转换成图表，将抽象的信息具体化，隐藏的条件浮出来，从而明确问题的指向。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0" y="6103800"/>
            <a:ext cx="4492800" cy="754200"/>
          </a:xfrm>
          <a:prstGeom prst="rect">
            <a:avLst/>
          </a:prstGeom>
          <a:ln w="0">
            <a:noFill/>
          </a:ln>
        </p:spPr>
      </p:pic>
      <p:pic>
        <p:nvPicPr>
          <p:cNvPr id="413" name="" descr=""/>
          <p:cNvPicPr/>
          <p:nvPr/>
        </p:nvPicPr>
        <p:blipFill>
          <a:blip r:embed="rId2"/>
          <a:stretch/>
        </p:blipFill>
        <p:spPr>
          <a:xfrm>
            <a:off x="4427640" y="6103800"/>
            <a:ext cx="4492440" cy="7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395280" y="620640"/>
            <a:ext cx="849780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三是讲求答题顺序，培养良好的应试心理。考生应提高应试水平，同时又不要把综合科目看得过于神秘。遇到生题、难题不要心慌，要集中注意力搜寻头脑中已有知识，尽可能联系熟悉的知识和题型，调动各种解题方法去解。综合测试有起点高、落点低的特点，因此，有的题目会很长，看起来很生疏、很难，但实际解起来往往并不难。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四是科学作答。答案要准确，要做到层次清晰、条理清楚、逻辑严谨。答案宜简洁，要紧扣基本观点。答案要尽量使用规范化的学科语言。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五是对于难题则能做多少算多少，化整为零，争取将其中较易步骤的分拿到。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0" y="6103800"/>
            <a:ext cx="4492800" cy="754200"/>
          </a:xfrm>
          <a:prstGeom prst="rect">
            <a:avLst/>
          </a:prstGeom>
          <a:ln w="0">
            <a:noFill/>
          </a:ln>
        </p:spPr>
      </p:pic>
      <p:pic>
        <p:nvPicPr>
          <p:cNvPr id="416" name="" descr=""/>
          <p:cNvPicPr/>
          <p:nvPr/>
        </p:nvPicPr>
        <p:blipFill>
          <a:blip r:embed="rId2"/>
          <a:stretch/>
        </p:blipFill>
        <p:spPr>
          <a:xfrm>
            <a:off x="4427640" y="6103800"/>
            <a:ext cx="4492440" cy="7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250920" y="620640"/>
            <a:ext cx="8569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418" name="" descr=""/>
          <p:cNvPicPr/>
          <p:nvPr/>
        </p:nvPicPr>
        <p:blipFill>
          <a:blip r:embed="rId1"/>
          <a:stretch/>
        </p:blipFill>
        <p:spPr>
          <a:xfrm>
            <a:off x="0" y="6103800"/>
            <a:ext cx="4492800" cy="754200"/>
          </a:xfrm>
          <a:prstGeom prst="rect">
            <a:avLst/>
          </a:prstGeom>
          <a:ln w="0">
            <a:noFill/>
          </a:ln>
        </p:spPr>
      </p:pic>
      <p:pic>
        <p:nvPicPr>
          <p:cNvPr id="419" name="" descr=""/>
          <p:cNvPicPr/>
          <p:nvPr/>
        </p:nvPicPr>
        <p:blipFill>
          <a:blip r:embed="rId2"/>
          <a:stretch/>
        </p:blipFill>
        <p:spPr>
          <a:xfrm>
            <a:off x="4427640" y="6103800"/>
            <a:ext cx="4492440" cy="75420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/>
          <p:nvPr/>
        </p:nvSpPr>
        <p:spPr>
          <a:xfrm>
            <a:off x="179280" y="260280"/>
            <a:ext cx="87138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工欲善其事，必先利其器，你为</a:t>
            </a: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95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天后的高考准备了什么？？？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少年辛苦终身事，莫向光阴惰寸功，你为</a:t>
            </a: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95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天后的高考付出了什么？？？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盛年不重来，一日难再晨，用时宜自勉，岁月不待人。 天道酬勤，不劳何获？在这</a:t>
            </a: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90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天里我们要：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刻苦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95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天，拼搏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95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天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为了心中永恒的梦想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为了人生无悔的青春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我衷心祝愿所有同学高考顺利，金榜题名，实现自己的理想和人生目标！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1042920" y="1125360"/>
            <a:ext cx="605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422" name="" descr=""/>
          <p:cNvPicPr/>
          <p:nvPr/>
        </p:nvPicPr>
        <p:blipFill>
          <a:blip r:embed="rId1"/>
          <a:stretch/>
        </p:blipFill>
        <p:spPr>
          <a:xfrm>
            <a:off x="0" y="6103800"/>
            <a:ext cx="4492800" cy="754200"/>
          </a:xfrm>
          <a:prstGeom prst="rect">
            <a:avLst/>
          </a:prstGeom>
          <a:ln w="0">
            <a:noFill/>
          </a:ln>
        </p:spPr>
      </p:pic>
      <p:pic>
        <p:nvPicPr>
          <p:cNvPr id="423" name="" descr=""/>
          <p:cNvPicPr/>
          <p:nvPr/>
        </p:nvPicPr>
        <p:blipFill>
          <a:blip r:embed="rId2"/>
          <a:stretch/>
        </p:blipFill>
        <p:spPr>
          <a:xfrm>
            <a:off x="4427640" y="6103800"/>
            <a:ext cx="4492440" cy="754200"/>
          </a:xfrm>
          <a:prstGeom prst="rect">
            <a:avLst/>
          </a:prstGeom>
          <a:ln w="0">
            <a:noFill/>
          </a:ln>
        </p:spPr>
      </p:pic>
      <p:sp>
        <p:nvSpPr>
          <p:cNvPr id="424" name=""/>
          <p:cNvSpPr txBox="1"/>
          <p:nvPr/>
        </p:nvSpPr>
        <p:spPr>
          <a:xfrm>
            <a:off x="684360" y="1197000"/>
            <a:ext cx="7848360" cy="41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苦不苦</a:t>
            </a:r>
            <a:r>
              <a:rPr b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,</a:t>
            </a:r>
            <a:r>
              <a:rPr b="1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想想家中的父母</a:t>
            </a:r>
            <a:r>
              <a:rPr b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.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累不累</a:t>
            </a:r>
            <a:r>
              <a:rPr b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,</a:t>
            </a:r>
            <a:r>
              <a:rPr b="1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想想自己后半辈</a:t>
            </a:r>
            <a:r>
              <a:rPr b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!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0" y="115920"/>
            <a:ext cx="8964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我们面对</a:t>
            </a:r>
            <a:r>
              <a:rPr b="1" lang="en-US" sz="3600" spc="-1" strike="noStrike">
                <a:solidFill>
                  <a:srgbClr val="ffff00"/>
                </a:solidFill>
                <a:latin typeface="黑体"/>
                <a:ea typeface="黑体"/>
              </a:rPr>
              <a:t>2008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年高考的洗礼！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黑体"/>
                <a:ea typeface="黑体"/>
              </a:rPr>
              <a:t>我们面对为之奋斗十余年梦想中的大学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！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现在 ，我们面对的是实实在在的</a:t>
            </a:r>
            <a:r>
              <a:rPr b="1" lang="en-US" sz="3600" spc="-1" strike="noStrike">
                <a:solidFill>
                  <a:srgbClr val="ffff00"/>
                </a:solidFill>
                <a:latin typeface="黑体"/>
                <a:ea typeface="黑体"/>
              </a:rPr>
              <a:t>95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天！ 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黑体"/>
                <a:ea typeface="黑体"/>
              </a:rPr>
              <a:t>在这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九十五天的日子里，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我们热血沸腾，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我们心潮澎湃，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我们更要把壮志雄心来展现 ！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0" y="6103800"/>
            <a:ext cx="4492800" cy="75420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2"/>
          <a:stretch/>
        </p:blipFill>
        <p:spPr>
          <a:xfrm>
            <a:off x="4427640" y="6103800"/>
            <a:ext cx="4492440" cy="754200"/>
          </a:xfrm>
          <a:prstGeom prst="rect">
            <a:avLst/>
          </a:prstGeom>
          <a:ln w="0">
            <a:noFill/>
          </a:ln>
        </p:spPr>
      </p:pic>
      <p:sp>
        <p:nvSpPr>
          <p:cNvPr id="360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ffcc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250920" y="1587600"/>
            <a:ext cx="8893080" cy="11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e103"/>
                </a:solidFill>
                <a:latin typeface="Times New Roman"/>
              </a:rPr>
              <a:t>       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79280" y="1052640"/>
            <a:ext cx="8640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            </a:t>
            </a: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悄悄地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，时光已进入</a:t>
            </a: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2008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年的春天，我们全都为时间过得如此之快而发出由衷的慨叹！</a:t>
            </a: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三年的高中生活说快又快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说慢又慢，当我们有心回首时，才觉得这一切竟是如此的神奇“弹指一挥间”。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作为老师我同大家一样走过了这风风雨雨的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三年，见证了你们付出的每一天。在我的眼前，仿佛还浮动着你们刚入学时的张张笑脸；在我的耳边，仿佛依然还能听到你们军训时的高声呐喊。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0" y="189000"/>
            <a:ext cx="777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苦干百日 </a:t>
            </a:r>
            <a:r>
              <a:rPr b="1" lang="en-US" sz="4800" spc="-1" strike="noStrike">
                <a:solidFill>
                  <a:srgbClr val="ff0000"/>
                </a:solidFill>
                <a:latin typeface="黑体"/>
                <a:ea typeface="黑体"/>
              </a:rPr>
              <a:t>   </a:t>
            </a: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一飞冲天</a:t>
            </a: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0" y="6103800"/>
            <a:ext cx="4492800" cy="75420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2"/>
          <a:stretch/>
        </p:blipFill>
        <p:spPr>
          <a:xfrm>
            <a:off x="4427640" y="6103800"/>
            <a:ext cx="4492440" cy="754200"/>
          </a:xfrm>
          <a:prstGeom prst="rect">
            <a:avLst/>
          </a:prstGeom>
          <a:ln w="0">
            <a:noFill/>
          </a:ln>
        </p:spPr>
      </p:pic>
      <p:sp>
        <p:nvSpPr>
          <p:cNvPr id="366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ffcc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533520" y="685800"/>
            <a:ext cx="8431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e103"/>
                </a:solidFill>
                <a:latin typeface="Times New Roman"/>
              </a:rPr>
              <a:t>      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0" y="549360"/>
            <a:ext cx="86756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黑体"/>
                <a:ea typeface="黑体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黑体"/>
                <a:ea typeface="黑体"/>
              </a:rPr>
              <a:t>三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年的时间，</a:t>
            </a:r>
            <a:r>
              <a:rPr b="1" lang="en-US" sz="2800" spc="-1" strike="noStrike">
                <a:solidFill>
                  <a:srgbClr val="ffff00"/>
                </a:solidFill>
                <a:latin typeface="黑体"/>
                <a:ea typeface="黑体"/>
              </a:rPr>
              <a:t>有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的同学眼睛片换了再换；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黑体"/>
                <a:ea typeface="黑体"/>
              </a:rPr>
              <a:t>三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年的时间，</a:t>
            </a:r>
            <a:r>
              <a:rPr b="1" lang="en-US" sz="2800" spc="-1" strike="noStrike">
                <a:solidFill>
                  <a:srgbClr val="ffff00"/>
                </a:solidFill>
                <a:latin typeface="黑体"/>
                <a:ea typeface="黑体"/>
              </a:rPr>
              <a:t>有的同学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胃病一犯再犯；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黑体"/>
                <a:ea typeface="黑体"/>
              </a:rPr>
              <a:t>三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年的时间，</a:t>
            </a:r>
            <a:r>
              <a:rPr b="1" lang="en-US" sz="2800" spc="-1" strike="noStrike">
                <a:solidFill>
                  <a:srgbClr val="ffff00"/>
                </a:solidFill>
                <a:latin typeface="黑体"/>
                <a:ea typeface="黑体"/>
              </a:rPr>
              <a:t>要好的朋友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也是难见几面；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黑体"/>
                <a:ea typeface="黑体"/>
              </a:rPr>
              <a:t>三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年的时间，与双亲聊天屈指可算。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黑体"/>
                <a:ea typeface="黑体"/>
              </a:rPr>
              <a:t>三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年的生活，我们与书为伴；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黑体"/>
                <a:ea typeface="黑体"/>
              </a:rPr>
              <a:t>三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年的生活，我们向时间挑战 ；  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黑体"/>
                <a:ea typeface="黑体"/>
              </a:rPr>
              <a:t>三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年的生活，</a:t>
            </a:r>
            <a:r>
              <a:rPr b="1" lang="en-US" sz="2800" spc="-1" strike="noStrike">
                <a:solidFill>
                  <a:srgbClr val="ffff00"/>
                </a:solidFill>
                <a:latin typeface="黑体"/>
                <a:ea typeface="黑体"/>
              </a:rPr>
              <a:t>几乎就是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两点一线。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我们明白我们的付出</a:t>
            </a:r>
            <a:r>
              <a:rPr b="1" lang="en-US" sz="2800" spc="-1" strike="noStrike">
                <a:solidFill>
                  <a:srgbClr val="ffff00"/>
                </a:solidFill>
                <a:latin typeface="黑体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全是为让梦想实现！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         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惊叹之余，我们仍要自信乐观，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         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惊叹之余，我们仍要大步朝前，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         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惊叹之余，我们仍要奋战这将近百天！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0" y="6103800"/>
            <a:ext cx="4492800" cy="754200"/>
          </a:xfrm>
          <a:prstGeom prst="rect">
            <a:avLst/>
          </a:prstGeom>
          <a:ln w="0">
            <a:noFill/>
          </a:ln>
        </p:spPr>
      </p:pic>
      <p:pic>
        <p:nvPicPr>
          <p:cNvPr id="370" name="" descr=""/>
          <p:cNvPicPr/>
          <p:nvPr/>
        </p:nvPicPr>
        <p:blipFill>
          <a:blip r:embed="rId2"/>
          <a:stretch/>
        </p:blipFill>
        <p:spPr>
          <a:xfrm>
            <a:off x="4427640" y="6103800"/>
            <a:ext cx="4492440" cy="7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380880" y="914400"/>
            <a:ext cx="876312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931f7"/>
                </a:solidFill>
                <a:latin typeface="Times New Roman"/>
              </a:rPr>
              <a:t>                           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0" y="0"/>
            <a:ext cx="89647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三班的同学们，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是热血男儿，就拿出你们的干劲，</a:t>
            </a: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让这</a:t>
            </a: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95</a:t>
            </a: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天不留下人生的遗憾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！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是巾帼英雄，就发挥你们的才智，谁说女儿不如男！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让我们的老师看到你们青春燃烧的火焰！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小鸟不出窝总看不到天外有天；温室的花朵不锻炼永远也抵御不了刺骨的严寒。  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请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放心的飞吧！老师始终陪伴在你的身边；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大胆的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努力吧！老师始终为你摇旗呐喊，不会有丝毫的怨言！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0" y="6103800"/>
            <a:ext cx="4492800" cy="754200"/>
          </a:xfrm>
          <a:prstGeom prst="rect">
            <a:avLst/>
          </a:prstGeom>
          <a:ln w="0">
            <a:noFill/>
          </a:ln>
        </p:spPr>
      </p:pic>
      <p:pic>
        <p:nvPicPr>
          <p:cNvPr id="374" name="" descr=""/>
          <p:cNvPicPr/>
          <p:nvPr/>
        </p:nvPicPr>
        <p:blipFill>
          <a:blip r:embed="rId2"/>
          <a:stretch/>
        </p:blipFill>
        <p:spPr>
          <a:xfrm>
            <a:off x="4427640" y="6103800"/>
            <a:ext cx="4492440" cy="7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0" y="6103800"/>
            <a:ext cx="4492800" cy="754200"/>
          </a:xfrm>
          <a:prstGeom prst="rect">
            <a:avLst/>
          </a:prstGeom>
          <a:ln w="0">
            <a:noFill/>
          </a:ln>
        </p:spPr>
      </p:pic>
      <p:pic>
        <p:nvPicPr>
          <p:cNvPr id="376" name="" descr=""/>
          <p:cNvPicPr/>
          <p:nvPr/>
        </p:nvPicPr>
        <p:blipFill>
          <a:blip r:embed="rId2"/>
          <a:stretch/>
        </p:blipFill>
        <p:spPr>
          <a:xfrm>
            <a:off x="4427640" y="6103800"/>
            <a:ext cx="4492440" cy="75420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0" y="333360"/>
            <a:ext cx="9144000" cy="52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抛弃私心杂念，让我们不再有遗憾；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我们携手拼搏，同学间的摩擦永不再现。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让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老师看到的是你匆忙的身影，看不到你行动散慢。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让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老师看到的是你埋头的苦干，</a:t>
            </a: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看不到你课前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课后的闲谈。</a:t>
            </a:r>
            <a:r>
              <a:rPr b="0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看罢了吴钩，把栏杆拍断。高考是我们的舞台，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我们就当尽情展现！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       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苦干这</a:t>
            </a: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九十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五天，我们要一飞冲天！！！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1600200" y="0"/>
            <a:ext cx="6095880" cy="662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拼</a:t>
            </a:r>
            <a:endParaRPr b="0" lang="en-US" sz="9600" spc="1" strike="noStrike">
              <a:ln w="936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4427640" y="6103800"/>
            <a:ext cx="4492440" cy="754200"/>
          </a:xfrm>
          <a:prstGeom prst="rect">
            <a:avLst/>
          </a:prstGeom>
          <a:ln w="0">
            <a:noFill/>
          </a:ln>
        </p:spPr>
      </p:pic>
      <p:pic>
        <p:nvPicPr>
          <p:cNvPr id="380" name="" descr=""/>
          <p:cNvPicPr/>
          <p:nvPr/>
        </p:nvPicPr>
        <p:blipFill>
          <a:blip r:embed="rId2"/>
          <a:stretch/>
        </p:blipFill>
        <p:spPr>
          <a:xfrm>
            <a:off x="0" y="6103800"/>
            <a:ext cx="4492800" cy="7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1" name=""/>
          <p:cNvGraphicFramePr/>
          <p:nvPr/>
        </p:nvGraphicFramePr>
        <p:xfrm>
          <a:off x="228600" y="1981080"/>
          <a:ext cx="8077320" cy="361800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752480"/>
                <a:gridCol w="1828800"/>
                <a:gridCol w="144792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ffff00"/>
                          </a:solidFill>
                          <a:latin typeface="Arial Black"/>
                          <a:ea typeface="黑体"/>
                        </a:rPr>
                        <a:t>姓  名</a:t>
                      </a:r>
                      <a:endParaRPr b="0" lang="en-US" sz="36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00"/>
                          </a:solidFill>
                          <a:latin typeface="Arial Black"/>
                          <a:ea typeface="黑体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Arial Black"/>
                          <a:ea typeface="黑体"/>
                        </a:rPr>
                        <a:t>本次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Arial Black"/>
                          <a:ea typeface="黑体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Arial Black"/>
                          <a:ea typeface="黑体"/>
                        </a:rPr>
                        <a:t>分数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 Black"/>
                          <a:ea typeface="黑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 Black"/>
                          <a:ea typeface="黑体"/>
                        </a:rPr>
                        <a:t>年级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 Black"/>
                          <a:ea typeface="黑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 Black"/>
                          <a:ea typeface="黑体"/>
                        </a:rPr>
                        <a:t>名次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Arial Black"/>
                          <a:ea typeface="黑体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Arial Black"/>
                          <a:ea typeface="黑体"/>
                        </a:rPr>
                        <a:t>最高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Arial Black"/>
                          <a:ea typeface="黑体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Arial Black"/>
                          <a:ea typeface="黑体"/>
                        </a:rPr>
                        <a:t>分数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 Black"/>
                          <a:ea typeface="黑体"/>
                        </a:rPr>
                        <a:t>  </a:t>
                      </a: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 Black"/>
                          <a:ea typeface="黑体"/>
                        </a:rPr>
                        <a:t>最优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 Black"/>
                          <a:ea typeface="黑体"/>
                        </a:rPr>
                        <a:t>  </a:t>
                      </a: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 Black"/>
                          <a:ea typeface="黑体"/>
                        </a:rPr>
                        <a:t>名次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 Black"/>
                          <a:ea typeface="黑体"/>
                        </a:rPr>
                        <a:t>张     涛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Arial Black"/>
                          <a:ea typeface="黑体"/>
                        </a:rPr>
                        <a:t>510.5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 Black"/>
                          <a:ea typeface="黑体"/>
                        </a:rPr>
                        <a:t>93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Arial Black"/>
                          <a:ea typeface="黑体"/>
                        </a:rPr>
                        <a:t>551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 Black"/>
                          <a:ea typeface="黑体"/>
                        </a:rPr>
                        <a:t>28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 Black"/>
                          <a:ea typeface="黑体"/>
                        </a:rPr>
                        <a:t>袁     浩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Arial Black"/>
                          <a:ea typeface="黑体"/>
                        </a:rPr>
                        <a:t>502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 Black"/>
                          <a:ea typeface="黑体"/>
                        </a:rPr>
                        <a:t>110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Arial Black"/>
                          <a:ea typeface="黑体"/>
                        </a:rPr>
                        <a:t>502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 Black"/>
                          <a:ea typeface="黑体"/>
                        </a:rPr>
                        <a:t>70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 Black"/>
                          <a:ea typeface="黑体"/>
                        </a:rPr>
                        <a:t>贺     春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Arial Black"/>
                          <a:ea typeface="黑体"/>
                        </a:rPr>
                        <a:t>497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 Black"/>
                          <a:ea typeface="黑体"/>
                        </a:rPr>
                        <a:t>117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Arial Black"/>
                          <a:ea typeface="黑体"/>
                        </a:rPr>
                        <a:t>516.5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 Black"/>
                          <a:ea typeface="黑体"/>
                        </a:rPr>
                        <a:t>96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70f09"/>
                          </a:solidFill>
                          <a:latin typeface="Arial Black"/>
                          <a:ea typeface="黑体"/>
                        </a:rPr>
                        <a:t>贺 美 慧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70f09"/>
                          </a:solidFill>
                          <a:latin typeface="Arial Black"/>
                          <a:ea typeface="黑体"/>
                        </a:rPr>
                        <a:t>464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70f09"/>
                          </a:solidFill>
                          <a:latin typeface="Arial Black"/>
                          <a:ea typeface="黑体"/>
                        </a:rPr>
                        <a:t>184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70f09"/>
                          </a:solidFill>
                          <a:latin typeface="Arial Black"/>
                          <a:ea typeface="黑体"/>
                        </a:rPr>
                        <a:t>464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70f09"/>
                          </a:solidFill>
                          <a:latin typeface="Arial Black"/>
                          <a:ea typeface="黑体"/>
                        </a:rPr>
                        <a:t>184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 Black"/>
                          <a:ea typeface="黑体"/>
                        </a:rPr>
                        <a:t>陈     杰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Arial Black"/>
                          <a:ea typeface="黑体"/>
                        </a:rPr>
                        <a:t>456.5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 Black"/>
                          <a:ea typeface="黑体"/>
                        </a:rPr>
                        <a:t>198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Arial Black"/>
                          <a:ea typeface="黑体"/>
                        </a:rPr>
                        <a:t>460.5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 Black"/>
                          <a:ea typeface="黑体"/>
                        </a:rPr>
                        <a:t>141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2" name=""/>
          <p:cNvSpPr/>
          <p:nvPr/>
        </p:nvSpPr>
        <p:spPr>
          <a:xfrm>
            <a:off x="0" y="68580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年级前</a:t>
            </a: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200</a:t>
            </a: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名中：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1:59:29Z</dcterms:modified>
  <cp:revision>31</cp:revision>
  <dc:subject>主题班会课件(分28大类): http://shop62905894.taobao.com</dc:subject>
  <dc:title>主题班会课件(分28大类): http://shop62905894.taobao.com</dc:title>
</cp:coreProperties>
</file>