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9099-C149-4BA3-AEEA-9510F46CA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6DCB-4764-4BE6-BCEF-F8F75BDC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B411-466B-46F0-9C51-B41687D42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A180-FA17-412D-8D05-40B36528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E246-C869-4D05-9E1D-4B6166C7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AA50-6976-454C-90CB-FACFC3F6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0D27-5EA2-4574-ACB4-23EC1E48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C08C-D291-4A63-9707-A57B5C17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CC0F-DC84-4974-91BB-3D7ED827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46F6-9CC6-4389-9229-F9E26DB5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932A-38FC-46E5-B8C7-B8DF49DE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D727-A370-4E54-832A-81FB51A5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C157-22D5-43AC-9760-E13F79B982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1219320"/>
            <a:ext cx="70102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百日誓师主题班会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4343400"/>
            <a:ext cx="8458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762120"/>
            <a:ext cx="7620120" cy="30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距离高考</a:t>
            </a: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100</a:t>
            </a:r>
            <a:r>
              <a:rPr b="0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天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44956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2005</a:t>
            </a: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年</a:t>
            </a: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月</a:t>
            </a: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26</a:t>
            </a: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日</a:t>
            </a: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-----2005</a:t>
            </a: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年</a:t>
            </a: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月</a:t>
            </a: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6103800"/>
            <a:ext cx="4492800" cy="754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51200" y="5943600"/>
            <a:ext cx="4492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355760" y="0"/>
            <a:ext cx="52736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5400" spc="-1" strike="noStrike">
                <a:solidFill>
                  <a:srgbClr val="f70f09"/>
                </a:solidFill>
                <a:latin typeface="Times New Roman"/>
              </a:rPr>
              <a:t>走向前</a:t>
            </a:r>
            <a:r>
              <a:rPr b="1" lang="zh-CN" sz="4400" spc="-1" strike="noStrike">
                <a:solidFill>
                  <a:srgbClr val="f70f09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70f09"/>
                </a:solidFill>
                <a:latin typeface="Times New Roman"/>
              </a:rPr>
              <a:t>                          </a:t>
            </a:r>
            <a:r>
              <a:rPr b="1" lang="zh-CN" sz="3200" spc="-1" strike="noStrike">
                <a:solidFill>
                  <a:srgbClr val="f70f09"/>
                </a:solidFill>
                <a:latin typeface="Times New Roman"/>
              </a:rPr>
              <a:t>李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752480"/>
            <a:ext cx="845820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高考倒计时牌又撕下了一页，亮的刺眼的“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00”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赫然映入眼帘，心猛地一惊：只剩一百天了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这时的我们，也许惊慌，也许茫然，也许徘徊，也许在潜意中还会有些颓废，不管怎样，走向前，一步一步让梦永在心间！只要明天还在，只要阳光依旧，就不要悲哀，就不要徘徊，冬雪终将悄悄融化，春雷定将滚滚而来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3520" y="685800"/>
            <a:ext cx="7924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31f7"/>
                </a:solidFill>
                <a:latin typeface="Times New Roman"/>
              </a:rPr>
              <a:t>成功的花，人们只惊慕它现时的明艳，孰不知当初它的芽儿渗透了奋斗的泪泉，洒遍了牺牲的血雨。的确，我们的未来可能很大，可能很小，但无论大小都应坚信——  即使是一只乌鸦，也不要轻易改变自己的颜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31f7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931f7"/>
                </a:solidFill>
                <a:latin typeface="Times New Roman"/>
              </a:rPr>
              <a:t>百里行程九十半。一百天，像流星，稍纵即逝，你可以碌碌无为，但也完全可以创造奇迹。相信自己：即使再小的帆也能远航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914400"/>
            <a:ext cx="876312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31f7"/>
                </a:solidFill>
                <a:latin typeface="Times New Roman"/>
              </a:rPr>
              <a:t>因为有梦，我们经过风风雨雨，却走的那样执著；因为有梦，我们走的坎坎坷坷，却走的那样坚定；因为有梦，我们流汗流泪，口缝里却从不挤出一个“累”字！这就是我们！年轻的我们！新时代的我们！在无数顺境与逆境的交替中，是这样心甘情愿地为梦而付出，为梦拼搏，纵然做一株道旁的小草，也坚信着破土而出的美丽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31f7"/>
                </a:solidFill>
                <a:latin typeface="Times New Roman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14400" y="1371600"/>
            <a:ext cx="7772400" cy="36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931f7"/>
                </a:solidFill>
                <a:latin typeface="Times New Roman"/>
              </a:rPr>
              <a:t>走，不必回头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931f7"/>
                </a:solidFill>
                <a:latin typeface="Times New Roman"/>
              </a:rPr>
              <a:t>         </a:t>
            </a:r>
            <a:r>
              <a:rPr b="1" lang="zh-CN" sz="4400" spc="-1" strike="noStrike">
                <a:solidFill>
                  <a:srgbClr val="0931f7"/>
                </a:solidFill>
                <a:latin typeface="Times New Roman"/>
              </a:rPr>
              <a:t>这不是黑暗，而是光明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931f7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931f7"/>
                </a:solidFill>
                <a:latin typeface="Times New Roman"/>
              </a:rPr>
              <a:t>这不是结束，而是开始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931f7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931f7"/>
                </a:solidFill>
                <a:latin typeface="Times New Roman"/>
              </a:rPr>
              <a:t>这不是虚无，而是永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304920" y="0"/>
            <a:ext cx="8838720" cy="4952520"/>
            <a:chOff x="304920" y="0"/>
            <a:chExt cx="8838720" cy="4952520"/>
          </a:xfrm>
        </p:grpSpPr>
        <p:sp>
          <p:nvSpPr>
            <p:cNvPr id="57" name=""/>
            <p:cNvSpPr/>
            <p:nvPr/>
          </p:nvSpPr>
          <p:spPr>
            <a:xfrm>
              <a:off x="304920" y="0"/>
              <a:ext cx="8838720" cy="495252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0"/>
              <a:ext cx="8838720" cy="495252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70f09"/>
                  </a:solidFill>
                  <a:latin typeface="Arial"/>
                </a:rPr>
                <a:t>把握每个瞬间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这样走过风风雨雨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多少沉浮记得清清楚楚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三九严冬烈日酷暑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无怨无悔同舟共渡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这样走过万里千里，汗水泪水化作无穷动力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一起努力向目标冲击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一步一步走向胜利</a:t>
              </a:r>
              <a:br>
                <a:rPr sz="2800"/>
              </a:br>
              <a:br>
                <a:rPr sz="2800"/>
              </a:br>
              <a:r>
                <a:rPr b="0" lang="zh-CN" sz="2800" spc="-1" strike="noStrike">
                  <a:solidFill>
                    <a:srgbClr val="e10900"/>
                  </a:solidFill>
                  <a:latin typeface="Arial"/>
                </a:rPr>
                <a:t>把握每个瞬间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让梦想在一分一秒中慢慢实现</a:t>
              </a:r>
              <a:br>
                <a:rPr sz="2800"/>
              </a:br>
              <a:r>
                <a:rPr b="0" lang="zh-CN" sz="2800" spc="-1" strike="noStrike">
                  <a:solidFill>
                    <a:srgbClr val="e10900"/>
                  </a:solidFill>
                  <a:latin typeface="Arial"/>
                </a:rPr>
                <a:t>把握每个瞬间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韧劲不怕磨练经得起考验</a:t>
              </a:r>
              <a:br>
                <a:rPr sz="2800"/>
              </a:br>
              <a:r>
                <a:rPr b="0" lang="zh-CN" sz="2800" spc="-1" strike="noStrike">
                  <a:solidFill>
                    <a:srgbClr val="e10900"/>
                  </a:solidFill>
                  <a:latin typeface="Arial"/>
                </a:rPr>
                <a:t>把握每个瞬间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肝胆相照我们手足相连</a:t>
              </a:r>
              <a:br>
                <a:rPr sz="2800"/>
              </a:br>
              <a:r>
                <a:rPr b="0" lang="zh-CN" sz="2800" spc="-1" strike="noStrike">
                  <a:solidFill>
                    <a:srgbClr val="e10900"/>
                  </a:solidFill>
                  <a:latin typeface="Arial"/>
                </a:rPr>
                <a:t>把握每个瞬间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惊涛骇浪中我们奋勇争先</a:t>
              </a:r>
              <a:br>
                <a:rPr sz="2800"/>
              </a:b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32440" y="0"/>
            <a:ext cx="2311560" cy="2362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0" y="2057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832440" y="4495680"/>
            <a:ext cx="23115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600200" y="0"/>
            <a:ext cx="6095880" cy="662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拼</a:t>
            </a:r>
            <a:endParaRPr b="0" lang="en-US" sz="96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59:33Z</dcterms:modified>
  <cp:revision>12</cp:revision>
  <dc:subject>主题班会课件(分28大类): http://shop62905894.taobao.com</dc:subject>
  <dc:title>主题班会课件(分28大类): http://shop62905894.taobao.com</dc:title>
</cp:coreProperties>
</file>