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8D8-B770-473E-9C76-1B523525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26E-CE1E-4A17-8962-22EE076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419-5835-46D8-97B3-B1C1E2D9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4FB-C3C6-49DC-8FB7-6967CD3F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8A18-3D0F-4D36-BBCA-5FC1BAB7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7527-04AB-4595-97A7-67AE854C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D4E-4441-4FEE-928D-5D2D81A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138A-8D0E-49C3-A9F3-061F2F5D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D10A-3959-4563-899E-CB9724F6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DB4-F5CF-49EA-B0FD-DD8C5157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E824-F54E-49A0-857B-49EABF8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511-6646-4C2E-BF56-8489870E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0392-96A3-471C-863B-634C766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1B61-EA70-461F-9F3A-CF097A09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B09-E2EC-4956-A982-7144F5D0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F49D-EE99-4117-8694-6D82B408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4A1A-A60B-473B-9E8A-0785CFD6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150-8BE9-427D-8086-B8250E2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ACC-23BB-441F-BD7C-2142F05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D72-08EE-49F7-8353-3E7F707C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BBB-D118-4DFB-A33B-B83F134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5F8-F562-490C-BF88-27099E9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A12-3ECB-484F-B7ED-002967E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76C-FFE6-48EE-9CFA-2FF66F5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9A5-47E8-427A-92C1-E79485331DB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B233-344A-47C2-ABD3-8A1284A6DC5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log.photo.sina.com.cn/showpic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6028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了我们共同期待的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---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色六月的收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76360" y="1801800"/>
            <a:ext cx="4081320" cy="5056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716360" y="3860640"/>
            <a:ext cx="309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.....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仅有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0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天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392920"/>
            <a:ext cx="860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Comic Sans MS"/>
              </a:rPr>
              <a:t>"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omic Sans MS"/>
              </a:rPr>
              <a:t>我非常聪明，我潜力无穷。我要在老师的教导下，告别三闲，静专思主，刻苦学习，遵守纪律，加强锻炼，全面发展，为四十岁做准备！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omic Sans MS"/>
              </a:rPr>
              <a:t>三闲：闲思、闲话、闲事。静专思主：静  学习场所的幽静，有浓厚的学习气氛；专  专心致志，快节奏，高效率；思  善于思考，勤于动脑，积极钻研；主  自主学习，主动学习，有强烈的求知欲和意志力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261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"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脚踏实地，奋力拼搏。敢立壮志，誓夺第一。四中学生，潜力无穷，自强不息，我要成功。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"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765000"/>
            <a:ext cx="67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带着新鲜灵感醒来。为什么不是你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213000"/>
            <a:ext cx="65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欣赏到围绕在他们身边的美丽。为什么不是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76560" y="12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3333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选择远离昨日的阴霾，抓住今日灿烂的阳光。为什么不是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0800000">
            <a:off x="539280" y="3141720"/>
            <a:ext cx="74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因为一点点的欢乐而对生活充满了感恩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765000"/>
            <a:ext cx="63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凭借自信一扫烦扰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565360"/>
            <a:ext cx="57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多人会凭借自己的力量，使自己的潜力进尽可能得到挖掘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54936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从自己坏习惯的禁锢中解脱出来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9242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克服生活条件的限制，经营着自己的快乐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1640" y="907920"/>
            <a:ext cx="675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从简易中发现丰足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2708280"/>
            <a:ext cx="564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面临两难选择，他们选择了正确的而非有利可图的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00000" y="476280"/>
            <a:ext cx="65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决定克服心障，以积极的行动让自己的生活出现积极的改变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3284640"/>
            <a:ext cx="58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采取必要的行动，令自己有所完善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1052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今天，是一个崭新的日子，许多人会抓住这个日子，全心全意地过好这个日子。为什么不是你？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4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90160" y="250524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行动未必带来快乐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不行动却一定不快乐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2351520"/>
            <a:ext cx="79372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天地生人，有一人当有一人之业；人生在世，生一日当尽一日之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47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7640" y="227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被击倒并非最糟糕的失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放弃尝试才是真正的失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436680"/>
            <a:ext cx="8227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想失败就拿出成功的状态，踏踏实实走好每一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越接近后期，成绩变化越大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综合训练综合性强，训练强度大，知识复习频率快，符合遗忘曲线抑制规律，便于同学们在最短的时间内掌握最多的知识，是同学们提高成绩的黄金时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班主任和各位任课老师做学生的坚强后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150264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十二年磨砺，立志临绝顶；五十日竞渡，“破浪”展雄风。凝聚力量决战高考，齐心大干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！燃烧青春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追求梦想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拼搏超越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坚信：坚持到底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所向无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1125360"/>
            <a:ext cx="86104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愿我们圆梦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**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一中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共同分享金色六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功的喜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6953400" cy="7174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378920" y="-949680"/>
            <a:ext cx="1765080" cy="87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高考必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V="1" rot="10800000">
            <a:off x="969840" y="2061720"/>
            <a:ext cx="695664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三更灯火五更鸡，正是男儿发愤时。黑发不知勤学早，白首方悔读书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--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颜真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749960"/>
            <a:ext cx="8040600" cy="19227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多为成功找方法，不为失败找理由。 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不惜寸阴于今日，必留遗憾于明日。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 rot="5400000">
            <a:off x="-1564920" y="2940840"/>
            <a:ext cx="6095880" cy="1166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solidFill>
                  <a:srgbClr val="ffe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用激情去缔造成功</a:t>
            </a:r>
            <a:endParaRPr b="1" lang="en-US" sz="60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solidFill>
                <a:srgbClr val="ffe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2" name=""/>
          <p:cNvSpPr/>
          <p:nvPr/>
        </p:nvSpPr>
        <p:spPr>
          <a:xfrm>
            <a:off x="3439440" y="4508640"/>
            <a:ext cx="31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高三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(27)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成功无捷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34136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“如果我兢兢业业工作一个月，我能转正吗？”老板答道：“你的问题让我想到一个冷房间的温度计，你用热手捂着它，能使表上显示温度上升，不过房间一点也不会温暖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00280"/>
            <a:ext cx="6248520" cy="1373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的成就是因为昨天的积累，明天的成功则有赖于今天的努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工作中。这要靠我们的意志，但更重要的是建立一个良好的生活习惯和工作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要记住：“因为你有选择，你可以主宰自己的人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02136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 pro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找问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341360"/>
            <a:ext cx="74678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上初中时，老师给我们讲了一个故事：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故事讲完后，老师问：“这个故事有什么问题吗？”我们说：“兔子不会爬树。”， “一只兔子不可能同时砸晕三只猎狗。” “还有哪？”老师继续问。直到我们再找不出问题了，老师才说：“可是还有一个问题，你们都没有提到，土拨鼠哪里去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1989000"/>
            <a:ext cx="6248160" cy="180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自己心目中的目标哪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87700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gin with the end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573408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Put first thing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2144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师从大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1143000"/>
            <a:ext cx="7467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一位音乐系的学生走进练习室，钢琴上，摆着一份全新的乐谱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超高难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他翻动着，喃喃自语，感觉自己对弹奏钢琴的信心似乎跌到了谷底，消磨殆尽。已经三个月了！自从跟了这位新的指导教授之后，他不知道，为什么教授要以这种方式整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勉强打起精神。他开始用十只手指头奋战、奋战、奋战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琴间盖住了练习室外教授走来的脚步声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指导教授是个极有名的钢琴大师。授课第一天，他给自己的新学生一份乐谱。“试试看吧！”他说。乐谱难度颇高，学生弹得生涩僵滞，错误百出。“还不熟，回去好好练习！”教授在下课时，如此叮嘱学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学生练了一个星期，第二周上课时正准备让教授验收，没想到教授又给了他一份难度更高的乐谱。“试试看吧”！上星期的课，教授提也没提。学生再次挣扎于更高难度的技巧挑战。第三周，更难的乐谱又出现了。同样的情形持续着，学生每次在课堂上都被一份新的乐谱所困扰，然后把它带回练习，接着再回到课堂上，重新面临两倍难度的乐谱，却怎么样都追不上进度，一点也没有因为上周的练习而有驾轻就熟的感觉。学生感到越来越不安、沮丧和气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走进练习室。学生再也忍不住了。他必须向钢琴大师提出这三个月来何以不断折磨自己的质疑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没开口，他抽出了最早的第一份乐谱，交给学生。“弹奏吧！”他以坚定的眼神望着学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不可思议的结果发生了，连学生自已都惊讶万分，他居然可以将这首曲子弹奏得如此美妙，如此精湛！教授又让学生试了第二堂课的乐谱，学生依然呈现超高水准的表现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演奏结束，学生怔怔地看着老师，说不出话来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如果，我任由你表现最擅长的部分，可能你还在练习最早的那份乐谱，就不会有现在这样的程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钢琴大师缓缓地说。</a:t>
            </a:r>
            <a:r>
              <a:rPr b="1" lang="zh-CN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907920"/>
            <a:ext cx="6248520" cy="30801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人，往往习惯于表现自己所熟悉、所擅长的领域。但如果我们愿意回首，细细检视，将会恍然大悟：面对紧锣密鼓的工作挑战，难度渐升的工作压力，持续提升自我，不也就在不知不觉间养成了今日的诸般能力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因为，人，确实有无限的潜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了这层体悟与认识，会让我们更欣然乐意地面对未来更多的难题，不断磨练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64483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harpen the s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1:53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9:45Z</dcterms:modified>
  <cp:revision>24</cp:revision>
  <dc:subject>主题班会课件(分28大类): http://shop62905894.taobao.com</dc:subject>
  <dc:title>主题班会课件(分28大类): http://shop62905894.taobao.com</dc:title>
</cp:coreProperties>
</file>