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70-D3DA-4103-AF26-D1C02E1C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718-4E69-44FC-B56B-E2E7F537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B4B-3566-41BF-B6E2-56C4359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5BF-E185-4FF0-A772-BCF6CA6D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A9C8-0D9C-42CB-854F-9F593E7C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89C7-5C36-4690-81FF-77E40222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0D79-C1E3-4F71-BD01-C2F58529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5A6B-BB1B-43A4-A64A-315B70A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DD92-FCF9-4A9A-AAD0-F998F14F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0F05-1528-4D25-AEFB-80026F4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B9F-6B2B-4B72-8B17-CF07B45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B76-D646-4132-941F-A2635F5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6F8-D7BB-476E-AABD-A6BEEF2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1CC-8AAD-4775-A9BC-6EC2ED7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CEDF-0B46-4541-BB1B-B44EF15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F4C-166D-44F8-B6D6-EA76C327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BBB1-68A6-4FF9-B6D2-42284DB1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777-4228-4A3B-AFAF-1F51D30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187-F8C5-435F-B6AF-5E1E8D6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CA8-6F48-4BE2-AB03-0BBDAA8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5D8-9051-492E-A3B8-291EADF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BB8-BA08-41FC-8F90-843DA56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284-A0A4-49AD-BA3C-522ABC2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738-63B0-4803-801E-34E8988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393-95DC-4863-938F-5356AE8B542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9050-A3A8-4A0F-96D1-50FF34CF53A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SN00226A0000%5B1%5D.wav" TargetMode="External"/><Relationship Id="rId3" Type="http://schemas.microsoft.com/office/2007/relationships/media" Target="file:///tmp/home/.config/libreoffice/4/user/gallery/MSSN00226A0000%5B1%5D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 rot="5400000">
            <a:off x="3237840" y="28573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月考分析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275280"/>
            <a:ext cx="8229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语文学习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七步法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”，觉得也许会对你有所启发。这“七步法”中的七步分别是：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读一读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阅读课文是复习的第一步。通过阅读，把握全文大意，了解作者情感、文章特色等知识点。不同类型的课文需要不同的读法：教读课文需精读，字、词、句、篇等各个知识点全方位掌握，精彩语段达到成诵；自读课文需泛读，有的还需跳读，一目十行，以求提高阅读速度。阅读速度，也是近几年高考考查项目之一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划一划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即在阅读课文同时，把文中的重点句、中心句、名句以至生字、生词，用不同的符号勾画出来，既能加深印象，又便于复习巩固，一目了然。遇到规范句子，不妨划分句子成分，复句还需标明关系，典型语段要划分层次、归纳层意。遇到疑难，还要作标记，便于以后向老师同学求教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查一查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查什么呢？查工具书。字典、词典、参考资料，只要用得上，尽可能发挥工具书的作用。亲自查找答案，是探索学习方法、摸索学习规律的过程，也是提高运用工具书能力的过程。对于似曾相识的语句，不妨查一查以往学过的课文，把新旧知识联系起来，“温故而知新”。查出的答案经过分析辨别，理解能力又能得到提高。 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304920"/>
            <a:ext cx="3429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【语文的学习】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54720" y="533520"/>
            <a:ext cx="5445720" cy="67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问一问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“三人行，必有我师焉”。复习过程免不了有疑难，要独立钻研，实在解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不了的，要善于向老师、同学请教。有时自己向老师请教一个问题，老师很可能不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讲一个问相关知识联系起来，使你融会贯通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写一写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俗话说，眼看十遍，不如手过一遍。无论平时学习还是考试，有的同学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往把常用字词写错，为什么呢？就是缺少写的训练。生字、生词、重点语句不妨在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解记忆的基础上，反复写一写。又如一些作文题，往往看似容易写来难，也要动笔写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写，切忌眼高手低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练一练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就是通过做练习题，检验自己对知识掌握的程度。做题要把考题的目的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意图弄清，要注意归纳总结，寻找规律，触类旁通，增强应试能力。做练习题，既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在老师指导下进行，也要自觉地做。我们反对搞“题海战术”，但不做一定数量的练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题，也谈不上质量。练然后知不足，及时反馈矫正，以求牢固掌握所学知识和技能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想一想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复习的内容可以通过“想”来巩固。可以从点到面，也可以从整体到部分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或纵向或横向，把知识点有机地联系起来，形成知识体系，印在脑海里。当某个知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点联想不起来时，要经过查找及时巩固。想的时空受限制，无论课上、课下，还是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内、校外，都可以尽情地利用时空。当你“山穷水尽”之时，通过联想，也许会步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柳暗花明”之境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897200"/>
            <a:ext cx="87631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有一天动物园管理员们发现袋鼠从笼子里跑出来了，于是开会讨论，一致认为是笼子的高度过低。所以它们决定将笼子的高度由原來的十公尺加高到二十公尺。结果第二天他们发现袋鼠还是跑到外面来，所以他们又决定再将高度加高到三十公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沒想到隔天居然又看到袋鼠全跑到外面，于是管理员们大为紧张，决定一不做二不休，将笼子的高度加高到一百公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一天长颈鹿和几只袋鼠们在闲聊，“你们看，这些人会不会再继续加高你们的笼子？”长颈鹿问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很难说。”袋鼠说∶“如果他们再继续忘记关门的话！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9880" y="541008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效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29718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其实很多人都是这样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只知道有问题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却不能抓住问题的核心和根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学习虽然讲时间，但更重要的是效率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8672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你以前优秀，说明你本来就是优秀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63800" y="1011240"/>
            <a:ext cx="52556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数学的考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主要还是基础知识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难题也不过是在简单题的基础上加以综合。所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课本上的内容很重要的，如果课本上的知识都不能掌握，就没有触类旁通的资本。 对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课本上的内容，上课之前最好能够首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预习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一下，否则上课时有一个知识点没有跟上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老师的步骤，下面的就不知所以然了，如此恶性循环，就会开始厌烦数学，对学习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说兴趣是很重要的。课后针对性的练习题一定要认真做，不能偷懒，也可以在课后复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习时把课堂例题反复演算几遍，毕竟上课的时候，是老师在进行题目的演算和讲解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生在听，这是一个比较机械、比较被动的接受知识的过程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也许你认为自己在课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听懂了，但实际上你对于解题方法的理解还没有达到一个比较深入的程度，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并且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常容易忽视一些真正的解题过程中必定遇到的难点。“好脑子不如烂笔头”。对于数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化题目的解法，光靠脑子里的大致想法是不够的，一定要经过周密的笔头计算才能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发现其中的难点并且掌握化解方法，最终得到正确的计算结果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457200"/>
            <a:ext cx="3429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【数学的学习】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8380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其次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是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善于总结归类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，寻找不同的题型、不同的知识点之间的共性和联系，把学过的知识系统化。举个具体的例子：高一代数的函数部分，我们学习了指数函数、对数函数、幂函数、三角函数等好几种不同类型的函数。但是把它们对比着总结一下，你就会发现无论哪种函数，我们需要掌握的都是它的表达式、图像形状、奇偶性、增减性和对称性。那么你可以将这些函数的上述内容制作在一张大表格中，对比着进行理解记忆。在解题时注意函数表达式与图形结合使用，必定会收到好得多的效果。 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就是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加强课后练习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，除了作业之外，找一本好的参考书，尽量多做一下书上的练习题（尤其是综合题和应用题）。熟能生巧，这样才能巩固课堂学习的效果，使你的解题速度越来越快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2057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积极的人，象太阳，照到哪里哪里亮，消极的人，象月亮，初一十五不一样。想法决定我们的生活和学习，有什么样的想法，就有什么样的未来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5181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信心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65600" y="964080"/>
            <a:ext cx="54568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英语作为一种语言，和汉语一样，学习它需要大量地阅读、大量地写作、大量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听力和口语训练，将自己置身于一个英语的环境中，提高自己的听、说、写、读能力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培养好语感。从总体上说，英语学习可以分为语音、词汇、语法三大块，他们互相联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系、交织在一起。 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语音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主要通过结合词汇牢记一些普遍规律，平时练习中注意随时记下那些特殊的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不规则的发音，对基本词汇能正确拼写出国际音标，尤其是一些特别的元音和辅音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词汇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重点是课本词汇，在此基础上再进行扩展。记一个单词，可想想这个单词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的其他各种形式，也可把发音规则相同或读音有某种联系的一组单词联系起来记忆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对单词，尤其是动词的掌握，应凡在句子中、课文中，以词组或句子为单位来记。 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 语法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要结合大量阅读和习题来进行，尤其要熟读课文和各种句型的例句，并尽可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能地多背课文和例句，这样应试就能触类旁通，许多似曾相识的题都能迎刃而解。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时大量阅读又能扩充词汇量，训练阅读速度，适应高考需要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3429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【英语的学习】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664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个人在高山之巅的鹰巢里，抓到了一只幼鹰 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594360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本来是一只雄鹰，只要有雄心，就会飞起来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我曾经听说过一个上海中学生总结的“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理解，多练习，多总结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”的“三多法”。我觉得这个方法很能概括高中阶段的物理学习要领。 </a:t>
            </a:r>
            <a:br>
              <a:rPr sz="1600"/>
            </a:b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     多理解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就是紧紧抓住预习、听课和复习，对所学知识进行层次、多角度地理解。预习可分为粗读和精读。先粗略看一下所要学的内容，对重要的部分以小标题的方式加以圈注。接着便仔细阅读圈注部分，进行深入理解，即精读。上课时可有目的地听老师讲解难点，解答疑问。这样便对知识理解得较全面、透彻。课后进行复习，除了对公式定理进行理解记忆，还要深入理解老师的讲课思路，理解解题的“中心思路”，即抓住例题的知识点对症下药，应用什么定理的公式，使其条理化、程序化。 </a:t>
            </a:r>
            <a:br>
              <a:rPr sz="1600"/>
            </a:b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练习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既指巩固知识的练习，也指心理素质的“练习”。巩固重视的练习不光是指要认真完成课内习题，还要完成一定量的课外练习。但单纯的“题海战术”是不可取的，应该有选择地做一些有代表性的题型。基础好的同学还应该做一些综合题和应用题。另外，平曰应注意调整自己的心态，培养沉着、自信的心理素质。 </a:t>
            </a:r>
            <a:br>
              <a:rPr sz="1600"/>
            </a:b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总结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首先要对课堂知识进行详细分类和整理，特别是定理，要深入理解它的内涵、外延、推导、应用范围等，总结出各种知识点之间的联系，在头脑中形成知识网络。其次要对多种题型的解答方法进行分析和概括。还有一种总结也很重要，就是在平时的练习和考试之后分析自己的错误、弱项，以便曰后克服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4572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【物理的学习】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479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于是，他日渐消沉。第二个人看到了，他说：这只蜘蛛真愚蠢，为什么不从旁边干燥的地方绕一下爬上去？我以后可不能像它那样愚蠢。于是，他变得聪明起来。第三个人看到了，他立刻被蜘蛛屡败屡战的精神感动了。于是，他变得坚强起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4572000"/>
            <a:ext cx="25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态度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化学要做到三抓，即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抓基础、抓思路、抓规律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重视基础知识的学习是提高能力的保证。学好化学用语如元素符号、化学式、化学方程式等基本概念及元素、化合物的性质。在做题中要善于总结归纳题型及解题思路。化学知识之间是有内在规律的，掌握了规律就能驾驭知识，记忆知识。如化合价的一般规律，金属元素通常显正价，非金属元素通常显负价，单质元素的化合价为零，许多元素有变价，条件不同价态不同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关于化学有一种说法就是化学是理科中的文科，因为 化学要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要背的东西很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而且化学是一门实验性很强的学科，因此在化学的学习过程中要注意阅读与动手、动笔结合。要自己动手推演、计算、写结构式、写化学方程式，或者动手做实验，来验证、加深印象和帮助理解，有时还要动手查找资料来核对、补充某些材料。同时在化学学习中，经过思考提出存在于化学事物内部或化学事物之间的矛盾，即化学问题，由自己来加以研究和解决，或者在自己解决不了时请求别人帮助解决，是化学学习的一种基本活动方法，也是提高化学学习效果的一种基本方法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5335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【化学的学习】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82720" y="1033560"/>
            <a:ext cx="7564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 rot="21190800">
            <a:off x="1294920" y="1142640"/>
            <a:ext cx="65977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希望大家通过这一次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520" y="3429000"/>
            <a:ext cx="63039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会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会有点收获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班级情况分析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143000"/>
          <a:ext cx="8305560" cy="4982760"/>
        </p:xfrm>
        <a:graphic>
          <a:graphicData uri="http://schemas.openxmlformats.org/drawingml/2006/table">
            <a:tbl>
              <a:tblPr/>
              <a:tblGrid>
                <a:gridCol w="586440"/>
                <a:gridCol w="1403280"/>
                <a:gridCol w="775440"/>
                <a:gridCol w="680400"/>
                <a:gridCol w="681120"/>
                <a:gridCol w="680400"/>
                <a:gridCol w="681120"/>
                <a:gridCol w="680400"/>
                <a:gridCol w="586440"/>
                <a:gridCol w="775080"/>
                <a:gridCol w="77544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成绩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参考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 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参平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最高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最底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科平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7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.7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.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.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.02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2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28.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及格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及格率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优生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优生率</a:t>
                      </a: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差生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级前十名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990720"/>
          <a:ext cx="8534160" cy="5105160"/>
        </p:xfrm>
        <a:graphic>
          <a:graphicData uri="http://schemas.openxmlformats.org/drawingml/2006/table">
            <a:tbl>
              <a:tblPr/>
              <a:tblGrid>
                <a:gridCol w="861480"/>
                <a:gridCol w="475200"/>
                <a:gridCol w="571320"/>
                <a:gridCol w="668160"/>
                <a:gridCol w="475200"/>
                <a:gridCol w="474840"/>
                <a:gridCol w="572040"/>
                <a:gridCol w="571320"/>
                <a:gridCol w="543600"/>
                <a:gridCol w="473040"/>
                <a:gridCol w="475200"/>
                <a:gridCol w="474840"/>
                <a:gridCol w="474840"/>
                <a:gridCol w="473400"/>
                <a:gridCol w="474840"/>
                <a:gridCol w="474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级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班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综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英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黄雪梅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钟翔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3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袁维力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林久发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尹翔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2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黄莹莹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李博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涂兴亮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李宝林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唐鸿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 级 后五 名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676520"/>
          <a:ext cx="8610840" cy="3352320"/>
        </p:xfrm>
        <a:graphic>
          <a:graphicData uri="http://schemas.openxmlformats.org/drawingml/2006/table">
            <a:tbl>
              <a:tblPr/>
              <a:tblGrid>
                <a:gridCol w="938160"/>
                <a:gridCol w="474840"/>
                <a:gridCol w="571320"/>
                <a:gridCol w="668520"/>
                <a:gridCol w="474480"/>
                <a:gridCol w="474840"/>
                <a:gridCol w="571320"/>
                <a:gridCol w="573120"/>
                <a:gridCol w="543240"/>
                <a:gridCol w="473040"/>
                <a:gridCol w="474480"/>
                <a:gridCol w="474840"/>
                <a:gridCol w="474480"/>
                <a:gridCol w="474840"/>
                <a:gridCol w="474480"/>
                <a:gridCol w="474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级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班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综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英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林胡科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裴昌劲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董国雄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贺帅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江毅坚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.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7400" y="5257800"/>
            <a:ext cx="18288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名次上升幅度大的同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981080"/>
          <a:ext cx="8540280" cy="3851280"/>
        </p:xfrm>
        <a:graphic>
          <a:graphicData uri="http://schemas.openxmlformats.org/drawingml/2006/table">
            <a:tbl>
              <a:tblPr/>
              <a:tblGrid>
                <a:gridCol w="8540280"/>
              </a:tblGrid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林久发      李宝林      袁维力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唐鸿       陈明瑞       甘书荣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钟翔宇       李曾飞       周天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尹翔         王丹        彭静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4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名次下降幅度大的同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981080"/>
          <a:ext cx="8535240" cy="3885120"/>
        </p:xfrm>
        <a:graphic>
          <a:graphicData uri="http://schemas.openxmlformats.org/drawingml/2006/table">
            <a:tbl>
              <a:tblPr/>
              <a:tblGrid>
                <a:gridCol w="8535240"/>
              </a:tblGrid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吴鹏            尹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陈先勤         余世豪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刘佰会          吴照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胡富邱          裴昌劲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2518920"/>
            <a:ext cx="7543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成功既不是靠天才，成功也不是仅仅靠努力，成功是靠正确的方法。只有方法正确才可能取得成功。我们周围的同学甚至是我们自己，学习不可能不努力，可是成绩就是始终上不去，不断增加学习时间，希望自己能够提高考试成绩，总是事与愿违。为什么呢？因为你的方法有问题。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54864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在挥霍你的彩色的青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 rot="520800">
            <a:off x="1447560" y="1066680"/>
            <a:ext cx="6781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怎么学好高中理科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39Z</dcterms:modified>
  <cp:revision>3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