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798-A68B-4698-877F-C138696C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B93-1E40-4998-AC5C-FC24704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273-BF35-4AD5-A610-75236CCF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E09-DB4B-498C-B5B8-A065C520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8F0-4EF5-4A97-AFE5-3D58267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275-A782-4C01-9907-13936FA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4B-3527-4D79-ABAE-14F35CD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7CD-44E5-4EBD-B15F-9BA764D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A5F-0742-4908-BEA9-CB7BD76B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C94-F1E6-4139-8A37-460B394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342-9752-4EF5-BECC-738FC7B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762-BBA4-4208-9F81-7403D43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52E-7B15-445D-8E6C-08A711D88F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51480" y="1554120"/>
            <a:ext cx="5407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期末百天誓师会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3416400"/>
            <a:ext cx="497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高二（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2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）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2720" y="4653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7120" y="765000"/>
            <a:ext cx="509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这百天的日子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热血沸腾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心潮澎湃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更要把壮志雄心来展现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9760" y="1773360"/>
            <a:ext cx="270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超越梦想一起飞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你我需要真心面对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01080" y="20606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我们的誓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47800" y="333360"/>
            <a:ext cx="2882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代表发言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1989000"/>
            <a:ext cx="51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45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希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43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世间，苦乐并存， 成败交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创辉煌在七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533520" y="4419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蟾宫折桂，尽显风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68400" y="15573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恩师寄语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1680" y="0"/>
            <a:ext cx="91393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2480" y="282600"/>
            <a:ext cx="37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苦干百日       一飞冲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82760" y="1413000"/>
            <a:ext cx="634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悄悄地时光已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的春天，我们全都为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得如此之快而发出由衷的慨叹！二年的高中生活说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快说慢又慢，当我们有心回首时，才觉得这一切竟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此的神奇“弹指一挥间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为老师我同大家一样走过了这风风雨雨的二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见证了你们付出的每一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我的眼前，仿佛还浮动着你们刚入学时的张张笑脸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我的耳边，仿佛依然还能听到你们军训的高声呐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14200" y="692280"/>
            <a:ext cx="488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眼睛片换了再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新患的胃病一犯再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要好的朋友相聚曲指可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年迈的双亲也是难见几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我们与书为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我们向时间挑战 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几乎就是完美的二点一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明白我们的付出——全是为让梦想实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自信乐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大步朝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奋战百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45360" y="765000"/>
            <a:ext cx="61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的热血男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出你们的干劲，让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不留下人生的遗憾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班的巾帼英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挥你们的才智，谁说好女不如儿男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的老师看到你们青春燃烧的火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鸟不出窝总看不到天外有天；温室的花朵不锻炼永远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御不了刺骨的严寒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心的飞吧！老师始终陪伴在你的身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胆的努力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！老师始终为你摇旗呐喊，不会有丝毫的怨言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0560" y="712800"/>
            <a:ext cx="487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弃私心杂念，过去的你不要再有遗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携手拼搏，同学间的摩擦永不再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师看到的是你匆忙的身影，看不到你行动散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师看到的是你埋头的苦干，看不到你课前饭后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闲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000" y="3732120"/>
            <a:ext cx="21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罢了吴钩，把栏杆拍断。高考是我们的舞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就当尽情展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苦干这百日，我们要一飞冲天！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二班期末百天誓师宣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摆正心态、自信乐观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冲刺百天、拒绝遗憾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奋战春天、笑迎盛夏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我要努力、我要成功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笑对学习、永不言败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未来我把握、胜利在眼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760" y="731880"/>
            <a:ext cx="479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00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期末的洗礼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4680" y="4510080"/>
            <a:ext cx="70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 ，我们面对的是实实在在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8240" y="330372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为之奋斗十余年梦想中的大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1760" y="1935000"/>
            <a:ext cx="479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009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高考的洗礼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75348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99880" y="0"/>
            <a:ext cx="94438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9:21:3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1:59:56Z</dcterms:modified>
  <cp:revision>29</cp:revision>
  <dc:subject>主题班会课件(分28大类): http://shop62905894.taobao.com</dc:subject>
  <dc:title>主题班会课件(分28大类): http://shop62905894.taobao.com</dc:title>
</cp:coreProperties>
</file>