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gif" ContentType="image/gif"/>
  <Override PartName="/ppt/media/image5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07BB-451D-4BF2-99C8-25C9E379E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9DBA-6A88-41B9-8848-FBEA4A61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097A-06D0-4D96-8D73-8E3C0E65B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C1E6-E6DD-4FC9-86A2-C62D35E7E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0B63-15BF-4C10-B714-ADBF9D69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A35B-9CE5-4B47-A154-F24EECB5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E5D6-546F-4464-B432-DC4164B5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C1B5-8459-4314-9A5A-A5480424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066D-7162-4804-B3ED-2A8C5EB6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D0BD-31A0-4AFF-A2F4-219650A9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C427-F6EC-46DC-9E0F-07C1D4C8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C545-E30A-4742-B880-6E683430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874A-9EFE-492D-9B61-AB74CADB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EACB-9BF5-4D3C-B05F-C020AC5C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22D8-8667-4AB2-A6B9-C64E1C7F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57E1-E445-4B3C-B51A-37795C96C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8A8E-88B7-4F52-8C6A-89F2A952D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5E94-8F2F-4289-8FC8-293BDB7E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38F3-50F3-4F78-8413-E1047764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2E11-428A-4006-99E1-E746F9E6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5DBA-3969-4078-B131-F6614612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2F82-A4F6-4F29-B22C-E1CC8EC0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7610-DD45-4737-8878-C3A2B4F3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A4C8-6379-4BC1-BBA5-1898A3BD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4D4F-2491-45AE-9D84-E01B4CC60313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DDE1-B734-48B4-B633-145FDADA7DC2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11.xml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971640" y="765000"/>
            <a:ext cx="6337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爱拼才会赢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5" name=""/>
          <p:cNvSpPr/>
          <p:nvPr/>
        </p:nvSpPr>
        <p:spPr>
          <a:xfrm>
            <a:off x="1692360" y="4005360"/>
            <a:ext cx="7094520" cy="1512720"/>
          </a:xfrm>
          <a:prstGeom prst="cloudCallout">
            <a:avLst>
              <a:gd name="adj1" fmla="val -79717"/>
              <a:gd name="adj2" fmla="val 125444"/>
            </a:avLst>
          </a:prstGeom>
          <a:solidFill>
            <a:srgbClr val="cc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26360" y="422100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高考百日誓师大会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"/>
          <p:cNvGrpSpPr/>
          <p:nvPr/>
        </p:nvGrpSpPr>
        <p:grpSpPr>
          <a:xfrm>
            <a:off x="0" y="5861160"/>
            <a:ext cx="9143280" cy="996840"/>
            <a:chOff x="0" y="5861160"/>
            <a:chExt cx="9143280" cy="996840"/>
          </a:xfrm>
        </p:grpSpPr>
        <p:sp>
          <p:nvSpPr>
            <p:cNvPr id="793" name=""/>
            <p:cNvSpPr/>
            <p:nvPr/>
          </p:nvSpPr>
          <p:spPr>
            <a:xfrm>
              <a:off x="0" y="6031080"/>
              <a:ext cx="1830600" cy="47628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0" y="6478560"/>
              <a:ext cx="1826640" cy="3510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517720" y="6013440"/>
              <a:ext cx="3625560" cy="49392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514840" y="6507360"/>
              <a:ext cx="3628440" cy="35064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514840" y="6297840"/>
              <a:ext cx="777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6322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75676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514840" y="6353280"/>
              <a:ext cx="3495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514840" y="6454800"/>
              <a:ext cx="3495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8825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0006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1244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2494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373240" y="6297840"/>
              <a:ext cx="82080" cy="2286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498160" y="6310440"/>
              <a:ext cx="81360" cy="23508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625960" y="6323040"/>
              <a:ext cx="78480" cy="24768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749800" y="6338880"/>
              <a:ext cx="78480" cy="26856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874720" y="6363000"/>
              <a:ext cx="78480" cy="29520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999280" y="6390000"/>
              <a:ext cx="77760" cy="3427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9123480" y="6448680"/>
              <a:ext cx="19800" cy="33804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840080" y="6353280"/>
              <a:ext cx="1303200" cy="16668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840080" y="6454800"/>
              <a:ext cx="1303200" cy="24444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86152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796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1038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86152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86152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2085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3234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4512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20856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20856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5559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67044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7950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55596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55596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89976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0178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14204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899760" y="6353280"/>
              <a:ext cx="3531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899760" y="6454800"/>
              <a:ext cx="3531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2468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3648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4894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24680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24680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5942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7122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8364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59420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59420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938000" y="5964480"/>
              <a:ext cx="995040" cy="66672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656480" y="5861160"/>
              <a:ext cx="1394640" cy="48744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830600" y="6018480"/>
              <a:ext cx="3684240" cy="48888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912320" y="6000840"/>
              <a:ext cx="576000" cy="50652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138040" y="6151680"/>
              <a:ext cx="1240920" cy="3556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128320" y="6121440"/>
              <a:ext cx="1263960" cy="21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174400" y="6345360"/>
              <a:ext cx="438840" cy="16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383920" y="6121440"/>
              <a:ext cx="1008360" cy="18900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203200" y="6357960"/>
              <a:ext cx="373320" cy="1494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826640" y="6507360"/>
              <a:ext cx="3687840" cy="35064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310560" y="5902560"/>
              <a:ext cx="1424160" cy="3254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323880" y="6002640"/>
              <a:ext cx="1758600" cy="50472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353040" y="6276960"/>
              <a:ext cx="1021680" cy="22068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790880" y="6418440"/>
              <a:ext cx="569520" cy="889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790880" y="6272280"/>
              <a:ext cx="241920" cy="14616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837960" y="6301080"/>
              <a:ext cx="438840" cy="164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39840" y="6288120"/>
              <a:ext cx="147600" cy="13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310560" y="5961240"/>
              <a:ext cx="1784520" cy="29844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961800" y="6310440"/>
              <a:ext cx="1900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861000" y="6310440"/>
              <a:ext cx="784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178160" y="6310440"/>
              <a:ext cx="7560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528440" y="6310440"/>
              <a:ext cx="12096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449960" y="6310440"/>
              <a:ext cx="5544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676400" y="6310440"/>
              <a:ext cx="5544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630320" y="6113520"/>
              <a:ext cx="88200" cy="316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751280" y="6113520"/>
              <a:ext cx="91800" cy="316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682880" y="6096240"/>
              <a:ext cx="104400" cy="4284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748400" y="6134400"/>
              <a:ext cx="569520" cy="13788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121360" y="6469200"/>
              <a:ext cx="226440" cy="3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046120" y="6426360"/>
              <a:ext cx="225720" cy="3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043240" y="6175440"/>
              <a:ext cx="261360" cy="968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245920" y="6272280"/>
              <a:ext cx="2952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807080" y="6134400"/>
              <a:ext cx="363600" cy="10764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032800" y="6272280"/>
              <a:ext cx="4968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790880" y="6272280"/>
              <a:ext cx="4896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165680" y="6507360"/>
              <a:ext cx="1447200" cy="35064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996280" y="6346800"/>
              <a:ext cx="146880" cy="27000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012840" y="6369120"/>
              <a:ext cx="84600" cy="79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012840" y="6404040"/>
              <a:ext cx="88200" cy="648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012840" y="6394680"/>
              <a:ext cx="88200" cy="468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012840" y="6442200"/>
              <a:ext cx="93960" cy="79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012840" y="6434280"/>
              <a:ext cx="93960" cy="468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76400" y="5967720"/>
              <a:ext cx="995040" cy="70452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9360" y="5870880"/>
              <a:ext cx="1335960" cy="47304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044000" y="6469200"/>
              <a:ext cx="262080" cy="147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05160" y="6526440"/>
              <a:ext cx="154440" cy="7920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0" y="2435040"/>
            <a:ext cx="845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第四、培养坚强的意志和毅力。坚定的意志和顽强的毅力，是决战高考的支柱。高考不仅仅是人的智力水平的检验，同时也是人非智力因素的较量；心理素质是增强剂，它能使人的各种能力发挥到极致。没有良好的心理素质，技术再棒的运动员与可能遗恨赛场。征战高考，压力难免，竞争难免，但问题是你怎样看待压力，怎样看待竞争！你是把它作为烦恼、包袱，还是将它作为动力。压力和竞争的确会给你们带来沉重和不安，你们谁不渴望九年的寒窗能有一个好的结局，你们哪一个不希望自己考出一个好成绩来回报学校和老师，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2" name=""/>
          <p:cNvGrpSpPr/>
          <p:nvPr/>
        </p:nvGrpSpPr>
        <p:grpSpPr>
          <a:xfrm>
            <a:off x="0" y="5861160"/>
            <a:ext cx="9143280" cy="996840"/>
            <a:chOff x="0" y="5861160"/>
            <a:chExt cx="9143280" cy="996840"/>
          </a:xfrm>
        </p:grpSpPr>
        <p:sp>
          <p:nvSpPr>
            <p:cNvPr id="893" name=""/>
            <p:cNvSpPr/>
            <p:nvPr/>
          </p:nvSpPr>
          <p:spPr>
            <a:xfrm>
              <a:off x="0" y="6031080"/>
              <a:ext cx="1830600" cy="47628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0" y="6478560"/>
              <a:ext cx="1826640" cy="3510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517720" y="6013440"/>
              <a:ext cx="3625560" cy="49392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514840" y="6507360"/>
              <a:ext cx="3628440" cy="35064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514840" y="6297840"/>
              <a:ext cx="777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6322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75676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514840" y="6353280"/>
              <a:ext cx="3495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514840" y="6454800"/>
              <a:ext cx="3495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8825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0006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1244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2494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373240" y="6297840"/>
              <a:ext cx="82080" cy="2286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498160" y="6310440"/>
              <a:ext cx="81360" cy="23508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625960" y="6323040"/>
              <a:ext cx="78480" cy="24768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749800" y="6338880"/>
              <a:ext cx="78480" cy="26856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874720" y="6363000"/>
              <a:ext cx="78480" cy="29520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999280" y="6390000"/>
              <a:ext cx="77760" cy="3427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9123480" y="6448680"/>
              <a:ext cx="19800" cy="33804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840080" y="6353280"/>
              <a:ext cx="1303200" cy="16668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840080" y="6454800"/>
              <a:ext cx="1303200" cy="24444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86152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9796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1038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86152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86152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2085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3234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4512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20856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20856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5559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67044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7950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55596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55596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89976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0178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14204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899760" y="6353280"/>
              <a:ext cx="3531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899760" y="6454800"/>
              <a:ext cx="3531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2468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3648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4894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24680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24680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5942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7122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8364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59420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59420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938000" y="5964480"/>
              <a:ext cx="995040" cy="66672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656480" y="5861160"/>
              <a:ext cx="1394640" cy="48744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830600" y="6018480"/>
              <a:ext cx="3684240" cy="48888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912320" y="6000840"/>
              <a:ext cx="576000" cy="50652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138040" y="6151680"/>
              <a:ext cx="1240920" cy="3556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128320" y="6121440"/>
              <a:ext cx="1263960" cy="21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174400" y="6345360"/>
              <a:ext cx="438840" cy="16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383920" y="6121440"/>
              <a:ext cx="1008360" cy="18900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203200" y="6357960"/>
              <a:ext cx="373320" cy="1494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826640" y="6507360"/>
              <a:ext cx="3687840" cy="35064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310560" y="5902560"/>
              <a:ext cx="1424160" cy="3254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323880" y="6002640"/>
              <a:ext cx="1758600" cy="50472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353040" y="6276960"/>
              <a:ext cx="1021680" cy="22068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790880" y="6418440"/>
              <a:ext cx="569520" cy="889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790880" y="6272280"/>
              <a:ext cx="241920" cy="14616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837960" y="6301080"/>
              <a:ext cx="438840" cy="164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839840" y="6288120"/>
              <a:ext cx="147600" cy="13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310560" y="5961240"/>
              <a:ext cx="1784520" cy="29844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961800" y="6310440"/>
              <a:ext cx="1900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861000" y="6310440"/>
              <a:ext cx="784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178160" y="6310440"/>
              <a:ext cx="7560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528440" y="6310440"/>
              <a:ext cx="12096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449960" y="6310440"/>
              <a:ext cx="5544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676400" y="6310440"/>
              <a:ext cx="5544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630320" y="6113520"/>
              <a:ext cx="88200" cy="316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751280" y="6113520"/>
              <a:ext cx="91800" cy="316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682880" y="6096240"/>
              <a:ext cx="104400" cy="4284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748400" y="6134400"/>
              <a:ext cx="569520" cy="13788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121360" y="6469200"/>
              <a:ext cx="226440" cy="3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046120" y="6426360"/>
              <a:ext cx="225720" cy="3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043240" y="6175440"/>
              <a:ext cx="261360" cy="968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245920" y="6272280"/>
              <a:ext cx="2952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807080" y="6134400"/>
              <a:ext cx="363600" cy="10764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032800" y="6272280"/>
              <a:ext cx="4968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790880" y="6272280"/>
              <a:ext cx="4896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165680" y="6507360"/>
              <a:ext cx="1447200" cy="35064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996280" y="6346800"/>
              <a:ext cx="146880" cy="27000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012840" y="6369120"/>
              <a:ext cx="84600" cy="79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012840" y="6404040"/>
              <a:ext cx="88200" cy="648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012840" y="6394680"/>
              <a:ext cx="88200" cy="468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12840" y="6442200"/>
              <a:ext cx="93960" cy="79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012840" y="6434280"/>
              <a:ext cx="93960" cy="468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76400" y="5967720"/>
              <a:ext cx="995040" cy="70452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9360" y="5870880"/>
              <a:ext cx="1335960" cy="47304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044000" y="6469200"/>
              <a:ext cx="262080" cy="147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05160" y="6526440"/>
              <a:ext cx="154440" cy="7920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991" name=""/>
          <p:cNvSpPr/>
          <p:nvPr/>
        </p:nvSpPr>
        <p:spPr>
          <a:xfrm>
            <a:off x="0" y="2117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来回报父母，来回报自己的辛劳和汗水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但忧虑没有用，回避也没有用，你只能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正视压力，正视竞争，正视复习备考中的暂时失利，所有这一切，你们都必须直接面对，并战胜它们。你所能做的只有一件事，那就是加倍地努力学习。要坚信：当我暂时失利时，我心中正酝酿着成功。持之以恒，勤奋不止，金榜题名不是一件遥远的事情，有志者事竟成！因此我们只有培养自己坚强的意志、坚韧不拔的毅力，通过自己坚持不懈的努力，才能达到胜利的彼岸。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2" name=""/>
          <p:cNvGrpSpPr/>
          <p:nvPr/>
        </p:nvGrpSpPr>
        <p:grpSpPr>
          <a:xfrm>
            <a:off x="0" y="5861160"/>
            <a:ext cx="9143280" cy="996840"/>
            <a:chOff x="0" y="5861160"/>
            <a:chExt cx="9143280" cy="996840"/>
          </a:xfrm>
        </p:grpSpPr>
        <p:sp>
          <p:nvSpPr>
            <p:cNvPr id="993" name=""/>
            <p:cNvSpPr/>
            <p:nvPr/>
          </p:nvSpPr>
          <p:spPr>
            <a:xfrm>
              <a:off x="0" y="6031080"/>
              <a:ext cx="1830600" cy="47628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0" y="6478560"/>
              <a:ext cx="1826640" cy="3510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517720" y="6013440"/>
              <a:ext cx="3625560" cy="49392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514840" y="6507360"/>
              <a:ext cx="3628440" cy="35064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514840" y="6297840"/>
              <a:ext cx="777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6322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75676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514840" y="6353280"/>
              <a:ext cx="3495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514840" y="6454800"/>
              <a:ext cx="3495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8825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0006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81244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2494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373240" y="6297840"/>
              <a:ext cx="82080" cy="2286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498160" y="6310440"/>
              <a:ext cx="81360" cy="23508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625960" y="6323040"/>
              <a:ext cx="78480" cy="24768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8749800" y="6338880"/>
              <a:ext cx="78480" cy="26856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874720" y="6363000"/>
              <a:ext cx="78480" cy="29520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8999280" y="6390000"/>
              <a:ext cx="77760" cy="3427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9123480" y="6448680"/>
              <a:ext cx="19800" cy="33804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840080" y="6353280"/>
              <a:ext cx="1303200" cy="16668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840080" y="6454800"/>
              <a:ext cx="1303200" cy="24444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86152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9796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1038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86152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86152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2085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3234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4512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20856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20856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5559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67044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7950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55596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55596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89976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0178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14204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899760" y="6353280"/>
              <a:ext cx="3531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899760" y="6454800"/>
              <a:ext cx="3531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2468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3648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4894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24680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24680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5942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7122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8364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59420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59420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938000" y="5964480"/>
              <a:ext cx="995040" cy="66672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656480" y="5861160"/>
              <a:ext cx="1394640" cy="48744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830600" y="6018480"/>
              <a:ext cx="3684240" cy="48888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912320" y="6000840"/>
              <a:ext cx="576000" cy="50652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138040" y="6151680"/>
              <a:ext cx="1240920" cy="3556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128320" y="6121440"/>
              <a:ext cx="1263960" cy="21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174400" y="6345360"/>
              <a:ext cx="438840" cy="16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383920" y="6121440"/>
              <a:ext cx="1008360" cy="18900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203200" y="6357960"/>
              <a:ext cx="373320" cy="1494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826640" y="6507360"/>
              <a:ext cx="3687840" cy="35064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310560" y="5902560"/>
              <a:ext cx="1424160" cy="3254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323880" y="6002640"/>
              <a:ext cx="1758600" cy="50472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353040" y="6276960"/>
              <a:ext cx="1021680" cy="22068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790880" y="6418440"/>
              <a:ext cx="569520" cy="889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790880" y="6272280"/>
              <a:ext cx="241920" cy="14616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837960" y="6301080"/>
              <a:ext cx="438840" cy="164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839840" y="6288120"/>
              <a:ext cx="147600" cy="13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10560" y="5961240"/>
              <a:ext cx="1784520" cy="29844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961800" y="6310440"/>
              <a:ext cx="1900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861000" y="6310440"/>
              <a:ext cx="784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78160" y="6310440"/>
              <a:ext cx="7560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528440" y="6310440"/>
              <a:ext cx="12096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449960" y="6310440"/>
              <a:ext cx="5544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676400" y="6310440"/>
              <a:ext cx="5544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630320" y="6113520"/>
              <a:ext cx="88200" cy="316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751280" y="6113520"/>
              <a:ext cx="91800" cy="316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682880" y="6096240"/>
              <a:ext cx="104400" cy="4284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748400" y="6134400"/>
              <a:ext cx="569520" cy="13788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121360" y="6469200"/>
              <a:ext cx="226440" cy="3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046120" y="6426360"/>
              <a:ext cx="225720" cy="3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043240" y="6175440"/>
              <a:ext cx="261360" cy="968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245920" y="6272280"/>
              <a:ext cx="2952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807080" y="6134400"/>
              <a:ext cx="363600" cy="10764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032800" y="6272280"/>
              <a:ext cx="4968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790880" y="6272280"/>
              <a:ext cx="4896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165680" y="6507360"/>
              <a:ext cx="1447200" cy="35064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996280" y="6346800"/>
              <a:ext cx="146880" cy="27000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012840" y="6369120"/>
              <a:ext cx="84600" cy="79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012840" y="6404040"/>
              <a:ext cx="88200" cy="648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012840" y="6394680"/>
              <a:ext cx="88200" cy="468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012840" y="6442200"/>
              <a:ext cx="93960" cy="79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012840" y="6434280"/>
              <a:ext cx="93960" cy="468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76400" y="5967720"/>
              <a:ext cx="995040" cy="70452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9360" y="5870880"/>
              <a:ext cx="1335960" cy="47304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44000" y="6469200"/>
              <a:ext cx="262080" cy="147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05160" y="6526440"/>
              <a:ext cx="154440" cy="7920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091" name=""/>
          <p:cNvSpPr/>
          <p:nvPr/>
        </p:nvSpPr>
        <p:spPr>
          <a:xfrm>
            <a:off x="250920" y="1648800"/>
            <a:ext cx="87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第五、注重基础，提高能力。扎实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的功底，强有力的实力，是决战高考最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有力的武器。由于素质教育的推进，重基础、重能力、重应用，综合考查学生的素质的题目将有所加强。我们必须抓住这一方向，在复习备考中，要夯实基础，在练习和联考中不断找出不足，及时弥补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在练习和联考中不断提高对知识的理解和运用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使我们的基础更加扎实，能力更加完善。我们将以更好的状态迎接高考的挑战，并在竞争中获胜。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"/>
          <p:cNvGrpSpPr/>
          <p:nvPr/>
        </p:nvGrpSpPr>
        <p:grpSpPr>
          <a:xfrm>
            <a:off x="0" y="5861160"/>
            <a:ext cx="9143280" cy="996840"/>
            <a:chOff x="0" y="5861160"/>
            <a:chExt cx="9143280" cy="996840"/>
          </a:xfrm>
        </p:grpSpPr>
        <p:sp>
          <p:nvSpPr>
            <p:cNvPr id="1093" name=""/>
            <p:cNvSpPr/>
            <p:nvPr/>
          </p:nvSpPr>
          <p:spPr>
            <a:xfrm>
              <a:off x="0" y="6031080"/>
              <a:ext cx="1830600" cy="47628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0" y="6478560"/>
              <a:ext cx="1826640" cy="3510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517720" y="6013440"/>
              <a:ext cx="3625560" cy="49392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514840" y="6507360"/>
              <a:ext cx="3628440" cy="35064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514840" y="6297840"/>
              <a:ext cx="777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6322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75676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514840" y="6353280"/>
              <a:ext cx="3495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514840" y="6454800"/>
              <a:ext cx="3495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8825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0006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1244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82494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8373240" y="6297840"/>
              <a:ext cx="82080" cy="2286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498160" y="6310440"/>
              <a:ext cx="81360" cy="23508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625960" y="6323040"/>
              <a:ext cx="78480" cy="24768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749800" y="6338880"/>
              <a:ext cx="78480" cy="26856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874720" y="6363000"/>
              <a:ext cx="78480" cy="29520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999280" y="6390000"/>
              <a:ext cx="77760" cy="3427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9123480" y="6448680"/>
              <a:ext cx="19800" cy="33804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840080" y="6353280"/>
              <a:ext cx="1303200" cy="16668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840080" y="6454800"/>
              <a:ext cx="1303200" cy="24444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86152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9796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1038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86152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86152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2085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3234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4512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20856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20856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5559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67044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7950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55596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55596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89976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0178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14204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899760" y="6353280"/>
              <a:ext cx="3531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899760" y="6454800"/>
              <a:ext cx="3531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2468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648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4894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24680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24680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5942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7122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8364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59420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59420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938000" y="5964480"/>
              <a:ext cx="995040" cy="66672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656480" y="5861160"/>
              <a:ext cx="1394640" cy="48744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830600" y="6018480"/>
              <a:ext cx="3684240" cy="48888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912320" y="6000840"/>
              <a:ext cx="576000" cy="50652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138040" y="6151680"/>
              <a:ext cx="1240920" cy="3556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128320" y="6121440"/>
              <a:ext cx="1263960" cy="21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174400" y="6345360"/>
              <a:ext cx="438840" cy="16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383920" y="6121440"/>
              <a:ext cx="1008360" cy="18900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203200" y="6357960"/>
              <a:ext cx="373320" cy="1494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826640" y="6507360"/>
              <a:ext cx="3687840" cy="35064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310560" y="5902560"/>
              <a:ext cx="1424160" cy="3254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323880" y="6002640"/>
              <a:ext cx="1758600" cy="50472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353040" y="6276960"/>
              <a:ext cx="1021680" cy="22068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790880" y="6418440"/>
              <a:ext cx="569520" cy="889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790880" y="6272280"/>
              <a:ext cx="241920" cy="14616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837960" y="6301080"/>
              <a:ext cx="438840" cy="164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39840" y="6288120"/>
              <a:ext cx="147600" cy="13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310560" y="5961240"/>
              <a:ext cx="1784520" cy="29844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961800" y="6310440"/>
              <a:ext cx="1900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861000" y="6310440"/>
              <a:ext cx="784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178160" y="6310440"/>
              <a:ext cx="7560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528440" y="6310440"/>
              <a:ext cx="12096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449960" y="6310440"/>
              <a:ext cx="5544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676400" y="6310440"/>
              <a:ext cx="5544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630320" y="6113520"/>
              <a:ext cx="88200" cy="316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751280" y="6113520"/>
              <a:ext cx="91800" cy="316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682880" y="6096240"/>
              <a:ext cx="104400" cy="4284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748400" y="6134400"/>
              <a:ext cx="569520" cy="13788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121360" y="6469200"/>
              <a:ext cx="226440" cy="3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046120" y="6426360"/>
              <a:ext cx="225720" cy="3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043240" y="6175440"/>
              <a:ext cx="261360" cy="968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245920" y="6272280"/>
              <a:ext cx="2952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807080" y="6134400"/>
              <a:ext cx="363600" cy="10764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032800" y="6272280"/>
              <a:ext cx="4968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790880" y="6272280"/>
              <a:ext cx="4896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165680" y="6507360"/>
              <a:ext cx="1447200" cy="35064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996280" y="6346800"/>
              <a:ext cx="146880" cy="27000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012840" y="6369120"/>
              <a:ext cx="84600" cy="79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012840" y="6404040"/>
              <a:ext cx="88200" cy="648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012840" y="6394680"/>
              <a:ext cx="88200" cy="468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012840" y="6442200"/>
              <a:ext cx="93960" cy="79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012840" y="6434280"/>
              <a:ext cx="93960" cy="468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76400" y="5967720"/>
              <a:ext cx="995040" cy="70452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9360" y="5870880"/>
              <a:ext cx="1335960" cy="47304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044000" y="6469200"/>
              <a:ext cx="262080" cy="147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05160" y="6526440"/>
              <a:ext cx="154440" cy="7920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191" name=""/>
          <p:cNvSpPr/>
          <p:nvPr/>
        </p:nvSpPr>
        <p:spPr>
          <a:xfrm>
            <a:off x="179280" y="219708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第六、复习备考要以科学的方法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指导。科学的方法，是决战高考的法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宝，毛泽东同志教导我们：“苦干加巧干，坚持持久战”。意思是说在勤奋的基础上，把握学习规律，掌握学习方法，会收到事半功倍的效果。在复习备考中我们心要诚，心要静，要合理分配时间。要重视课堂学习，课堂学习是学习的主渠道，教师的教学是针对高考，针对学生的实际，具有极强的实效性，同学们千万不能自己另搞一套，否则就会舍本求末，事倍功半。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2" name=""/>
          <p:cNvGrpSpPr/>
          <p:nvPr/>
        </p:nvGrpSpPr>
        <p:grpSpPr>
          <a:xfrm>
            <a:off x="0" y="5861160"/>
            <a:ext cx="9143280" cy="996840"/>
            <a:chOff x="0" y="5861160"/>
            <a:chExt cx="9143280" cy="996840"/>
          </a:xfrm>
        </p:grpSpPr>
        <p:sp>
          <p:nvSpPr>
            <p:cNvPr id="1193" name=""/>
            <p:cNvSpPr/>
            <p:nvPr/>
          </p:nvSpPr>
          <p:spPr>
            <a:xfrm>
              <a:off x="0" y="6031080"/>
              <a:ext cx="1830600" cy="47628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0" y="6478560"/>
              <a:ext cx="1826640" cy="3510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517720" y="6013440"/>
              <a:ext cx="3625560" cy="49392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514840" y="6507360"/>
              <a:ext cx="3628440" cy="35064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514840" y="6297840"/>
              <a:ext cx="777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6322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75676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514840" y="6353280"/>
              <a:ext cx="3495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514840" y="6454800"/>
              <a:ext cx="3495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8825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80006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1244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82494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373240" y="6297840"/>
              <a:ext cx="82080" cy="2286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8498160" y="6310440"/>
              <a:ext cx="81360" cy="23508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8625960" y="6323040"/>
              <a:ext cx="78480" cy="24768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8749800" y="6338880"/>
              <a:ext cx="78480" cy="26856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8874720" y="6363000"/>
              <a:ext cx="78480" cy="29520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8999280" y="6390000"/>
              <a:ext cx="77760" cy="3427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9123480" y="6448680"/>
              <a:ext cx="19800" cy="33804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840080" y="6353280"/>
              <a:ext cx="1303200" cy="16668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840080" y="6454800"/>
              <a:ext cx="1303200" cy="24444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86152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9796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1038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86152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86152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2085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3234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4512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20856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20856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5559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67044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7950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55596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55596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89976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0178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14204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899760" y="6353280"/>
              <a:ext cx="3531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899760" y="6454800"/>
              <a:ext cx="3531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2468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3648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4894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24680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24680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5942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7122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8364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59420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59420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938000" y="5964480"/>
              <a:ext cx="995040" cy="66672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656480" y="5861160"/>
              <a:ext cx="1394640" cy="48744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830600" y="6018480"/>
              <a:ext cx="3684240" cy="48888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912320" y="6000840"/>
              <a:ext cx="576000" cy="50652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138040" y="6151680"/>
              <a:ext cx="1240920" cy="3556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128320" y="6121440"/>
              <a:ext cx="1263960" cy="21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174400" y="6345360"/>
              <a:ext cx="438840" cy="16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383920" y="6121440"/>
              <a:ext cx="1008360" cy="18900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203200" y="6357960"/>
              <a:ext cx="373320" cy="1494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826640" y="6507360"/>
              <a:ext cx="3687840" cy="35064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310560" y="5902560"/>
              <a:ext cx="1424160" cy="3254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323880" y="6002640"/>
              <a:ext cx="1758600" cy="50472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353040" y="6276960"/>
              <a:ext cx="1021680" cy="22068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790880" y="6418440"/>
              <a:ext cx="569520" cy="889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790880" y="6272280"/>
              <a:ext cx="241920" cy="14616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837960" y="6301080"/>
              <a:ext cx="438840" cy="164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839840" y="6288120"/>
              <a:ext cx="147600" cy="13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310560" y="5961240"/>
              <a:ext cx="1784520" cy="29844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961800" y="6310440"/>
              <a:ext cx="1900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861000" y="6310440"/>
              <a:ext cx="784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178160" y="6310440"/>
              <a:ext cx="7560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528440" y="6310440"/>
              <a:ext cx="12096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449960" y="6310440"/>
              <a:ext cx="5544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676400" y="6310440"/>
              <a:ext cx="5544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30320" y="6113520"/>
              <a:ext cx="88200" cy="316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751280" y="6113520"/>
              <a:ext cx="91800" cy="316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682880" y="6096240"/>
              <a:ext cx="104400" cy="4284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748400" y="6134400"/>
              <a:ext cx="569520" cy="13788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121360" y="6469200"/>
              <a:ext cx="226440" cy="3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046120" y="6426360"/>
              <a:ext cx="225720" cy="3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043240" y="6175440"/>
              <a:ext cx="261360" cy="968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245920" y="6272280"/>
              <a:ext cx="2952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807080" y="6134400"/>
              <a:ext cx="363600" cy="10764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032800" y="6272280"/>
              <a:ext cx="4968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790880" y="6272280"/>
              <a:ext cx="4896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165680" y="6507360"/>
              <a:ext cx="1447200" cy="35064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996280" y="6346800"/>
              <a:ext cx="146880" cy="27000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012840" y="6369120"/>
              <a:ext cx="84600" cy="79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012840" y="6404040"/>
              <a:ext cx="88200" cy="648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012840" y="6394680"/>
              <a:ext cx="88200" cy="468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012840" y="6442200"/>
              <a:ext cx="93960" cy="79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012840" y="6434280"/>
              <a:ext cx="93960" cy="468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76400" y="5967720"/>
              <a:ext cx="995040" cy="70452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9360" y="5870880"/>
              <a:ext cx="1335960" cy="47304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044000" y="6469200"/>
              <a:ext cx="262080" cy="147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05160" y="6526440"/>
              <a:ext cx="154440" cy="7920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291" name=""/>
          <p:cNvSpPr/>
          <p:nvPr/>
        </p:nvSpPr>
        <p:spPr>
          <a:xfrm>
            <a:off x="324000" y="1922760"/>
            <a:ext cx="84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复习备考要留心细小，注意积累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注重书本的阅读。现在高考命题的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原则是：基础知识占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80%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0%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的题稍微灵活一点，真正难的题只有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0%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。根据这个比例，只要我们注重抓基础知识，将教材弄懂吃透。课本上的许多定理、定义需要反复阅读，甚至“咬文嚼字”地分析。教材所举的例题，其解题方法往往是最经典、最常用的方法，在看教材时一定要牢牢掌握。正如古人所说：“书读百遍，其义自现”，这是众多专家的忠告。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2" name=""/>
          <p:cNvGrpSpPr/>
          <p:nvPr/>
        </p:nvGrpSpPr>
        <p:grpSpPr>
          <a:xfrm>
            <a:off x="0" y="5861160"/>
            <a:ext cx="9143280" cy="996840"/>
            <a:chOff x="0" y="5861160"/>
            <a:chExt cx="9143280" cy="996840"/>
          </a:xfrm>
        </p:grpSpPr>
        <p:sp>
          <p:nvSpPr>
            <p:cNvPr id="1293" name=""/>
            <p:cNvSpPr/>
            <p:nvPr/>
          </p:nvSpPr>
          <p:spPr>
            <a:xfrm>
              <a:off x="0" y="6031080"/>
              <a:ext cx="1830600" cy="47628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0" y="6478560"/>
              <a:ext cx="1826640" cy="3510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517720" y="6013440"/>
              <a:ext cx="3625560" cy="49392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514840" y="6507360"/>
              <a:ext cx="3628440" cy="35064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514840" y="6297840"/>
              <a:ext cx="777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6322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5676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514840" y="6353280"/>
              <a:ext cx="3495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514840" y="6454800"/>
              <a:ext cx="3495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8825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0006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81244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82494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8373240" y="6297840"/>
              <a:ext cx="82080" cy="2286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8498160" y="6310440"/>
              <a:ext cx="81360" cy="23508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8625960" y="6323040"/>
              <a:ext cx="78480" cy="24768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8749800" y="6338880"/>
              <a:ext cx="78480" cy="26856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8874720" y="6363000"/>
              <a:ext cx="78480" cy="29520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8999280" y="6390000"/>
              <a:ext cx="77760" cy="3427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9123480" y="6448680"/>
              <a:ext cx="19800" cy="33804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840080" y="6353280"/>
              <a:ext cx="1303200" cy="16668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840080" y="6454800"/>
              <a:ext cx="1303200" cy="24444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86152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9796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1038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86152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86152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2085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3234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4512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20856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20856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5559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67044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7950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55596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55596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89976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0178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14204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899760" y="6353280"/>
              <a:ext cx="3531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899760" y="6454800"/>
              <a:ext cx="3531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2468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3648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4894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24680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24680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5942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7122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78364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59420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59420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938000" y="5964480"/>
              <a:ext cx="995040" cy="66672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656480" y="5861160"/>
              <a:ext cx="1394640" cy="48744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830600" y="6018480"/>
              <a:ext cx="3684240" cy="48888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912320" y="6000840"/>
              <a:ext cx="576000" cy="50652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138040" y="6151680"/>
              <a:ext cx="1240920" cy="3556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128320" y="6121440"/>
              <a:ext cx="1263960" cy="21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174400" y="6345360"/>
              <a:ext cx="438840" cy="16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383920" y="6121440"/>
              <a:ext cx="1008360" cy="18900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203200" y="6357960"/>
              <a:ext cx="373320" cy="1494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826640" y="6507360"/>
              <a:ext cx="3687840" cy="35064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310560" y="5902560"/>
              <a:ext cx="1424160" cy="3254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323880" y="6002640"/>
              <a:ext cx="1758600" cy="50472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353040" y="6276960"/>
              <a:ext cx="1021680" cy="22068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790880" y="6418440"/>
              <a:ext cx="569520" cy="889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790880" y="6272280"/>
              <a:ext cx="241920" cy="14616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37960" y="6301080"/>
              <a:ext cx="438840" cy="164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839840" y="6288120"/>
              <a:ext cx="147600" cy="13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310560" y="5961240"/>
              <a:ext cx="1784520" cy="29844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961800" y="6310440"/>
              <a:ext cx="1900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861000" y="6310440"/>
              <a:ext cx="784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178160" y="6310440"/>
              <a:ext cx="7560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528440" y="6310440"/>
              <a:ext cx="12096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449960" y="6310440"/>
              <a:ext cx="5544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676400" y="6310440"/>
              <a:ext cx="5544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630320" y="6113520"/>
              <a:ext cx="88200" cy="316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751280" y="6113520"/>
              <a:ext cx="91800" cy="316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682880" y="6096240"/>
              <a:ext cx="104400" cy="4284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748400" y="6134400"/>
              <a:ext cx="569520" cy="13788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121360" y="6469200"/>
              <a:ext cx="226440" cy="3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046120" y="6426360"/>
              <a:ext cx="225720" cy="3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043240" y="6175440"/>
              <a:ext cx="261360" cy="968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245920" y="6272280"/>
              <a:ext cx="2952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807080" y="6134400"/>
              <a:ext cx="363600" cy="10764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032800" y="6272280"/>
              <a:ext cx="4968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790880" y="6272280"/>
              <a:ext cx="4896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165680" y="6507360"/>
              <a:ext cx="1447200" cy="35064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996280" y="6346800"/>
              <a:ext cx="146880" cy="27000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012840" y="6369120"/>
              <a:ext cx="84600" cy="79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012840" y="6404040"/>
              <a:ext cx="88200" cy="648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012840" y="6394680"/>
              <a:ext cx="88200" cy="468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012840" y="6442200"/>
              <a:ext cx="93960" cy="79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012840" y="6434280"/>
              <a:ext cx="93960" cy="468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76400" y="5967720"/>
              <a:ext cx="995040" cy="70452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9360" y="5870880"/>
              <a:ext cx="1335960" cy="47304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044000" y="6469200"/>
              <a:ext cx="262080" cy="147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05160" y="6526440"/>
              <a:ext cx="154440" cy="7920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391" name=""/>
          <p:cNvSpPr/>
          <p:nvPr/>
        </p:nvSpPr>
        <p:spPr>
          <a:xfrm>
            <a:off x="0" y="1948320"/>
            <a:ext cx="845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提高复习备考效率的另一个行之有效方法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是每一学科准备一个改错本，将自己平时考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试中作错的题或者容易混淆的概念记在这个本子上，平时和考前再从头到尾翻一翻，算一算，记一记，多次重复加深印象，到考试时就会胸有成竹和避免犯同样的错误了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　　同学们，在复习中，课堂学习是关键，上课要认真听讲，作好笔记，理解老师的解题思路，养成良好的解题习惯，注意知识的积累和复现，复习备考是知识的复现，在复习中要注意知识的再现，已学过的知识，做过的习题，特别是重点内容，考试的热点，每隔一段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2" name=""/>
          <p:cNvGrpSpPr/>
          <p:nvPr/>
        </p:nvGrpSpPr>
        <p:grpSpPr>
          <a:xfrm>
            <a:off x="0" y="5861160"/>
            <a:ext cx="9143280" cy="996840"/>
            <a:chOff x="0" y="5861160"/>
            <a:chExt cx="9143280" cy="996840"/>
          </a:xfrm>
        </p:grpSpPr>
        <p:sp>
          <p:nvSpPr>
            <p:cNvPr id="1393" name=""/>
            <p:cNvSpPr/>
            <p:nvPr/>
          </p:nvSpPr>
          <p:spPr>
            <a:xfrm>
              <a:off x="0" y="6031080"/>
              <a:ext cx="1830600" cy="47628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0" y="6478560"/>
              <a:ext cx="1826640" cy="3510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517720" y="6013440"/>
              <a:ext cx="3625560" cy="49392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514840" y="6507360"/>
              <a:ext cx="3628440" cy="35064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514840" y="6297840"/>
              <a:ext cx="777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6322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75676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514840" y="6353280"/>
              <a:ext cx="3495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514840" y="6454800"/>
              <a:ext cx="3495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8825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80006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81244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82494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8373240" y="6297840"/>
              <a:ext cx="82080" cy="2286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498160" y="6310440"/>
              <a:ext cx="81360" cy="23508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625960" y="6323040"/>
              <a:ext cx="78480" cy="24768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749800" y="6338880"/>
              <a:ext cx="78480" cy="26856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8874720" y="6363000"/>
              <a:ext cx="78480" cy="29520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8999280" y="6390000"/>
              <a:ext cx="77760" cy="3427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9123480" y="6448680"/>
              <a:ext cx="19800" cy="33804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840080" y="6353280"/>
              <a:ext cx="1303200" cy="16668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840080" y="6454800"/>
              <a:ext cx="1303200" cy="24444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86152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9796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1038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6152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6152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2085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3234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4512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20856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20856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5559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67044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7950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55596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55596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89976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0178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14204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899760" y="6353280"/>
              <a:ext cx="3531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899760" y="6454800"/>
              <a:ext cx="3531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2468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3648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4894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24680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24680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5942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77122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8364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59420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59420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938000" y="5964480"/>
              <a:ext cx="995040" cy="66672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656480" y="5861160"/>
              <a:ext cx="1394640" cy="48744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830600" y="6018480"/>
              <a:ext cx="3684240" cy="48888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912320" y="6000840"/>
              <a:ext cx="576000" cy="50652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138040" y="6151680"/>
              <a:ext cx="1240920" cy="3556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128320" y="6121440"/>
              <a:ext cx="1263960" cy="21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174400" y="6345360"/>
              <a:ext cx="438840" cy="16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383920" y="6121440"/>
              <a:ext cx="1008360" cy="18900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203200" y="6357960"/>
              <a:ext cx="373320" cy="1494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826640" y="6507360"/>
              <a:ext cx="3687840" cy="35064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310560" y="5902560"/>
              <a:ext cx="1424160" cy="3254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323880" y="6002640"/>
              <a:ext cx="1758600" cy="50472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353040" y="6276960"/>
              <a:ext cx="1021680" cy="22068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790880" y="6418440"/>
              <a:ext cx="569520" cy="889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790880" y="6272280"/>
              <a:ext cx="241920" cy="14616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837960" y="6301080"/>
              <a:ext cx="438840" cy="164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839840" y="6288120"/>
              <a:ext cx="147600" cy="13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310560" y="5961240"/>
              <a:ext cx="1784520" cy="29844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961800" y="6310440"/>
              <a:ext cx="1900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861000" y="6310440"/>
              <a:ext cx="784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178160" y="6310440"/>
              <a:ext cx="7560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528440" y="6310440"/>
              <a:ext cx="12096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449960" y="6310440"/>
              <a:ext cx="5544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676400" y="6310440"/>
              <a:ext cx="5544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630320" y="6113520"/>
              <a:ext cx="88200" cy="316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751280" y="6113520"/>
              <a:ext cx="91800" cy="316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682880" y="6096240"/>
              <a:ext cx="104400" cy="4284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748400" y="6134400"/>
              <a:ext cx="569520" cy="13788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121360" y="6469200"/>
              <a:ext cx="226440" cy="3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046120" y="6426360"/>
              <a:ext cx="225720" cy="3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043240" y="6175440"/>
              <a:ext cx="261360" cy="968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245920" y="6272280"/>
              <a:ext cx="2952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807080" y="6134400"/>
              <a:ext cx="363600" cy="10764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032800" y="6272280"/>
              <a:ext cx="4968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790880" y="6272280"/>
              <a:ext cx="4896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165680" y="6507360"/>
              <a:ext cx="1447200" cy="35064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996280" y="6346800"/>
              <a:ext cx="146880" cy="27000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012840" y="6369120"/>
              <a:ext cx="84600" cy="79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012840" y="6404040"/>
              <a:ext cx="88200" cy="648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012840" y="6394680"/>
              <a:ext cx="88200" cy="468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012840" y="6442200"/>
              <a:ext cx="93960" cy="79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012840" y="6434280"/>
              <a:ext cx="93960" cy="468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76400" y="5967720"/>
              <a:ext cx="995040" cy="70452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9360" y="5870880"/>
              <a:ext cx="1335960" cy="47304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044000" y="6469200"/>
              <a:ext cx="262080" cy="147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05160" y="6526440"/>
              <a:ext cx="154440" cy="7920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491" name=""/>
          <p:cNvSpPr/>
          <p:nvPr/>
        </p:nvSpPr>
        <p:spPr>
          <a:xfrm>
            <a:off x="324000" y="273132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时间就要再看看，算一算，只有经过多次反复，才能有效地使知识得到强化，概括起来说就是作好“三管”———管好自己的口，不懂就问，不留隐患；管好自己的手，老师布置的习题一定要动手做，只看不做就会出现看到题，题题都会，做起来题题都有失误，务必要防止眼高手低；管好自己的脑，提倡独立思考，对同类问题要注意归纳比较，这样，才能将知识内化为自己的思维能力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2" name=""/>
          <p:cNvGrpSpPr/>
          <p:nvPr/>
        </p:nvGrpSpPr>
        <p:grpSpPr>
          <a:xfrm>
            <a:off x="0" y="5861160"/>
            <a:ext cx="9143280" cy="996840"/>
            <a:chOff x="0" y="5861160"/>
            <a:chExt cx="9143280" cy="996840"/>
          </a:xfrm>
        </p:grpSpPr>
        <p:sp>
          <p:nvSpPr>
            <p:cNvPr id="1493" name=""/>
            <p:cNvSpPr/>
            <p:nvPr/>
          </p:nvSpPr>
          <p:spPr>
            <a:xfrm>
              <a:off x="0" y="6031080"/>
              <a:ext cx="1830600" cy="47628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0" y="6478560"/>
              <a:ext cx="1826640" cy="3510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517720" y="6013440"/>
              <a:ext cx="3625560" cy="49392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514840" y="6507360"/>
              <a:ext cx="3628440" cy="35064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514840" y="6297840"/>
              <a:ext cx="777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6322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75676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514840" y="6353280"/>
              <a:ext cx="3495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514840" y="6454800"/>
              <a:ext cx="3495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8825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80006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81244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82494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8373240" y="6297840"/>
              <a:ext cx="82080" cy="2286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8498160" y="6310440"/>
              <a:ext cx="81360" cy="23508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8625960" y="6323040"/>
              <a:ext cx="78480" cy="24768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749800" y="6338880"/>
              <a:ext cx="78480" cy="26856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8874720" y="6363000"/>
              <a:ext cx="78480" cy="29520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999280" y="6390000"/>
              <a:ext cx="77760" cy="3427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9123480" y="6448680"/>
              <a:ext cx="19800" cy="33804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840080" y="6353280"/>
              <a:ext cx="1303200" cy="16668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840080" y="6454800"/>
              <a:ext cx="1303200" cy="24444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86152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9796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1038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86152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86152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2085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3234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4512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20856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20856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5559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67044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7950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55596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55596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89976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70178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714204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899760" y="6353280"/>
              <a:ext cx="3531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899760" y="6454800"/>
              <a:ext cx="3531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72468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3648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74894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24680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724680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75942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77122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78364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759420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759420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7938000" y="5964480"/>
              <a:ext cx="995040" cy="66672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7656480" y="5861160"/>
              <a:ext cx="1394640" cy="48744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830600" y="6018480"/>
              <a:ext cx="3684240" cy="48888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912320" y="6000840"/>
              <a:ext cx="576000" cy="50652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138040" y="6151680"/>
              <a:ext cx="1240920" cy="3556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128320" y="6121440"/>
              <a:ext cx="1263960" cy="21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174400" y="6345360"/>
              <a:ext cx="438840" cy="16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383920" y="6121440"/>
              <a:ext cx="1008360" cy="18900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203200" y="6357960"/>
              <a:ext cx="373320" cy="1494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826640" y="6507360"/>
              <a:ext cx="3687840" cy="35064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310560" y="5902560"/>
              <a:ext cx="1424160" cy="3254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323880" y="6002640"/>
              <a:ext cx="1758600" cy="50472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353040" y="6276960"/>
              <a:ext cx="1021680" cy="22068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790880" y="6418440"/>
              <a:ext cx="569520" cy="889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790880" y="6272280"/>
              <a:ext cx="241920" cy="14616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837960" y="6301080"/>
              <a:ext cx="438840" cy="164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839840" y="6288120"/>
              <a:ext cx="147600" cy="13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310560" y="5961240"/>
              <a:ext cx="1784520" cy="29844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961800" y="6310440"/>
              <a:ext cx="1900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861000" y="6310440"/>
              <a:ext cx="784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178160" y="6310440"/>
              <a:ext cx="7560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528440" y="6310440"/>
              <a:ext cx="12096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449960" y="6310440"/>
              <a:ext cx="5544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4676400" y="6310440"/>
              <a:ext cx="5544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630320" y="6113520"/>
              <a:ext cx="88200" cy="316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751280" y="6113520"/>
              <a:ext cx="91800" cy="316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682880" y="6096240"/>
              <a:ext cx="104400" cy="4284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748400" y="6134400"/>
              <a:ext cx="569520" cy="13788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121360" y="6469200"/>
              <a:ext cx="226440" cy="3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046120" y="6426360"/>
              <a:ext cx="225720" cy="3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043240" y="6175440"/>
              <a:ext cx="261360" cy="968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245920" y="6272280"/>
              <a:ext cx="2952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807080" y="6134400"/>
              <a:ext cx="363600" cy="10764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032800" y="6272280"/>
              <a:ext cx="4968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790880" y="6272280"/>
              <a:ext cx="4896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165680" y="6507360"/>
              <a:ext cx="1447200" cy="35064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996280" y="6346800"/>
              <a:ext cx="146880" cy="27000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012840" y="6369120"/>
              <a:ext cx="84600" cy="79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012840" y="6404040"/>
              <a:ext cx="88200" cy="648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012840" y="6394680"/>
              <a:ext cx="88200" cy="468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012840" y="6442200"/>
              <a:ext cx="93960" cy="79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012840" y="6434280"/>
              <a:ext cx="93960" cy="468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76400" y="5967720"/>
              <a:ext cx="995040" cy="70452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9360" y="5870880"/>
              <a:ext cx="1335960" cy="47304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044000" y="6469200"/>
              <a:ext cx="262080" cy="147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05160" y="6526440"/>
              <a:ext cx="154440" cy="7920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591" name=""/>
          <p:cNvSpPr/>
          <p:nvPr/>
        </p:nvSpPr>
        <p:spPr>
          <a:xfrm>
            <a:off x="395280" y="2448360"/>
            <a:ext cx="84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考场答题要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牢记“五个一”：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解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选择题要重第一感悟，不能左推右推；解问答题要抓住重点，一语中的；解判断题和写作文，要理清思路，一气呵成；检查试卷要重第一次的感觉，没有百分之百的把握不要轻易推翻前面的答案；卷面书写要整洁，一尘不染。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2" name=""/>
          <p:cNvGrpSpPr/>
          <p:nvPr/>
        </p:nvGrpSpPr>
        <p:grpSpPr>
          <a:xfrm>
            <a:off x="0" y="5861160"/>
            <a:ext cx="9143280" cy="996840"/>
            <a:chOff x="0" y="5861160"/>
            <a:chExt cx="9143280" cy="996840"/>
          </a:xfrm>
        </p:grpSpPr>
        <p:sp>
          <p:nvSpPr>
            <p:cNvPr id="1593" name=""/>
            <p:cNvSpPr/>
            <p:nvPr/>
          </p:nvSpPr>
          <p:spPr>
            <a:xfrm>
              <a:off x="0" y="6031080"/>
              <a:ext cx="1830600" cy="47628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0" y="6478560"/>
              <a:ext cx="1826640" cy="3510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517720" y="6013440"/>
              <a:ext cx="3625560" cy="49392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514840" y="6507360"/>
              <a:ext cx="3628440" cy="35064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514840" y="6297840"/>
              <a:ext cx="777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6322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75676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514840" y="6353280"/>
              <a:ext cx="3495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514840" y="6454800"/>
              <a:ext cx="3495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8825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80006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81244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82494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8373240" y="6297840"/>
              <a:ext cx="82080" cy="2286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498160" y="6310440"/>
              <a:ext cx="81360" cy="23508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8625960" y="6323040"/>
              <a:ext cx="78480" cy="24768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8749800" y="6338880"/>
              <a:ext cx="78480" cy="26856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8874720" y="6363000"/>
              <a:ext cx="78480" cy="29520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8999280" y="6390000"/>
              <a:ext cx="77760" cy="3427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9123480" y="6448680"/>
              <a:ext cx="19800" cy="33804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840080" y="6353280"/>
              <a:ext cx="1303200" cy="16668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840080" y="6454800"/>
              <a:ext cx="1303200" cy="24444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86152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9796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1038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86152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86152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2085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3234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4512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20856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20856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5559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67044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7950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55596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55596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89976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0178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14204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899760" y="6353280"/>
              <a:ext cx="3531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899760" y="6454800"/>
              <a:ext cx="3531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2468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3648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4894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24680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24680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5942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7122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8364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59420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9420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938000" y="5964480"/>
              <a:ext cx="995040" cy="66672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656480" y="5861160"/>
              <a:ext cx="1394640" cy="48744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830600" y="6018480"/>
              <a:ext cx="3684240" cy="48888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912320" y="6000840"/>
              <a:ext cx="576000" cy="50652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138040" y="6151680"/>
              <a:ext cx="1240920" cy="3556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128320" y="6121440"/>
              <a:ext cx="1263960" cy="21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174400" y="6345360"/>
              <a:ext cx="438840" cy="16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383920" y="6121440"/>
              <a:ext cx="1008360" cy="18900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203200" y="6357960"/>
              <a:ext cx="373320" cy="1494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826640" y="6507360"/>
              <a:ext cx="3687840" cy="35064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310560" y="5902560"/>
              <a:ext cx="1424160" cy="3254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323880" y="6002640"/>
              <a:ext cx="1758600" cy="50472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353040" y="6276960"/>
              <a:ext cx="1021680" cy="22068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790880" y="6418440"/>
              <a:ext cx="569520" cy="889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790880" y="6272280"/>
              <a:ext cx="241920" cy="14616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837960" y="6301080"/>
              <a:ext cx="438840" cy="164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839840" y="6288120"/>
              <a:ext cx="147600" cy="13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310560" y="5961240"/>
              <a:ext cx="1784520" cy="29844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3961800" y="6310440"/>
              <a:ext cx="1900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861000" y="6310440"/>
              <a:ext cx="784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178160" y="6310440"/>
              <a:ext cx="7560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528440" y="6310440"/>
              <a:ext cx="12096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449960" y="6310440"/>
              <a:ext cx="5544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676400" y="6310440"/>
              <a:ext cx="5544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630320" y="6113520"/>
              <a:ext cx="88200" cy="316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751280" y="6113520"/>
              <a:ext cx="91800" cy="316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682880" y="6096240"/>
              <a:ext cx="104400" cy="4284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748400" y="6134400"/>
              <a:ext cx="569520" cy="13788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121360" y="6469200"/>
              <a:ext cx="226440" cy="3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046120" y="6426360"/>
              <a:ext cx="225720" cy="3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043240" y="6175440"/>
              <a:ext cx="261360" cy="968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245920" y="6272280"/>
              <a:ext cx="2952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807080" y="6134400"/>
              <a:ext cx="363600" cy="10764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032800" y="6272280"/>
              <a:ext cx="4968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790880" y="6272280"/>
              <a:ext cx="4896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165680" y="6507360"/>
              <a:ext cx="1447200" cy="35064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996280" y="6346800"/>
              <a:ext cx="146880" cy="27000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012840" y="6369120"/>
              <a:ext cx="84600" cy="79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012840" y="6404040"/>
              <a:ext cx="88200" cy="648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012840" y="6394680"/>
              <a:ext cx="88200" cy="468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012840" y="6442200"/>
              <a:ext cx="93960" cy="79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012840" y="6434280"/>
              <a:ext cx="93960" cy="468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76400" y="5967720"/>
              <a:ext cx="995040" cy="70452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9360" y="5870880"/>
              <a:ext cx="1335960" cy="47304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044000" y="6469200"/>
              <a:ext cx="262080" cy="147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05160" y="6526440"/>
              <a:ext cx="154440" cy="7920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691" name=""/>
          <p:cNvSpPr/>
          <p:nvPr/>
        </p:nvSpPr>
        <p:spPr>
          <a:xfrm>
            <a:off x="0" y="1622880"/>
            <a:ext cx="84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东风劲吹，战鼓催征，冲锋的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号角已经吹响。同学们，时不我待，人生能有几回搏！不要犹豫、不要退缩，前进的道路上有我们全体初三老师伴你同行。让我们踏着这最后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天，激扬青春，奋力冲刺吧！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3" name=""/>
          <p:cNvSpPr/>
          <p:nvPr/>
        </p:nvSpPr>
        <p:spPr>
          <a:xfrm>
            <a:off x="971640" y="1052640"/>
            <a:ext cx="68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学生代表发言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56720" y="5950080"/>
            <a:ext cx="952200" cy="628560"/>
          </a:xfrm>
          <a:prstGeom prst="rect">
            <a:avLst/>
          </a:prstGeom>
          <a:ln w="0">
            <a:noFill/>
          </a:ln>
        </p:spPr>
      </p:pic>
      <p:sp>
        <p:nvSpPr>
          <p:cNvPr id="1695" name=""/>
          <p:cNvSpPr/>
          <p:nvPr/>
        </p:nvSpPr>
        <p:spPr>
          <a:xfrm>
            <a:off x="179280" y="3181320"/>
            <a:ext cx="896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2474280" y="2133720"/>
            <a:ext cx="4376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班长陈小清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陈玉枫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杨凤花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陈少敏 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陈榕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林媛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张云    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陈思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林琼   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 0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陈炳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3960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3039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亲爱的同学们，我们经过了九年的风雨拼搏，距离期盼已久的高考仅有最后的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天了。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天，在历史的长河中犹如沧海之一粟，然而对于我们，它可以使时光倒流，可以让我们完成九年积淀的知识的回顾，可以让我们的老师尽情施展点石成金、化腐朽为神奇的教学艺术，可以让我们的教与学水平达到一个崭新的高度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564000" y="189000"/>
            <a:ext cx="1152360" cy="67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99cc00"/>
                  </a:solidFill>
                  <a:miter/>
                </a:ln>
                <a:blipFill rotWithShape="0">
                  <a:blip r:embed="rId3">
                    <a:alphaModFix amt="5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导语</a:t>
            </a:r>
            <a:endParaRPr b="0" lang="en-US" sz="1800" spc="1" strike="noStrike">
              <a:ln w="12600">
                <a:solidFill>
                  <a:srgbClr val="99cc00"/>
                </a:solidFill>
                <a:miter/>
              </a:ln>
              <a:blipFill rotWithShape="0">
                <a:blip r:embed="rId4">
                  <a:alphaModFix amt="5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/>
          </p:nvPr>
        </p:nvSpPr>
        <p:spPr>
          <a:xfrm>
            <a:off x="-360" y="1915920"/>
            <a:ext cx="889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们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离高考的日子越来越短了，在这关键的时刻，我们还能无动于衷，还能坐视不理吗？不！我们应该要努力拼搏，以最佳的精神状态投入学习。努力才会成功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一次又一次的不如意中我明白了：不为失败找借口，只为成功找方法。只要心里有梦，为了实现梦想努力拼搏，一次次认真完成作业，一次次精彩的回答，一次次出色的表现，都能成为你成功的垫脚石，努力一定行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1763640" y="404640"/>
            <a:ext cx="43196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宋体"/>
              </a:rPr>
              <a:t>高考百日誓言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陈小清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/>
          </p:nvPr>
        </p:nvSpPr>
        <p:spPr>
          <a:xfrm>
            <a:off x="-360" y="764640"/>
            <a:ext cx="889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陈玉枫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们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天伴着春光，迎来了我们的高考百日誓师大会。今天我们欢聚一堂，一百天后，我们将驰骋沙场，拼搏高考。在这一百天里，将十分辛苦，我只能送给诸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字：坚持，努力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上没有办不到的事，只要你坚持了，努力了，绝望也会变成希望。谁有不能预测一百天后结果如何，但我们可以好好把握这一百天的时间，努力改变自己，让结果也随着改变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3474720" y="-84240"/>
            <a:ext cx="1296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发言稿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889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什么毛毛虫会变成美丽的蝴蝶？为什么小毛笋会变成翠绿的青竹？因为当它们面临困难时，没有低下她们高贵的头，它们努力再努力，坚持再坚持，终于它们成功了！世间万物如此，自然之灵长——人，又当如何？握紧你们的双拳，大声对自己说：这一百天里，除了努力，我已别无选择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此时此刻我只想对在座的同学们说：努力吧，通往成功的大道已经出现了，就看你们的选择了。如果不想让自己的人生留下阴影，就马上行动吧！大声对自己说：我的人生我做主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/>
          </p:nvPr>
        </p:nvSpPr>
        <p:spPr>
          <a:xfrm>
            <a:off x="-360" y="764640"/>
            <a:ext cx="889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天离高考只有一百天了，在这屈指可数的时光里，我们还有空“三闲”吗？我们难道不应该用实际行动去拼搏吗？别再犹豫了，相信自己，马上行动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相信世上无难事，只怕有心人。成功只青睐有准备的人。任何时刻都不要放弃，要相信自己，相信“长风破浪会有时，直挂云帆济沧海”。努力请从即刻开始，有付出才有收获，成功的大门永远为你敞开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们，除了努力，我们别无选择，那么就让我们乘着努力的风帆一路披风斩浪，驶向成功的彼岸吧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同学们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你们好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再过一百天就要高考了。这一百天，一晃就到了，所以我们必须在这一百天里为高考做好充分的准备，为了美好的未来而奋斗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一段时间以来，我的学习态度越来越差，成绩也越来越差。每次成绩公布下来时，和同学们一起交流，嘴上总是说：“管它考多少，反正我又不在乎。”当一个人独处时，我的新总是在问：“真的不在乎吗？”怎么可能不在乎呢？面对一次比一次差的成绩，怎么会一点感受都没有呢？我自己的想法我自己再清楚不过了，说不在乎，只是一种借口，用来逃避自己不愿面对的现实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3203640" y="57240"/>
            <a:ext cx="2376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演讲稿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杨凤花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曾经放弃上高中的念头，那是因为觉得自己毫无希望。但经过一段时间的彷徨、思索，现在我已决定不放弃！老师说过：只要有百分之一的希望，就要付出百分之九十九的努力。老师说我还是有希望的。既然还有希望，为什么不试试看，试试看才知道成不成呀！即使不成，我也对得起自己，因为我努力过、拼搏过！我的青春不留遗憾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在这仅有的一百个日日夜夜里，我一定端正自己的学习态度，也不再逃避已成的事实，因为我知道，这一切都会过去的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有人说过：失败与挫折是暂时的，只要你勇于微笑；成功与赞扬是暂时的，只要你努力前进；忧愁与烦恼是暂时的，只要你还拥有梦想。相信我曾经的失败与忧愁都将会过去，希望能在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天内有所收获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加油！你一定可以，为自己加油，也为同学们加油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高考的日子在一天天地逼近，掐指一算，我们只有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天了。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天在历史长河中，不过是弹指一挥间，但对于我们，真的很重要！也许它能改变我们的人生，我们只能选择珍惜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每天记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个单词吧，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天后我就记住了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000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个；每天背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首古诗，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天后我就背下了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首；每天记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条公式，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天后我就记住了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条了。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虽然很短暂，但真正尝试努力去积累，成绩还是很可观的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3527640" y="0"/>
            <a:ext cx="2009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高考奋斗誓言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陈少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323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这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天，也许会很累，要付出很多汗水，但只要是为了我们的梦想，这一切都是快乐的，都是有价值的。等的我们成功的那一天，我们会感到欣慰。也许，我们没有那么幸运，但无论结果如何，我们都无怨无悔，因为我们奋斗过，拼搏过，努力过，追寻过，灿烂过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尝试了，也许未必成功，但不尝试，就只能失败。”这是我特别欣赏的一句名言，它将成为我奋斗百日的座右铭，时刻支持、激励我，给予我力量，伴我搏击风雨，陪我驶向成功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这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天，我充满了信心，我相信我可以努力把握好它，到了最后一天，我不会留下任何遗憾！同学们，从此刻起，让我们一起行动起来，相信通过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天踏踏实实地奋斗，我们可以考上理想的高中，可以让我们的人生更精彩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/>
          </p:nvPr>
        </p:nvSpPr>
        <p:spPr>
          <a:xfrm>
            <a:off x="-360" y="764640"/>
            <a:ext cx="889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光阴如流水，不经意间，就到了高考倒计时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天了，我们的压力越来越重了。我们即将面临一场决定人生命运的考验，但我们不退缩，我们将坚定而自信地走下去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虽然我们的起点比别人低，成绩还相差甚远。但是，我们有希望。只要我们肯努力，就一定能进步！相信这一秒不失望，下一秒就有希望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面对失败，不要悲伤，也不要放弃。不是失败，只是暂时没有成功罢了。我不想为过去的失败找过多的理由，因为我知道现在，除了努力，我别无选择！高考一步步逼近，我们没有退路，只有马上行动才行，努力把我们的潜力发挥出来，不再让它处于沉睡状态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现在，我以青春的名义向大家宣誓：我的梦想是一定要考进一中，在这仅剩的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天里，我要全力以赴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3045240" y="-171360"/>
            <a:ext cx="2558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高考百日誓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陈榕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距离高考只有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天了，为了迎接高考，我下定决心在这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天里努力拼搏、奋斗。于是我决定把目标定在闽三中。我再细细地定出每一科的目标，我相信只要我努力，一定会实现目标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先从语文说起，我把语文目标定在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20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分左右。上次期末考我只考了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06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分，我仔细分析了试卷发现自己丢分主要是由于粗心审题不够认真，还有作文写得不够好。于是现在我首先要克服粗心的毛病，养成认真审题的良好习惯；平时多看一些精美的文章，多学一些写作技巧，让自己的文笔更精彩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3552480" y="0"/>
            <a:ext cx="1003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决心书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林媛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5861160"/>
            <a:ext cx="9143280" cy="996840"/>
            <a:chOff x="0" y="5861160"/>
            <a:chExt cx="9143280" cy="996840"/>
          </a:xfrm>
        </p:grpSpPr>
        <p:sp>
          <p:nvSpPr>
            <p:cNvPr id="91" name=""/>
            <p:cNvSpPr/>
            <p:nvPr/>
          </p:nvSpPr>
          <p:spPr>
            <a:xfrm>
              <a:off x="0" y="6031080"/>
              <a:ext cx="1830600" cy="47628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6478560"/>
              <a:ext cx="1826640" cy="3510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17720" y="6013440"/>
              <a:ext cx="3625560" cy="49392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14840" y="6507360"/>
              <a:ext cx="3628440" cy="35064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14840" y="6297840"/>
              <a:ext cx="777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322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5676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14840" y="6353280"/>
              <a:ext cx="3495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14840" y="6454800"/>
              <a:ext cx="3495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825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006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244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2494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73240" y="6297840"/>
              <a:ext cx="82080" cy="2286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498160" y="6310440"/>
              <a:ext cx="81360" cy="23508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625960" y="6323040"/>
              <a:ext cx="78480" cy="24768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749800" y="6338880"/>
              <a:ext cx="78480" cy="26856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874720" y="6363000"/>
              <a:ext cx="78480" cy="29520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999280" y="6390000"/>
              <a:ext cx="77760" cy="3427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23480" y="6448680"/>
              <a:ext cx="19800" cy="33804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840080" y="6353280"/>
              <a:ext cx="1303200" cy="16668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840080" y="6454800"/>
              <a:ext cx="1303200" cy="24444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6152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796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038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6152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6152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085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234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512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0856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0856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559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7044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950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5596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5596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9976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178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4204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99760" y="6353280"/>
              <a:ext cx="3531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99760" y="6454800"/>
              <a:ext cx="3531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468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648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4894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4680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4680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942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7122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8364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9420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9420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38000" y="5964480"/>
              <a:ext cx="995040" cy="66672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56480" y="5861160"/>
              <a:ext cx="1394640" cy="48744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30600" y="6018480"/>
              <a:ext cx="3684240" cy="48888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12320" y="6000840"/>
              <a:ext cx="576000" cy="50652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38040" y="6151680"/>
              <a:ext cx="1240920" cy="3556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28320" y="6121440"/>
              <a:ext cx="1263960" cy="21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74400" y="6345360"/>
              <a:ext cx="438840" cy="16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83920" y="6121440"/>
              <a:ext cx="1008360" cy="18900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03200" y="6357960"/>
              <a:ext cx="373320" cy="1494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26640" y="6507360"/>
              <a:ext cx="3687840" cy="35064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10560" y="5902560"/>
              <a:ext cx="1424160" cy="3254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23880" y="6002640"/>
              <a:ext cx="1758600" cy="50472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53040" y="6276960"/>
              <a:ext cx="1021680" cy="22068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90880" y="6418440"/>
              <a:ext cx="569520" cy="889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90880" y="6272280"/>
              <a:ext cx="241920" cy="14616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37960" y="6301080"/>
              <a:ext cx="438840" cy="164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39840" y="6288120"/>
              <a:ext cx="147600" cy="13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10560" y="5961240"/>
              <a:ext cx="1784520" cy="29844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61800" y="6310440"/>
              <a:ext cx="1900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61000" y="6310440"/>
              <a:ext cx="784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78160" y="6310440"/>
              <a:ext cx="7560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28440" y="6310440"/>
              <a:ext cx="12096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49960" y="6310440"/>
              <a:ext cx="5544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76400" y="6310440"/>
              <a:ext cx="5544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30320" y="6113520"/>
              <a:ext cx="88200" cy="316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51280" y="6113520"/>
              <a:ext cx="91800" cy="316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82880" y="6096240"/>
              <a:ext cx="104400" cy="4284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48400" y="6134400"/>
              <a:ext cx="569520" cy="13788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21360" y="6469200"/>
              <a:ext cx="226440" cy="3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46120" y="6426360"/>
              <a:ext cx="225720" cy="3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43240" y="6175440"/>
              <a:ext cx="261360" cy="968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45920" y="6272280"/>
              <a:ext cx="2952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7080" y="6134400"/>
              <a:ext cx="363600" cy="10764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32800" y="6272280"/>
              <a:ext cx="4968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90880" y="6272280"/>
              <a:ext cx="4896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65680" y="6507360"/>
              <a:ext cx="1447200" cy="35064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96280" y="6346800"/>
              <a:ext cx="146880" cy="27000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12840" y="6369120"/>
              <a:ext cx="84600" cy="79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12840" y="6404040"/>
              <a:ext cx="88200" cy="648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12840" y="6394680"/>
              <a:ext cx="88200" cy="468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12840" y="6442200"/>
              <a:ext cx="93960" cy="79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12840" y="6434280"/>
              <a:ext cx="93960" cy="468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6400" y="5967720"/>
              <a:ext cx="995040" cy="70452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360" y="5870880"/>
              <a:ext cx="1335960" cy="47304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44000" y="6469200"/>
              <a:ext cx="262080" cy="147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5160" y="6526440"/>
              <a:ext cx="154440" cy="7920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086560" y="259560"/>
            <a:ext cx="440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在高考百日誓师大会上的发言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907920"/>
            <a:ext cx="333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同学们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　　你们好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159000"/>
            <a:ext cx="845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三月的初春，乍暖还寒，春寒料峭，憧憬火热的六月，我们似乎看到了那场没有硝烟的战斗，仿佛闻到了剑拔弩张的火药味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　　亲爱的同学们，今天，我们离高考决战仅有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天的时间，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天就是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次的冲锋，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天就是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次的搏击！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964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其次我将英语目标定在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35-14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分之间，英语是我的最爱，可是每一次考试我都考不好。为什么呢？我问自己。经过我长时间的思考，我发现自己并不是不会做，而是太骄傲了。在考试之前，别人都在复习而我却在一边傻坐着，总认为自己什么都会了。直到考试之后才发现自己该复习的都没有复习。因此，我要意识到自己跟别人比还差很远，一定摆正心态踏踏实实地学习，上课认真听讲，下课及时复习…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最后，说说数学，数学一直都是我的弱项。因此我将数学的目标定在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90-10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之间。上课认真听讲，课后多做练习，不懂的及时请教老师或同学，相信我只要努力一定会成功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至于其他科目一样很重要，我也一样会更加努力的去学好它们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总之，只要我有决心，有毅力，通过努力一定能实现我的目标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/>
          </p:nvPr>
        </p:nvSpPr>
        <p:spPr>
          <a:xfrm>
            <a:off x="252000" y="1125000"/>
            <a:ext cx="889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大家好！大家都很清楚地知道，从此刻算起距离高考只有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天了。为了你我各自心中的目标，我们除了努力，已别无选择了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以前，我没什么理想，只是在混日子罢了。直到分班以后，老师经常向我们进行“理想、信念”的教育，老师做的工作也是大家有目共睹的。每回考前的鼓劲，考后的分析与鼓励，都让我们士气大振，都让我们感到自己有希望。每次听完老师的那一番话后，都让我在心里萌生了一定要好好努力学习的决心。可惜，我的意志不够坚强，一次又一次的背弃了自己在心中暗下的决心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2227680" y="0"/>
            <a:ext cx="4234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高考百日誓师大会演讲稿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张云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964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但这学期不一样了，这次我下定决心一定要和涓涓、少敏一同考进闽一中！因为我知道如果考不进一中，我将结束自己的学习生涯，踏上打工之路了。不，我不要这样！因此，我别无选择，我唯有通过百倍的努力，才能改变自己的命运！所以，我决定当寄宿生，我说服了家人住进学校，我会有更充裕的时间与精力学习，不会再为琐事分心。在这剩下的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天里好好搏一搏吧！就想老师说的“此时不搏，更待何时”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我坚信“世界上没有不可能的事，只是付出的努力还不够而已。”这也正是我的座右铭，希望它能时刻鞭策我前进。同学们，还在犹豫什么呢？让我们一改往日懒散的班风，携手并进！即使你手里拥有可以找到宝藏的羊皮地图，如果不付诸行动也不会得到宝藏；不论你目标定得多高，没有行动一样也不会实现。同学们，就让我们马上行动起来吧！从此刻起，就让我们自觉努！力并互相督促，好吗？如果大家赞同并接受我的看法，就以你们最热烈的掌声来回应吧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/>
          </p:nvPr>
        </p:nvSpPr>
        <p:spPr>
          <a:xfrm>
            <a:off x="-360" y="764640"/>
            <a:ext cx="889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百日誓师大会演讲稿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             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陈思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大家都知道，距离高考只有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天了。我们能否考上理想的学校，就看这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天时间里，你所付出的努力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常言道，一分耕耘一分收获，只有付出努力，才会有回报啊！问问自己是否努力过？说来惭愧，我只能老老实实地回答：“我没有。”不过还好，还有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天的时间，只要我肯努力，不怕吃苦，我一定能够迎头赶上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就算只有百分之一的希望，我也要付出百分之九十九的努力，去迎战高考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同学们，与我一同努力吧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889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演讲稿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 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林琼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再过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天就要高考了，可我的理科成绩却一团糟。怎么办呢？我不知该如何是好。我现在才发现原来一切的一切都是自己态度的问题，“态度决定成功”，我的态度太不好了，还经常为自己找借口，高考就要来了，我 不能再这样下去了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有思路才有出路，经过认真的思索，我意识到我必须适当地调整自己的目标，一中的门槛对我而言是太高了，我可以努力争取考三中。我不能要求自己太高，三中，再努一把力，我想我是有机会的，我不能放弃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现在已进入总复习阶段了，我应该认真听课，认真完成作业，朝着自己的目标前进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在此我也不想说太多，我想行动是最重要的，希望同学们能够帮助我，为我加油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我能行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我必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   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陈炳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天之后的此时，我就坐在高考的考场之中，迎战高考了。只有短短的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天了，我能够做些什么呢？我只有尽全力去奋斗，使出浑身解数来迎考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我现在的成绩还不好，不过在这段时间中我会努力，我的成绩会稳中求升。我要发愤一点，鼓舞自己争取考进理想的高中。世上无难事，只怕有心人。我能行，天下没有办不成的事，相信吧，奇迹就在眼前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我已经为未来做好打算，我首先要突破眼前的难关，我的英语虽然差了点，但我会多下工夫把它读好，现在正是求学的黄金时期，我要把握住时机，该出手时就出手，要知道少壮不努力，老大徒伤悲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虽然现在成绩不够理想，但是我对自己说，不是失败，只是暂时没有成功！失败并不可怕，可怕的是没有站起来的勇气。爱迪生经过多少失败才成功？我失败过几次？我相信一定会有成功的一天，我不气馁，不自暴自弃，我相信自己，时时对自己说：“我能行！我必胜！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21" name=""/>
          <p:cNvGrpSpPr/>
          <p:nvPr/>
        </p:nvGrpSpPr>
        <p:grpSpPr>
          <a:xfrm>
            <a:off x="971640" y="0"/>
            <a:ext cx="6858000" cy="961920"/>
            <a:chOff x="971640" y="0"/>
            <a:chExt cx="6858000" cy="961920"/>
          </a:xfrm>
        </p:grpSpPr>
        <p:pic>
          <p:nvPicPr>
            <p:cNvPr id="1722" name="" descr=""/>
            <p:cNvPicPr/>
            <p:nvPr/>
          </p:nvPicPr>
          <p:blipFill>
            <a:blip r:embed="rId3"/>
            <a:stretch/>
          </p:blipFill>
          <p:spPr>
            <a:xfrm>
              <a:off x="971640" y="0"/>
              <a:ext cx="68580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3" name=""/>
            <p:cNvSpPr txBox="1"/>
            <p:nvPr/>
          </p:nvSpPr>
          <p:spPr>
            <a:xfrm>
              <a:off x="971640" y="0"/>
              <a:ext cx="6858000" cy="96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724" name=""/>
          <p:cNvSpPr/>
          <p:nvPr/>
        </p:nvSpPr>
        <p:spPr>
          <a:xfrm>
            <a:off x="0" y="917640"/>
            <a:ext cx="936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各位老师、亲爱的同学们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   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大家好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   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时间，是一首无声的歌；时间，是一缕无痕的风；时间，是一张没有回程的车票，转眼间，毕业阶段已经来临！回首三年的初中生活，曾经有欢畅的笑，曾经有痛快的哭，曾经有挥洒的汗，曾经有收获的甜……是的，经过了春耕夏耘，我们终于迎来了收获的时节。“宝剑锋从磨砺出，梅花香自苦寒来”，“最困难之时，就是离成功不远之日”。在座的每个人都清楚地知道它们的含义。如今，宝剑在手，寒梅飘香，背水一战的时刻到了，我们全体初三老师的心与同学们一起在跳动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3164400" y="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高考誓师大会发言稿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27" name=""/>
          <p:cNvGrpSpPr/>
          <p:nvPr/>
        </p:nvGrpSpPr>
        <p:grpSpPr>
          <a:xfrm>
            <a:off x="971640" y="-480960"/>
            <a:ext cx="6858000" cy="961920"/>
            <a:chOff x="971640" y="-480960"/>
            <a:chExt cx="6858000" cy="961920"/>
          </a:xfrm>
        </p:grpSpPr>
        <p:pic>
          <p:nvPicPr>
            <p:cNvPr id="1728" name="" descr=""/>
            <p:cNvPicPr/>
            <p:nvPr/>
          </p:nvPicPr>
          <p:blipFill>
            <a:blip r:embed="rId3"/>
            <a:stretch/>
          </p:blipFill>
          <p:spPr>
            <a:xfrm>
              <a:off x="971640" y="-480960"/>
              <a:ext cx="68580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9" name=""/>
            <p:cNvSpPr txBox="1"/>
            <p:nvPr/>
          </p:nvSpPr>
          <p:spPr>
            <a:xfrm>
              <a:off x="971640" y="-480960"/>
              <a:ext cx="6858000" cy="96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730" name=""/>
          <p:cNvSpPr/>
          <p:nvPr/>
        </p:nvSpPr>
        <p:spPr>
          <a:xfrm>
            <a:off x="179280" y="430200"/>
            <a:ext cx="936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初三的书山揽胜、题海遨游，深夜里的孤灯奋战，夏日里的涔涔汗水，父母亲的声声叮咛，师友们的殷殷期盼，都将化作无穷动力，催你们前行，励你们成功。再经过一百天紧张而又充实的学习，你们的初中生活即将点上一个标点，是圆满结束的句号，还是遒劲有力，充满惊喜的感叹号？答案在你的行动中！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   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大学梦，是人生梦的起点，没有经过大学的人生是有缺憾的；高中梦，又是大学梦的起点，我们要抢占人生的制高点，创造无怨无悔的人生！初三是人生征途中的重要一站，大家千万不要把太多的精力和时间消耗在一时的享乐当中，应当竭尽全力去为实现自己的梦想而奋斗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2" name=""/>
          <p:cNvGrpSpPr/>
          <p:nvPr/>
        </p:nvGrpSpPr>
        <p:grpSpPr>
          <a:xfrm>
            <a:off x="971640" y="-480960"/>
            <a:ext cx="6858000" cy="961920"/>
            <a:chOff x="971640" y="-480960"/>
            <a:chExt cx="6858000" cy="961920"/>
          </a:xfrm>
        </p:grpSpPr>
        <p:pic>
          <p:nvPicPr>
            <p:cNvPr id="1733" name="" descr=""/>
            <p:cNvPicPr/>
            <p:nvPr/>
          </p:nvPicPr>
          <p:blipFill>
            <a:blip r:embed="rId3"/>
            <a:stretch/>
          </p:blipFill>
          <p:spPr>
            <a:xfrm>
              <a:off x="971640" y="-480960"/>
              <a:ext cx="68580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4" name=""/>
            <p:cNvSpPr txBox="1"/>
            <p:nvPr/>
          </p:nvSpPr>
          <p:spPr>
            <a:xfrm>
              <a:off x="971640" y="-480960"/>
              <a:ext cx="6858000" cy="96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735" name=""/>
          <p:cNvSpPr/>
          <p:nvPr/>
        </p:nvSpPr>
        <p:spPr>
          <a:xfrm>
            <a:off x="0" y="430200"/>
            <a:ext cx="936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世上没有人一生下来就什么都会，古往今来，有哪一位伟人不是经过自己的辛勤的付出和努力才成功的呢？只有勤奋才是通向智慧圣殿的唯一道路。鲁迅说过：“不耻最后。即使慢，驰而不息，定能达到他所向的目标。”在这最后的冲刺中我们决不能气馁，青春的理想，成功的钥匙，生命的意义，都包含在两个字中——奋斗！只有奋斗了，才能拥有希望，只有奋斗了，才会取得优异的成绩。阿基米德曾说过：“给我一个支点，我可以撬起地球”，其实我们可以相信，给谁一个支点，谁都可以把地球撬起来。人本来没有多大的区别，关键在于是否能正确地把握一个最佳的支点。让我们用我们的奋斗来做支点，迎接命运的撞击！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7" name=""/>
          <p:cNvGrpSpPr/>
          <p:nvPr/>
        </p:nvGrpSpPr>
        <p:grpSpPr>
          <a:xfrm>
            <a:off x="1116000" y="-480960"/>
            <a:ext cx="6858000" cy="961920"/>
            <a:chOff x="1116000" y="-480960"/>
            <a:chExt cx="6858000" cy="961920"/>
          </a:xfrm>
        </p:grpSpPr>
        <p:pic>
          <p:nvPicPr>
            <p:cNvPr id="1738" name="" descr=""/>
            <p:cNvPicPr/>
            <p:nvPr/>
          </p:nvPicPr>
          <p:blipFill>
            <a:blip r:embed="rId3"/>
            <a:stretch/>
          </p:blipFill>
          <p:spPr>
            <a:xfrm>
              <a:off x="1116000" y="-480960"/>
              <a:ext cx="68580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9" name=""/>
            <p:cNvSpPr txBox="1"/>
            <p:nvPr/>
          </p:nvSpPr>
          <p:spPr>
            <a:xfrm>
              <a:off x="1116000" y="-480960"/>
              <a:ext cx="6858000" cy="96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740" name=""/>
          <p:cNvSpPr/>
          <p:nvPr/>
        </p:nvSpPr>
        <p:spPr>
          <a:xfrm>
            <a:off x="0" y="549360"/>
            <a:ext cx="936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作为你们的老师，我们朝夕相伴，我们有幸陪大家一同走过了你们生命中最亮丽的青春季节。我们愿意记住每一张灿烂如花的笑脸和每一个阳光遍地、书声朗朗的早晨。在这有限的时间里，我们无法给予你们更多的东西，只能倾其所有，助你们扬帆远航。剩下的时间内，也许对你们有更苛刻的要求，更艰苦的训练，更严厉的批评，也许会令你们难以接受，但我们相信大家能够理解，这一切，都是为了大家能够出类拔萃，为了大家能够有所作为。山可摇，地可动，但我们的执着不能改，我们的斗志不能撼；海可枯，石可烂，但我们的信念不能改，我们的意志不能撼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0" y="5861160"/>
            <a:ext cx="9143280" cy="996840"/>
            <a:chOff x="0" y="5861160"/>
            <a:chExt cx="9143280" cy="996840"/>
          </a:xfrm>
        </p:grpSpPr>
        <p:sp>
          <p:nvSpPr>
            <p:cNvPr id="193" name=""/>
            <p:cNvSpPr/>
            <p:nvPr/>
          </p:nvSpPr>
          <p:spPr>
            <a:xfrm>
              <a:off x="0" y="6031080"/>
              <a:ext cx="1830600" cy="47628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6478560"/>
              <a:ext cx="1826640" cy="3510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17720" y="6013440"/>
              <a:ext cx="3625560" cy="49392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14840" y="6507360"/>
              <a:ext cx="3628440" cy="35064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14840" y="6297840"/>
              <a:ext cx="777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322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5676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14840" y="6353280"/>
              <a:ext cx="3495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14840" y="6454800"/>
              <a:ext cx="3495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825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0006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1244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494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373240" y="6297840"/>
              <a:ext cx="82080" cy="2286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498160" y="6310440"/>
              <a:ext cx="81360" cy="23508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625960" y="6323040"/>
              <a:ext cx="78480" cy="24768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749800" y="6338880"/>
              <a:ext cx="78480" cy="26856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874720" y="6363000"/>
              <a:ext cx="78480" cy="29520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99280" y="6390000"/>
              <a:ext cx="77760" cy="3427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123480" y="6448680"/>
              <a:ext cx="19800" cy="33804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40080" y="6353280"/>
              <a:ext cx="1303200" cy="16668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40080" y="6454800"/>
              <a:ext cx="1303200" cy="24444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86152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796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038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6152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6152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085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234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512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0856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0856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559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7044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950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5596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5596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9976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178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4204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899760" y="6353280"/>
              <a:ext cx="3531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99760" y="6454800"/>
              <a:ext cx="3531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2468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3648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894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24680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4680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942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122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8364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9420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9420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38000" y="5964480"/>
              <a:ext cx="995040" cy="66672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56480" y="5861160"/>
              <a:ext cx="1394640" cy="48744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30600" y="6018480"/>
              <a:ext cx="3684240" cy="48888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912320" y="6000840"/>
              <a:ext cx="576000" cy="50652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38040" y="6151680"/>
              <a:ext cx="1240920" cy="3556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28320" y="6121440"/>
              <a:ext cx="1263960" cy="21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74400" y="6345360"/>
              <a:ext cx="438840" cy="16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83920" y="6121440"/>
              <a:ext cx="1008360" cy="18900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03200" y="6357960"/>
              <a:ext cx="373320" cy="1494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826640" y="6507360"/>
              <a:ext cx="3687840" cy="35064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10560" y="5902560"/>
              <a:ext cx="1424160" cy="3254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23880" y="6002640"/>
              <a:ext cx="1758600" cy="50472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53040" y="6276960"/>
              <a:ext cx="1021680" cy="22068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90880" y="6418440"/>
              <a:ext cx="569520" cy="889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90880" y="6272280"/>
              <a:ext cx="241920" cy="14616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37960" y="6301080"/>
              <a:ext cx="438840" cy="164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39840" y="6288120"/>
              <a:ext cx="147600" cy="13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310560" y="5961240"/>
              <a:ext cx="1784520" cy="29844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961800" y="6310440"/>
              <a:ext cx="1900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861000" y="6310440"/>
              <a:ext cx="784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178160" y="6310440"/>
              <a:ext cx="7560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528440" y="6310440"/>
              <a:ext cx="12096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49960" y="6310440"/>
              <a:ext cx="5544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76400" y="6310440"/>
              <a:ext cx="5544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630320" y="6113520"/>
              <a:ext cx="88200" cy="316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51280" y="6113520"/>
              <a:ext cx="91800" cy="316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82880" y="6096240"/>
              <a:ext cx="104400" cy="4284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48400" y="6134400"/>
              <a:ext cx="569520" cy="13788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121360" y="6469200"/>
              <a:ext cx="226440" cy="3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046120" y="6426360"/>
              <a:ext cx="225720" cy="3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43240" y="6175440"/>
              <a:ext cx="261360" cy="968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245920" y="6272280"/>
              <a:ext cx="2952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807080" y="6134400"/>
              <a:ext cx="363600" cy="10764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32800" y="6272280"/>
              <a:ext cx="4968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90880" y="6272280"/>
              <a:ext cx="4896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65680" y="6507360"/>
              <a:ext cx="1447200" cy="35064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996280" y="6346800"/>
              <a:ext cx="146880" cy="27000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012840" y="6369120"/>
              <a:ext cx="84600" cy="79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12840" y="6404040"/>
              <a:ext cx="88200" cy="648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12840" y="6394680"/>
              <a:ext cx="88200" cy="468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12840" y="6442200"/>
              <a:ext cx="93960" cy="79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012840" y="6434280"/>
              <a:ext cx="93960" cy="468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6400" y="5967720"/>
              <a:ext cx="995040" cy="70452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360" y="5870880"/>
              <a:ext cx="1335960" cy="47304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044000" y="6469200"/>
              <a:ext cx="262080" cy="147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160" y="6526440"/>
              <a:ext cx="154440" cy="7920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468360" y="1837080"/>
            <a:ext cx="84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　　　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同学们：高考是你们人生旅途的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第一个加油站，她意味着你们的希望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你们的前途，甚至是命运，挑战六月就是挑战命运和未来，如何在高考中脱颖而出，考出理想的分数，我认为要有明确的升学目标，正确的学习方法，端正的学习态度，良好的心理素质和对高考形势的正确分析，我们还要以正常的心态正视高考，以顽强拚搏的精神去迎接挑战，我们的现实是机遇与挑战并存。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42" name=""/>
          <p:cNvGrpSpPr/>
          <p:nvPr/>
        </p:nvGrpSpPr>
        <p:grpSpPr>
          <a:xfrm>
            <a:off x="611280" y="6308640"/>
            <a:ext cx="8304120" cy="349200"/>
            <a:chOff x="611280" y="6308640"/>
            <a:chExt cx="8304120" cy="349200"/>
          </a:xfrm>
        </p:grpSpPr>
        <p:pic>
          <p:nvPicPr>
            <p:cNvPr id="1743" name="" descr=""/>
            <p:cNvPicPr/>
            <p:nvPr/>
          </p:nvPicPr>
          <p:blipFill>
            <a:blip r:embed="rId3"/>
            <a:stretch/>
          </p:blipFill>
          <p:spPr>
            <a:xfrm flipH="1" rot="10800000">
              <a:off x="611280" y="6308640"/>
              <a:ext cx="830412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4" name=""/>
            <p:cNvSpPr txBox="1"/>
            <p:nvPr/>
          </p:nvSpPr>
          <p:spPr>
            <a:xfrm>
              <a:off x="611280" y="6308640"/>
              <a:ext cx="8304120" cy="34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745" name=""/>
          <p:cNvGrpSpPr/>
          <p:nvPr/>
        </p:nvGrpSpPr>
        <p:grpSpPr>
          <a:xfrm>
            <a:off x="971640" y="0"/>
            <a:ext cx="6858000" cy="961920"/>
            <a:chOff x="971640" y="0"/>
            <a:chExt cx="6858000" cy="961920"/>
          </a:xfrm>
        </p:grpSpPr>
        <p:pic>
          <p:nvPicPr>
            <p:cNvPr id="1746" name="" descr=""/>
            <p:cNvPicPr/>
            <p:nvPr/>
          </p:nvPicPr>
          <p:blipFill>
            <a:blip r:embed="rId4"/>
            <a:stretch/>
          </p:blipFill>
          <p:spPr>
            <a:xfrm>
              <a:off x="971640" y="0"/>
              <a:ext cx="68580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7" name=""/>
            <p:cNvSpPr txBox="1"/>
            <p:nvPr/>
          </p:nvSpPr>
          <p:spPr>
            <a:xfrm>
              <a:off x="971640" y="0"/>
              <a:ext cx="6858000" cy="96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748" name=""/>
          <p:cNvSpPr/>
          <p:nvPr/>
        </p:nvSpPr>
        <p:spPr>
          <a:xfrm>
            <a:off x="539640" y="1052640"/>
            <a:ext cx="860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同学们，“三分天注定，七分靠打拼，爱拼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才会赢！”。我希望你们不要做过客的流星，因为你们曾用智慧培育理想；不要摘青色的苹果，因为你曾用汗水浇灌希望；不要做飘泊的扁舟，因为你们曾乘风破浪，渡过学海茫茫；不要做退缩的懦夫，因为你们曾披荆斩棘，踏过书山坎坷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同学们，不死的战士，当勇于战胜懦弱；坚韧的精神，应化作锐利的长矛；是蓬勃的鲤鱼，就要超越梦想中的龙门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50" name=""/>
          <p:cNvGrpSpPr/>
          <p:nvPr/>
        </p:nvGrpSpPr>
        <p:grpSpPr>
          <a:xfrm>
            <a:off x="611280" y="6308640"/>
            <a:ext cx="8304120" cy="349200"/>
            <a:chOff x="611280" y="6308640"/>
            <a:chExt cx="8304120" cy="349200"/>
          </a:xfrm>
        </p:grpSpPr>
        <p:pic>
          <p:nvPicPr>
            <p:cNvPr id="1751" name="" descr=""/>
            <p:cNvPicPr/>
            <p:nvPr/>
          </p:nvPicPr>
          <p:blipFill>
            <a:blip r:embed="rId3"/>
            <a:stretch/>
          </p:blipFill>
          <p:spPr>
            <a:xfrm flipH="1" rot="10800000">
              <a:off x="611280" y="6308640"/>
              <a:ext cx="830412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2" name=""/>
            <p:cNvSpPr txBox="1"/>
            <p:nvPr/>
          </p:nvSpPr>
          <p:spPr>
            <a:xfrm>
              <a:off x="611280" y="6308640"/>
              <a:ext cx="8304120" cy="34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753" name=""/>
          <p:cNvGrpSpPr/>
          <p:nvPr/>
        </p:nvGrpSpPr>
        <p:grpSpPr>
          <a:xfrm>
            <a:off x="971640" y="0"/>
            <a:ext cx="6858000" cy="961920"/>
            <a:chOff x="971640" y="0"/>
            <a:chExt cx="6858000" cy="961920"/>
          </a:xfrm>
        </p:grpSpPr>
        <p:pic>
          <p:nvPicPr>
            <p:cNvPr id="1754" name="" descr=""/>
            <p:cNvPicPr/>
            <p:nvPr/>
          </p:nvPicPr>
          <p:blipFill>
            <a:blip r:embed="rId4"/>
            <a:stretch/>
          </p:blipFill>
          <p:spPr>
            <a:xfrm>
              <a:off x="971640" y="0"/>
              <a:ext cx="68580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5" name=""/>
            <p:cNvSpPr txBox="1"/>
            <p:nvPr/>
          </p:nvSpPr>
          <p:spPr>
            <a:xfrm>
              <a:off x="971640" y="0"/>
              <a:ext cx="6858000" cy="96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756" name=""/>
          <p:cNvSpPr/>
          <p:nvPr/>
        </p:nvSpPr>
        <p:spPr>
          <a:xfrm>
            <a:off x="395280" y="907920"/>
            <a:ext cx="84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同学们，“三年砺剑今日策马闯雄关，一朝试锋六月扬眉凯歌旋”，我坚信今年六月的硕果会更加香甜，我坚信今年六月的笑脸将更加灿烂，我坚信今年六月的你们，将如雄鹰一般，在辽阔的苍穹，展翅翱翔，创造自己人生的辉煌！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58" name=""/>
          <p:cNvGrpSpPr/>
          <p:nvPr/>
        </p:nvGrpSpPr>
        <p:grpSpPr>
          <a:xfrm>
            <a:off x="1042920" y="260280"/>
            <a:ext cx="6858000" cy="961920"/>
            <a:chOff x="1042920" y="260280"/>
            <a:chExt cx="6858000" cy="961920"/>
          </a:xfrm>
        </p:grpSpPr>
        <p:pic>
          <p:nvPicPr>
            <p:cNvPr id="1759" name="" descr=""/>
            <p:cNvPicPr/>
            <p:nvPr/>
          </p:nvPicPr>
          <p:blipFill>
            <a:blip r:embed="rId3"/>
            <a:stretch/>
          </p:blipFill>
          <p:spPr>
            <a:xfrm>
              <a:off x="1042920" y="260280"/>
              <a:ext cx="68580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0" name=""/>
            <p:cNvSpPr txBox="1"/>
            <p:nvPr/>
          </p:nvSpPr>
          <p:spPr>
            <a:xfrm>
              <a:off x="1042920" y="260280"/>
              <a:ext cx="6858000" cy="96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761" name=""/>
          <p:cNvSpPr txBox="1"/>
          <p:nvPr/>
        </p:nvSpPr>
        <p:spPr>
          <a:xfrm>
            <a:off x="3276720" y="0"/>
            <a:ext cx="165564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ff"/>
                  </a:solidFill>
                  <a:miter/>
                </a:ln>
                <a:blipFill rotWithShape="0">
                  <a:blip r:embed="rId4">
                    <a:alphaModFix amt="5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誓词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blipFill rotWithShape="0">
                <a:blip r:embed="rId5">
                  <a:alphaModFix amt="5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62" name=""/>
          <p:cNvSpPr/>
          <p:nvPr/>
        </p:nvSpPr>
        <p:spPr>
          <a:xfrm>
            <a:off x="468360" y="1052640"/>
            <a:ext cx="835164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领读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同学们，高考冲刺在即，作为毕业班学子，我们谨以青春的名义，在此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宣誓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： 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齐读）志存高远，奋发向上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勤学苦练，敢拼敢闯；讲究方法，保质保量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遵守纪律，自信自强；争分夺秒，适度紧张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自我调整，身心健康；全力以赴，创造辉煌！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奋战一百天，让理想在六月展翅飞翔！ 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奋战一百天，让微笑挂满父母的脸庞！ 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奋战一百天，为小箬中学增添光彩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今天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我以母校为荣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明天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母校将以我为荣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3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-396720" y="-603360"/>
            <a:ext cx="10296360" cy="7848720"/>
          </a:xfrm>
          <a:prstGeom prst="rect">
            <a:avLst/>
          </a:prstGeom>
          <a:ln w="0">
            <a:noFill/>
          </a:ln>
        </p:spPr>
      </p:pic>
      <p:sp>
        <p:nvSpPr>
          <p:cNvPr id="1764" name=""/>
          <p:cNvSpPr txBox="1"/>
          <p:nvPr/>
        </p:nvSpPr>
        <p:spPr>
          <a:xfrm>
            <a:off x="2843280" y="981000"/>
            <a:ext cx="3384360" cy="925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latin typeface="华文行楷"/>
              </a:rPr>
              <a:t>青春的誓言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008000"/>
              </a:solidFill>
              <a:latin typeface="华文行楷"/>
              <a:ea typeface="华文行楷"/>
            </a:endParaRPr>
          </a:p>
        </p:txBody>
      </p:sp>
      <p:sp>
        <p:nvSpPr>
          <p:cNvPr id="1765" name=""/>
          <p:cNvSpPr/>
          <p:nvPr/>
        </p:nvSpPr>
        <p:spPr>
          <a:xfrm>
            <a:off x="3510000" y="177336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奋战百天，创造成功！——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号陈小清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3733560" y="2997360"/>
            <a:ext cx="19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全力以赴，备战高考！——李霖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4292640" y="4551480"/>
            <a:ext cx="223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我相信有付出都会有收获！——邓煜玲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8" name="" descr=""/>
          <p:cNvPicPr/>
          <p:nvPr/>
        </p:nvPicPr>
        <p:blipFill>
          <a:blip r:embed="rId2"/>
          <a:stretch/>
        </p:blipFill>
        <p:spPr>
          <a:xfrm>
            <a:off x="1258920" y="404640"/>
            <a:ext cx="7885080" cy="6478920"/>
          </a:xfrm>
          <a:prstGeom prst="rect">
            <a:avLst/>
          </a:prstGeom>
          <a:ln w="0">
            <a:noFill/>
          </a:ln>
        </p:spPr>
      </p:pic>
      <p:sp>
        <p:nvSpPr>
          <p:cNvPr id="1769" name=""/>
          <p:cNvSpPr txBox="1"/>
          <p:nvPr/>
        </p:nvSpPr>
        <p:spPr>
          <a:xfrm rot="5400000">
            <a:off x="-1431000" y="2753640"/>
            <a:ext cx="4952880" cy="861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青春的誓言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770" name=""/>
          <p:cNvSpPr/>
          <p:nvPr/>
        </p:nvSpPr>
        <p:spPr>
          <a:xfrm>
            <a:off x="2195640" y="112536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竭尽全力，奋战一百天，即使没考上，我们也可以问心无愧地对自己说：我曾经努力过，争取过！——林金花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3194640" y="3357720"/>
            <a:ext cx="45705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好好利用这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天，为实现自己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的目标而奋斗！——陈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72" name="" descr=""/>
          <p:cNvPicPr/>
          <p:nvPr/>
        </p:nvPicPr>
        <p:blipFill>
          <a:blip r:embed="rId3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" fill="hold"/>
                                        <p:tgtEl>
                                          <p:spTgt spid="17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3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-396720" y="-603360"/>
            <a:ext cx="10296360" cy="7848720"/>
          </a:xfrm>
          <a:prstGeom prst="rect">
            <a:avLst/>
          </a:prstGeom>
          <a:ln w="0">
            <a:noFill/>
          </a:ln>
        </p:spPr>
      </p:pic>
      <p:sp>
        <p:nvSpPr>
          <p:cNvPr id="1774" name=""/>
          <p:cNvSpPr txBox="1"/>
          <p:nvPr/>
        </p:nvSpPr>
        <p:spPr>
          <a:xfrm>
            <a:off x="2843280" y="981000"/>
            <a:ext cx="3384360" cy="925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latin typeface="华文行楷"/>
              </a:rPr>
              <a:t>青春的誓言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008000"/>
              </a:solidFill>
              <a:latin typeface="华文行楷"/>
              <a:ea typeface="华文行楷"/>
            </a:endParaRPr>
          </a:p>
        </p:txBody>
      </p:sp>
      <p:sp>
        <p:nvSpPr>
          <p:cNvPr id="1775" name=""/>
          <p:cNvSpPr/>
          <p:nvPr/>
        </p:nvSpPr>
        <p:spPr>
          <a:xfrm>
            <a:off x="2462760" y="1773360"/>
            <a:ext cx="47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相信通过努力，我的目标可以实现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可以为初中生涯画上一个圆满的句号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                  ——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杨燕凤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2371680" y="2997360"/>
            <a:ext cx="367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夫战，勇气也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不破楼兰终不还！——陈思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4089240" y="4551480"/>
            <a:ext cx="223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除了努力，我别无选择！——陈芳琼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8" name="" descr=""/>
          <p:cNvPicPr/>
          <p:nvPr/>
        </p:nvPicPr>
        <p:blipFill>
          <a:blip r:embed="rId2"/>
          <a:stretch/>
        </p:blipFill>
        <p:spPr>
          <a:xfrm>
            <a:off x="1258920" y="404640"/>
            <a:ext cx="7885080" cy="6478920"/>
          </a:xfrm>
          <a:prstGeom prst="rect">
            <a:avLst/>
          </a:prstGeom>
          <a:ln w="0">
            <a:noFill/>
          </a:ln>
        </p:spPr>
      </p:pic>
      <p:sp>
        <p:nvSpPr>
          <p:cNvPr id="1779" name=""/>
          <p:cNvSpPr txBox="1"/>
          <p:nvPr/>
        </p:nvSpPr>
        <p:spPr>
          <a:xfrm rot="5400000">
            <a:off x="-1431000" y="2753640"/>
            <a:ext cx="4952880" cy="861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青春的誓言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780" name=""/>
          <p:cNvSpPr/>
          <p:nvPr/>
        </p:nvSpPr>
        <p:spPr>
          <a:xfrm>
            <a:off x="2195640" y="1125360"/>
            <a:ext cx="61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从现在开始，朝理想冲刺，珍惜每一分，每一秒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考上理想的高中，这也是对父母对老师最好的报答！——张世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3429720" y="3429000"/>
            <a:ext cx="39571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高考，成功，一中的大门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我要用“努力”这把钥匙来开启你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　　　　　——陈思鑫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82" name="" descr=""/>
          <p:cNvPicPr/>
          <p:nvPr/>
        </p:nvPicPr>
        <p:blipFill>
          <a:blip r:embed="rId3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1" fill="hold"/>
                                        <p:tgtEl>
                                          <p:spTgt spid="17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3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-396720" y="-603360"/>
            <a:ext cx="10296360" cy="7848720"/>
          </a:xfrm>
          <a:prstGeom prst="rect">
            <a:avLst/>
          </a:prstGeom>
          <a:ln w="0">
            <a:noFill/>
          </a:ln>
        </p:spPr>
      </p:pic>
      <p:sp>
        <p:nvSpPr>
          <p:cNvPr id="1784" name=""/>
          <p:cNvSpPr txBox="1"/>
          <p:nvPr/>
        </p:nvSpPr>
        <p:spPr>
          <a:xfrm>
            <a:off x="2843280" y="981000"/>
            <a:ext cx="3384360" cy="925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latin typeface="华文行楷"/>
              </a:rPr>
              <a:t>青春的誓言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008000"/>
              </a:solidFill>
              <a:latin typeface="华文行楷"/>
              <a:ea typeface="华文行楷"/>
            </a:endParaRPr>
          </a:p>
        </p:txBody>
      </p:sp>
      <p:sp>
        <p:nvSpPr>
          <p:cNvPr id="1785" name=""/>
          <p:cNvSpPr/>
          <p:nvPr/>
        </p:nvSpPr>
        <p:spPr>
          <a:xfrm>
            <a:off x="2446200" y="1749600"/>
            <a:ext cx="498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１、只要有百分之一的希望，我也要付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百分之九十九的努力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　　　　　　　　——林涓涓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2652120" y="3284640"/>
            <a:ext cx="456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２、奋战一百天，提高成绩才是硬道理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    ——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陈张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3098160" y="4508640"/>
            <a:ext cx="371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３、困难像弹簧，你强它就弱，你弱它就强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        ——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池飞燕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" descr=""/>
          <p:cNvPicPr/>
          <p:nvPr/>
        </p:nvPicPr>
        <p:blipFill>
          <a:blip r:embed="rId2"/>
          <a:stretch/>
        </p:blipFill>
        <p:spPr>
          <a:xfrm>
            <a:off x="1258920" y="404640"/>
            <a:ext cx="7885080" cy="6478920"/>
          </a:xfrm>
          <a:prstGeom prst="rect">
            <a:avLst/>
          </a:prstGeom>
          <a:ln w="0">
            <a:noFill/>
          </a:ln>
        </p:spPr>
      </p:pic>
      <p:sp>
        <p:nvSpPr>
          <p:cNvPr id="1789" name=""/>
          <p:cNvSpPr txBox="1"/>
          <p:nvPr/>
        </p:nvSpPr>
        <p:spPr>
          <a:xfrm rot="5400000">
            <a:off x="-1431000" y="2753640"/>
            <a:ext cx="4952880" cy="861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青春的誓言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790" name=""/>
          <p:cNvSpPr/>
          <p:nvPr/>
        </p:nvSpPr>
        <p:spPr>
          <a:xfrm>
            <a:off x="2195640" y="112536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不经一番寒彻骨，哪得梅花扑鼻香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我会努力攀登，相信会有“一览众山小”的一天！——陈建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3111480" y="3284640"/>
            <a:ext cx="4981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让这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天成为我们初中学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生涯中最有意义、最充实的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天吧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　　　　　　　　——陈金龙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92" name="" descr=""/>
          <p:cNvPicPr/>
          <p:nvPr/>
        </p:nvPicPr>
        <p:blipFill>
          <a:blip r:embed="rId3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" fill="hold"/>
                                        <p:tgtEl>
                                          <p:spTgt spid="17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3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-396720" y="-603360"/>
            <a:ext cx="10296360" cy="7848720"/>
          </a:xfrm>
          <a:prstGeom prst="rect">
            <a:avLst/>
          </a:prstGeom>
          <a:ln w="0">
            <a:noFill/>
          </a:ln>
        </p:spPr>
      </p:pic>
      <p:sp>
        <p:nvSpPr>
          <p:cNvPr id="1794" name=""/>
          <p:cNvSpPr txBox="1"/>
          <p:nvPr/>
        </p:nvSpPr>
        <p:spPr>
          <a:xfrm>
            <a:off x="2843280" y="981000"/>
            <a:ext cx="3384360" cy="136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latin typeface="华文行楷"/>
              </a:rPr>
              <a:t>青春的誓言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008000"/>
              </a:solidFill>
              <a:latin typeface="华文行楷"/>
              <a:ea typeface="华文行楷"/>
            </a:endParaRPr>
          </a:p>
        </p:txBody>
      </p:sp>
      <p:sp>
        <p:nvSpPr>
          <p:cNvPr id="1795" name=""/>
          <p:cNvSpPr/>
          <p:nvPr/>
        </p:nvSpPr>
        <p:spPr>
          <a:xfrm>
            <a:off x="2121120" y="2155680"/>
            <a:ext cx="530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１、不是失败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只是暂时没有成功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　　　　　　　　——林鸿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1922760" y="4240080"/>
            <a:ext cx="369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２、态度决定成功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        ——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陈学琅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0" y="5861160"/>
            <a:ext cx="9143280" cy="996840"/>
            <a:chOff x="0" y="5861160"/>
            <a:chExt cx="9143280" cy="996840"/>
          </a:xfrm>
        </p:grpSpPr>
        <p:sp>
          <p:nvSpPr>
            <p:cNvPr id="293" name=""/>
            <p:cNvSpPr/>
            <p:nvPr/>
          </p:nvSpPr>
          <p:spPr>
            <a:xfrm>
              <a:off x="0" y="6031080"/>
              <a:ext cx="1830600" cy="47628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0" y="6478560"/>
              <a:ext cx="1826640" cy="3510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17720" y="6013440"/>
              <a:ext cx="3625560" cy="49392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14840" y="6507360"/>
              <a:ext cx="3628440" cy="35064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14840" y="6297840"/>
              <a:ext cx="777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6322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75676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14840" y="6353280"/>
              <a:ext cx="3495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514840" y="6454800"/>
              <a:ext cx="3495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8825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006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1244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2494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373240" y="6297840"/>
              <a:ext cx="82080" cy="2286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498160" y="6310440"/>
              <a:ext cx="81360" cy="23508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625960" y="6323040"/>
              <a:ext cx="78480" cy="24768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749800" y="6338880"/>
              <a:ext cx="78480" cy="26856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874720" y="6363000"/>
              <a:ext cx="78480" cy="29520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999280" y="6390000"/>
              <a:ext cx="77760" cy="3427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123480" y="6448680"/>
              <a:ext cx="19800" cy="33804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840080" y="6353280"/>
              <a:ext cx="1303200" cy="16668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40080" y="6454800"/>
              <a:ext cx="1303200" cy="24444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86152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9796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038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6152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6152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2085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3234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512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0856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0856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5559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67044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950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55596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5596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89976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0178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14204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99760" y="6353280"/>
              <a:ext cx="3531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899760" y="6454800"/>
              <a:ext cx="3531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2468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648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4894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24680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24680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5942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7122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8364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9420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59420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38000" y="5964480"/>
              <a:ext cx="995040" cy="66672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656480" y="5861160"/>
              <a:ext cx="1394640" cy="48744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830600" y="6018480"/>
              <a:ext cx="3684240" cy="48888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912320" y="6000840"/>
              <a:ext cx="576000" cy="50652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138040" y="6151680"/>
              <a:ext cx="1240920" cy="3556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128320" y="6121440"/>
              <a:ext cx="1263960" cy="21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74400" y="6345360"/>
              <a:ext cx="438840" cy="16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83920" y="6121440"/>
              <a:ext cx="1008360" cy="18900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203200" y="6357960"/>
              <a:ext cx="373320" cy="1494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826640" y="6507360"/>
              <a:ext cx="3687840" cy="35064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310560" y="5902560"/>
              <a:ext cx="1424160" cy="3254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323880" y="6002640"/>
              <a:ext cx="1758600" cy="50472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53040" y="6276960"/>
              <a:ext cx="1021680" cy="22068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790880" y="6418440"/>
              <a:ext cx="569520" cy="889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90880" y="6272280"/>
              <a:ext cx="241920" cy="14616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37960" y="6301080"/>
              <a:ext cx="438840" cy="164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839840" y="6288120"/>
              <a:ext cx="147600" cy="13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310560" y="5961240"/>
              <a:ext cx="1784520" cy="29844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61800" y="6310440"/>
              <a:ext cx="1900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61000" y="6310440"/>
              <a:ext cx="784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78160" y="6310440"/>
              <a:ext cx="7560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28440" y="6310440"/>
              <a:ext cx="12096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49960" y="6310440"/>
              <a:ext cx="5544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76400" y="6310440"/>
              <a:ext cx="5544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0320" y="6113520"/>
              <a:ext cx="88200" cy="316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51280" y="6113520"/>
              <a:ext cx="91800" cy="316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682880" y="6096240"/>
              <a:ext cx="104400" cy="4284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48400" y="6134400"/>
              <a:ext cx="569520" cy="13788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121360" y="6469200"/>
              <a:ext cx="226440" cy="3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046120" y="6426360"/>
              <a:ext cx="225720" cy="3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43240" y="6175440"/>
              <a:ext cx="261360" cy="968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245920" y="6272280"/>
              <a:ext cx="2952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07080" y="6134400"/>
              <a:ext cx="363600" cy="10764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32800" y="6272280"/>
              <a:ext cx="4968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790880" y="6272280"/>
              <a:ext cx="4896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165680" y="6507360"/>
              <a:ext cx="1447200" cy="35064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996280" y="6346800"/>
              <a:ext cx="146880" cy="27000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012840" y="6369120"/>
              <a:ext cx="84600" cy="79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012840" y="6404040"/>
              <a:ext cx="88200" cy="648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12840" y="6394680"/>
              <a:ext cx="88200" cy="468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12840" y="6442200"/>
              <a:ext cx="93960" cy="79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012840" y="6434280"/>
              <a:ext cx="93960" cy="468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6400" y="5967720"/>
              <a:ext cx="995040" cy="70452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360" y="5870880"/>
              <a:ext cx="1335960" cy="47304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44000" y="6469200"/>
              <a:ext cx="262080" cy="147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5160" y="6526440"/>
              <a:ext cx="154440" cy="7920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0" y="1923120"/>
            <a:ext cx="89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一是高考竞争依然异常激烈，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40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％左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右的升学比率不会发生太大的变化；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考试的科目、场次的变化，给学生的迎考能力带来新的考验，怎样合理分配时间？怎样进行不同学科的思维转化；三是家长和社会的期望值较高；四是时间紧，任务重，同学们要在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天的时间完成七门课程的复习和梳理，而每个知识点都要经过多次反复才能得以强化，才能运用自如，薄弱学科还需要我们花大量的精力去投入，还要参加体育测试，而高考的倒计时已把我们步步逼向零点。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7" name="" descr=""/>
          <p:cNvPicPr/>
          <p:nvPr/>
        </p:nvPicPr>
        <p:blipFill>
          <a:blip r:embed="rId2"/>
          <a:stretch/>
        </p:blipFill>
        <p:spPr>
          <a:xfrm>
            <a:off x="1258920" y="404640"/>
            <a:ext cx="7885080" cy="6478920"/>
          </a:xfrm>
          <a:prstGeom prst="rect">
            <a:avLst/>
          </a:prstGeom>
          <a:ln w="0">
            <a:noFill/>
          </a:ln>
        </p:spPr>
      </p:pic>
      <p:sp>
        <p:nvSpPr>
          <p:cNvPr id="1798" name=""/>
          <p:cNvSpPr txBox="1"/>
          <p:nvPr/>
        </p:nvSpPr>
        <p:spPr>
          <a:xfrm rot="5400000">
            <a:off x="-1431000" y="2753640"/>
            <a:ext cx="4952880" cy="861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青春的誓言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799" name=""/>
          <p:cNvSpPr/>
          <p:nvPr/>
        </p:nvSpPr>
        <p:spPr>
          <a:xfrm>
            <a:off x="2195640" y="11253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为了心中的目标，努力吧，奋斗吧，冲向远方，这样才不会留下遗憾！——李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3743640" y="3357720"/>
            <a:ext cx="279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细心审题错不了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成绩才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更加好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！——陈思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01" name="" descr=""/>
          <p:cNvPicPr/>
          <p:nvPr/>
        </p:nvPicPr>
        <p:blipFill>
          <a:blip r:embed="rId3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1" fill="hold"/>
                                        <p:tgtEl>
                                          <p:spTgt spid="18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3" name=""/>
          <p:cNvSpPr txBox="1"/>
          <p:nvPr/>
        </p:nvSpPr>
        <p:spPr>
          <a:xfrm>
            <a:off x="1403280" y="692280"/>
            <a:ext cx="5943600" cy="24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酣战三载，卧薪尝胆写人生；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804" name=""/>
          <p:cNvSpPr txBox="1"/>
          <p:nvPr/>
        </p:nvSpPr>
        <p:spPr>
          <a:xfrm>
            <a:off x="1692360" y="3789360"/>
            <a:ext cx="6264360" cy="225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>
                    <a:alpha val="99000"/>
                  </a:srgbClr>
                </a:solidFill>
                <a:latin typeface="宋体"/>
              </a:rPr>
              <a:t>苦拼百日，悬梁刺股创辉煌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>
                  <a:alpha val="99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1805" name=""/>
          <p:cNvSpPr txBox="1"/>
          <p:nvPr/>
        </p:nvSpPr>
        <p:spPr>
          <a:xfrm>
            <a:off x="3564000" y="602136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ffcc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——</a:t>
            </a:r>
            <a:r>
              <a:rPr b="0" lang="zh-CN" sz="1800" spc="1" strike="noStrike">
                <a:ln w="9360">
                  <a:solidFill>
                    <a:srgbClr val="ccffcc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卓艳萍</a:t>
            </a:r>
            <a:endParaRPr b="0" lang="en-US" sz="1800" spc="1" strike="noStrike">
              <a:ln w="9360">
                <a:solidFill>
                  <a:srgbClr val="ccffcc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20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20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807" name=""/>
          <p:cNvSpPr txBox="1"/>
          <p:nvPr/>
        </p:nvSpPr>
        <p:spPr>
          <a:xfrm>
            <a:off x="826920" y="620640"/>
            <a:ext cx="69138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临中考，有何惧，看我今朝奋力拼搏志；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808" name=""/>
          <p:cNvSpPr txBox="1"/>
          <p:nvPr/>
        </p:nvSpPr>
        <p:spPr>
          <a:xfrm>
            <a:off x="684360" y="3645000"/>
            <a:ext cx="82296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仅百天，莫畏难，誓登明日成功胜利岸！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push dir="r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9" name="" descr=""/>
          <p:cNvPicPr/>
          <p:nvPr/>
        </p:nvPicPr>
        <p:blipFill>
          <a:blip r:embed="rId2">
            <a:lum bright="46000"/>
          </a:blip>
          <a:stretch/>
        </p:blipFill>
        <p:spPr>
          <a:xfrm>
            <a:off x="1116000" y="2428920"/>
            <a:ext cx="7086600" cy="4429080"/>
          </a:xfrm>
          <a:prstGeom prst="rect">
            <a:avLst/>
          </a:prstGeom>
          <a:ln w="0">
            <a:noFill/>
          </a:ln>
        </p:spPr>
      </p:pic>
      <p:sp>
        <p:nvSpPr>
          <p:cNvPr id="1810" name=""/>
          <p:cNvSpPr/>
          <p:nvPr/>
        </p:nvSpPr>
        <p:spPr>
          <a:xfrm>
            <a:off x="1042920" y="836640"/>
            <a:ext cx="76359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幼圆"/>
              </a:rPr>
              <a:t>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1660680" y="3276720"/>
            <a:ext cx="74833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幼圆"/>
              </a:rPr>
              <a:t>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1459080" y="48006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3" name=""/>
          <p:cNvSpPr txBox="1"/>
          <p:nvPr/>
        </p:nvSpPr>
        <p:spPr>
          <a:xfrm>
            <a:off x="1116000" y="765000"/>
            <a:ext cx="6048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祝您成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814" name="" descr=""/>
          <p:cNvPicPr/>
          <p:nvPr/>
        </p:nvPicPr>
        <p:blipFill>
          <a:blip r:embed="rId3"/>
          <a:stretch/>
        </p:blipFill>
        <p:spPr>
          <a:xfrm>
            <a:off x="774072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5" dur="2000" fill="hold"/>
                                        <p:tgtEl>
                                          <p:spTgt spid="18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1814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1814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0" dur="304544" fill="hold"/>
                                        <p:tgtEl>
                                          <p:spTgt spid="18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5" name="" descr=""/>
          <p:cNvPicPr/>
          <p:nvPr/>
        </p:nvPicPr>
        <p:blipFill>
          <a:blip r:embed="rId2"/>
          <a:stretch/>
        </p:blipFill>
        <p:spPr>
          <a:xfrm>
            <a:off x="0" y="3960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816" name=""/>
          <p:cNvSpPr/>
          <p:nvPr/>
        </p:nvSpPr>
        <p:spPr>
          <a:xfrm>
            <a:off x="0" y="112644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</a:rPr>
              <a:t>誓词：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在这神圣的时刻，在这庄严的殿堂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我用青春的名义宣誓：今天之后，让梦想焕发灿烂的光芒！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我曾用智慧培育理想，我曾用汗水浇灌希望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;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我曾踏过书山坎坷，我曾渡过学海茫茫。我没有失败的理由，我走过的每一步，都是成功的保障！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我发誓：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不负父母的期盼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不负恩师的厚望，不负天赐的智慧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不负青春的理想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7" name="" descr=""/>
          <p:cNvPicPr/>
          <p:nvPr/>
        </p:nvPicPr>
        <p:blipFill>
          <a:blip r:embed="rId2"/>
          <a:stretch/>
        </p:blipFill>
        <p:spPr>
          <a:xfrm>
            <a:off x="0" y="3960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818" name=""/>
          <p:cNvSpPr/>
          <p:nvPr/>
        </p:nvSpPr>
        <p:spPr>
          <a:xfrm>
            <a:off x="0" y="97416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我承诺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不作懦弱的退缩，不作无益的彷徨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我将带着从容的微笑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去赢得我志在必得的辉煌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今日拼搏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明朝圆梦。捷报飞传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名题金榜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奋斗一百天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让飞翔的梦在六月张开翅膀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奋斗一百天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让雄心与智慧在六月闪光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奋斗一百天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为母校再谱华章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今天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我以母校为荣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;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明天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母校将以我为荣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9" name="" descr=""/>
          <p:cNvPicPr/>
          <p:nvPr/>
        </p:nvPicPr>
        <p:blipFill>
          <a:blip r:embed="rId2"/>
          <a:stretch/>
        </p:blipFill>
        <p:spPr>
          <a:xfrm>
            <a:off x="0" y="3960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820" name=""/>
          <p:cNvSpPr/>
          <p:nvPr/>
        </p:nvSpPr>
        <p:spPr>
          <a:xfrm>
            <a:off x="0" y="105120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领读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同学们，高考冲刺在即，作为毕业班学子，我们谨以青春的名义，在此宣誓： 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齐读）志存高远，奋发向上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勤学苦练，敢拼敢闯；讲究方法，保质保量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遵守纪律，自信自强；争分夺秒，适度紧张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自我调整，身心健康；全力以赴，创造辉煌！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奋战一百天，让理想在六月展翅飞翔！ 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奋战一百天，让微笑挂满父母的脸旁！ 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奋战一百天，为小箬中学增添光彩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今天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我以母校为荣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明天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母校将以我为荣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1" name=""/>
          <p:cNvSpPr txBox="1"/>
          <p:nvPr/>
        </p:nvSpPr>
        <p:spPr>
          <a:xfrm>
            <a:off x="3780000" y="189000"/>
            <a:ext cx="1152360" cy="67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ff"/>
                  </a:solidFill>
                  <a:miter/>
                </a:ln>
                <a:blipFill rotWithShape="0">
                  <a:blip r:embed="rId3">
                    <a:alphaModFix amt="5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誓词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blipFill rotWithShape="0">
                <a:blip r:embed="rId4">
                  <a:alphaModFix amt="5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push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2" name="" descr=""/>
          <p:cNvPicPr/>
          <p:nvPr/>
        </p:nvPicPr>
        <p:blipFill>
          <a:blip r:embed="rId2"/>
          <a:stretch/>
        </p:blipFill>
        <p:spPr>
          <a:xfrm>
            <a:off x="0" y="3960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823" name=""/>
          <p:cNvSpPr txBox="1"/>
          <p:nvPr/>
        </p:nvSpPr>
        <p:spPr>
          <a:xfrm>
            <a:off x="826920" y="981000"/>
            <a:ext cx="633744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爱拼才会赢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824" name=""/>
          <p:cNvSpPr/>
          <p:nvPr/>
        </p:nvSpPr>
        <p:spPr>
          <a:xfrm>
            <a:off x="1692360" y="4005360"/>
            <a:ext cx="7094520" cy="1512720"/>
          </a:xfrm>
          <a:prstGeom prst="cloudCallout">
            <a:avLst>
              <a:gd name="adj1" fmla="val -79717"/>
              <a:gd name="adj2" fmla="val 125444"/>
            </a:avLst>
          </a:prstGeom>
          <a:solidFill>
            <a:srgbClr val="cc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3510360" y="407664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高考百日誓师大会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7" dur="500"/>
                                        <p:tgtEl>
                                          <p:spTgt spid="1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"/>
          <p:cNvGrpSpPr/>
          <p:nvPr/>
        </p:nvGrpSpPr>
        <p:grpSpPr>
          <a:xfrm>
            <a:off x="0" y="5861160"/>
            <a:ext cx="9143280" cy="996840"/>
            <a:chOff x="0" y="5861160"/>
            <a:chExt cx="9143280" cy="996840"/>
          </a:xfrm>
        </p:grpSpPr>
        <p:sp>
          <p:nvSpPr>
            <p:cNvPr id="393" name=""/>
            <p:cNvSpPr/>
            <p:nvPr/>
          </p:nvSpPr>
          <p:spPr>
            <a:xfrm>
              <a:off x="0" y="6031080"/>
              <a:ext cx="1830600" cy="47628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6478560"/>
              <a:ext cx="1826640" cy="3510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17720" y="6013440"/>
              <a:ext cx="3625560" cy="49392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14840" y="6507360"/>
              <a:ext cx="3628440" cy="35064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14840" y="6297840"/>
              <a:ext cx="777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6322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75676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14840" y="6353280"/>
              <a:ext cx="3495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14840" y="6454800"/>
              <a:ext cx="3495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8825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0006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1244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2494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373240" y="6297840"/>
              <a:ext cx="82080" cy="2286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498160" y="6310440"/>
              <a:ext cx="81360" cy="23508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625960" y="6323040"/>
              <a:ext cx="78480" cy="24768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749800" y="6338880"/>
              <a:ext cx="78480" cy="26856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874720" y="6363000"/>
              <a:ext cx="78480" cy="29520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999280" y="6390000"/>
              <a:ext cx="77760" cy="3427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9123480" y="6448680"/>
              <a:ext cx="19800" cy="33804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840080" y="6353280"/>
              <a:ext cx="1303200" cy="16668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840080" y="6454800"/>
              <a:ext cx="1303200" cy="24444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152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796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1038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86152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86152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2085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3234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4512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20856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20856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5559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67044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7950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5596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55596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89976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178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14204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99760" y="6353280"/>
              <a:ext cx="3531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899760" y="6454800"/>
              <a:ext cx="3531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2468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3648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4894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24680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24680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5942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7122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8364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59420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59420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938000" y="5964480"/>
              <a:ext cx="995040" cy="66672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56480" y="5861160"/>
              <a:ext cx="1394640" cy="48744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830600" y="6018480"/>
              <a:ext cx="3684240" cy="48888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12320" y="6000840"/>
              <a:ext cx="576000" cy="50652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38040" y="6151680"/>
              <a:ext cx="1240920" cy="3556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28320" y="6121440"/>
              <a:ext cx="1263960" cy="21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174400" y="6345360"/>
              <a:ext cx="438840" cy="16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383920" y="6121440"/>
              <a:ext cx="1008360" cy="18900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203200" y="6357960"/>
              <a:ext cx="373320" cy="1494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826640" y="6507360"/>
              <a:ext cx="3687840" cy="35064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10560" y="5902560"/>
              <a:ext cx="1424160" cy="3254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23880" y="6002640"/>
              <a:ext cx="1758600" cy="50472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53040" y="6276960"/>
              <a:ext cx="1021680" cy="22068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90880" y="6418440"/>
              <a:ext cx="569520" cy="889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90880" y="6272280"/>
              <a:ext cx="241920" cy="14616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37960" y="6301080"/>
              <a:ext cx="438840" cy="164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39840" y="6288120"/>
              <a:ext cx="147600" cy="13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310560" y="5961240"/>
              <a:ext cx="1784520" cy="29844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961800" y="6310440"/>
              <a:ext cx="1900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861000" y="6310440"/>
              <a:ext cx="784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178160" y="6310440"/>
              <a:ext cx="7560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528440" y="6310440"/>
              <a:ext cx="12096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449960" y="6310440"/>
              <a:ext cx="5544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676400" y="6310440"/>
              <a:ext cx="5544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630320" y="6113520"/>
              <a:ext cx="88200" cy="316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751280" y="6113520"/>
              <a:ext cx="91800" cy="316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682880" y="6096240"/>
              <a:ext cx="104400" cy="4284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748400" y="6134400"/>
              <a:ext cx="569520" cy="13788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21360" y="6469200"/>
              <a:ext cx="226440" cy="3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046120" y="6426360"/>
              <a:ext cx="225720" cy="3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043240" y="6175440"/>
              <a:ext cx="261360" cy="968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45920" y="6272280"/>
              <a:ext cx="2952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807080" y="6134400"/>
              <a:ext cx="363600" cy="10764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032800" y="6272280"/>
              <a:ext cx="4968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790880" y="6272280"/>
              <a:ext cx="4896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165680" y="6507360"/>
              <a:ext cx="1447200" cy="35064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996280" y="6346800"/>
              <a:ext cx="146880" cy="27000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012840" y="6369120"/>
              <a:ext cx="84600" cy="79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012840" y="6404040"/>
              <a:ext cx="88200" cy="648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012840" y="6394680"/>
              <a:ext cx="88200" cy="468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012840" y="6442200"/>
              <a:ext cx="93960" cy="79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012840" y="6434280"/>
              <a:ext cx="93960" cy="468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76400" y="5967720"/>
              <a:ext cx="995040" cy="70452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360" y="5870880"/>
              <a:ext cx="1335960" cy="47304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044000" y="6469200"/>
              <a:ext cx="262080" cy="147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05160" y="6526440"/>
              <a:ext cx="154440" cy="7920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179280" y="2381040"/>
            <a:ext cx="846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同学们：“九年磨剑、六月试锋”，置身于升学竞争的洪流，我们实际上已身不由己，重重困难在逼迫着我们，我们别无选择，只能破釜沉舟，背水一战，尽管困难再大，也吓不倒我们，我们有能力有条件参与竞争，每个勇士都要敢于直面现实，挑战现实，挑战人生，为了在这场激烈的斗争中获得最后的胜利，使我们心中的理想化为现实，我们应该脚踏实地认真复习，利用好每一次考试，每一分钟，不断完善我们自己的知识和能力，为此，我提出以下复习备考要求 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0" y="5861160"/>
            <a:ext cx="9143280" cy="996840"/>
            <a:chOff x="0" y="5861160"/>
            <a:chExt cx="9143280" cy="996840"/>
          </a:xfrm>
        </p:grpSpPr>
        <p:sp>
          <p:nvSpPr>
            <p:cNvPr id="493" name=""/>
            <p:cNvSpPr/>
            <p:nvPr/>
          </p:nvSpPr>
          <p:spPr>
            <a:xfrm>
              <a:off x="0" y="6031080"/>
              <a:ext cx="1830600" cy="47628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0" y="6478560"/>
              <a:ext cx="1826640" cy="3510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17720" y="6013440"/>
              <a:ext cx="3625560" cy="49392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514840" y="6507360"/>
              <a:ext cx="3628440" cy="35064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514840" y="6297840"/>
              <a:ext cx="777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6322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75676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514840" y="6353280"/>
              <a:ext cx="3495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514840" y="6454800"/>
              <a:ext cx="3495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825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0006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1244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2494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373240" y="6297840"/>
              <a:ext cx="82080" cy="2286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498160" y="6310440"/>
              <a:ext cx="81360" cy="23508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625960" y="6323040"/>
              <a:ext cx="78480" cy="24768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749800" y="6338880"/>
              <a:ext cx="78480" cy="26856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874720" y="6363000"/>
              <a:ext cx="78480" cy="29520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999280" y="6390000"/>
              <a:ext cx="77760" cy="3427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9123480" y="6448680"/>
              <a:ext cx="19800" cy="33804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840080" y="6353280"/>
              <a:ext cx="1303200" cy="16668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840080" y="6454800"/>
              <a:ext cx="1303200" cy="24444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6152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796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1038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86152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86152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085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3234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4512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20856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0856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559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67044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7950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55596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55596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89976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178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14204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899760" y="6353280"/>
              <a:ext cx="3531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899760" y="6454800"/>
              <a:ext cx="3531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2468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3648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4894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24680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24680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5942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7122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8364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9420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59420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938000" y="5964480"/>
              <a:ext cx="995040" cy="66672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656480" y="5861160"/>
              <a:ext cx="1394640" cy="48744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830600" y="6018480"/>
              <a:ext cx="3684240" cy="48888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912320" y="6000840"/>
              <a:ext cx="576000" cy="50652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138040" y="6151680"/>
              <a:ext cx="1240920" cy="3556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128320" y="6121440"/>
              <a:ext cx="1263960" cy="21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174400" y="6345360"/>
              <a:ext cx="438840" cy="16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383920" y="6121440"/>
              <a:ext cx="1008360" cy="18900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203200" y="6357960"/>
              <a:ext cx="373320" cy="1494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826640" y="6507360"/>
              <a:ext cx="3687840" cy="35064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310560" y="5902560"/>
              <a:ext cx="1424160" cy="3254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323880" y="6002640"/>
              <a:ext cx="1758600" cy="50472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353040" y="6276960"/>
              <a:ext cx="1021680" cy="22068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790880" y="6418440"/>
              <a:ext cx="569520" cy="889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790880" y="6272280"/>
              <a:ext cx="241920" cy="14616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37960" y="6301080"/>
              <a:ext cx="438840" cy="164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39840" y="6288120"/>
              <a:ext cx="147600" cy="13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310560" y="5961240"/>
              <a:ext cx="1784520" cy="29844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961800" y="6310440"/>
              <a:ext cx="1900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61000" y="6310440"/>
              <a:ext cx="784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178160" y="6310440"/>
              <a:ext cx="7560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528440" y="6310440"/>
              <a:ext cx="12096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449960" y="6310440"/>
              <a:ext cx="5544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676400" y="6310440"/>
              <a:ext cx="5544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630320" y="6113520"/>
              <a:ext cx="88200" cy="316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51280" y="6113520"/>
              <a:ext cx="91800" cy="316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682880" y="6096240"/>
              <a:ext cx="104400" cy="4284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748400" y="6134400"/>
              <a:ext cx="569520" cy="13788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21360" y="6469200"/>
              <a:ext cx="226440" cy="3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046120" y="6426360"/>
              <a:ext cx="225720" cy="3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43240" y="6175440"/>
              <a:ext cx="261360" cy="968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245920" y="6272280"/>
              <a:ext cx="2952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807080" y="6134400"/>
              <a:ext cx="363600" cy="10764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032800" y="6272280"/>
              <a:ext cx="4968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790880" y="6272280"/>
              <a:ext cx="4896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165680" y="6507360"/>
              <a:ext cx="1447200" cy="35064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96280" y="6346800"/>
              <a:ext cx="146880" cy="27000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012840" y="6369120"/>
              <a:ext cx="84600" cy="79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012840" y="6404040"/>
              <a:ext cx="88200" cy="648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12840" y="6394680"/>
              <a:ext cx="88200" cy="468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012840" y="6442200"/>
              <a:ext cx="93960" cy="79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012840" y="6434280"/>
              <a:ext cx="93960" cy="468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6400" y="5967720"/>
              <a:ext cx="995040" cy="70452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9360" y="5870880"/>
              <a:ext cx="1335960" cy="47304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044000" y="6469200"/>
              <a:ext cx="262080" cy="147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05160" y="6526440"/>
              <a:ext cx="154440" cy="7920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0" y="2435040"/>
            <a:ext cx="845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第一，要确立奋斗目标。目标是我们奋斗的方向，它给我们的动力，没有目标，我们的复习备考就失去推动方向和动力。目标的确立必须符合每个人的实际，既不能太高，也不能太低。合适的目标会使我们信心倍增，干劲更大。它会激励我们为之奋斗，在奋斗中我们的目标就会实现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　第二、树立必胜的信心。同学们，“信心是基石，拼搏是保障”。充满信心，是决战高考的前提，是走向成功的第一步。要相信自己的能力、相信自己的机遇、相信自己的前途，相信自己还有潜力没有被挖掘出来，要坚信凭自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"/>
          <p:cNvGrpSpPr/>
          <p:nvPr/>
        </p:nvGrpSpPr>
        <p:grpSpPr>
          <a:xfrm>
            <a:off x="0" y="5861160"/>
            <a:ext cx="9143280" cy="996840"/>
            <a:chOff x="0" y="5861160"/>
            <a:chExt cx="9143280" cy="996840"/>
          </a:xfrm>
        </p:grpSpPr>
        <p:sp>
          <p:nvSpPr>
            <p:cNvPr id="593" name=""/>
            <p:cNvSpPr/>
            <p:nvPr/>
          </p:nvSpPr>
          <p:spPr>
            <a:xfrm>
              <a:off x="0" y="6031080"/>
              <a:ext cx="1830600" cy="47628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0" y="6478560"/>
              <a:ext cx="1826640" cy="3510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517720" y="6013440"/>
              <a:ext cx="3625560" cy="49392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14840" y="6507360"/>
              <a:ext cx="3628440" cy="35064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14840" y="6297840"/>
              <a:ext cx="777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6322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75676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14840" y="6353280"/>
              <a:ext cx="3495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514840" y="6454800"/>
              <a:ext cx="3495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825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0006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1244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2494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373240" y="6297840"/>
              <a:ext cx="82080" cy="2286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498160" y="6310440"/>
              <a:ext cx="81360" cy="23508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625960" y="6323040"/>
              <a:ext cx="78480" cy="24768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749800" y="6338880"/>
              <a:ext cx="78480" cy="26856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874720" y="6363000"/>
              <a:ext cx="78480" cy="29520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999280" y="6390000"/>
              <a:ext cx="77760" cy="3427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9123480" y="6448680"/>
              <a:ext cx="19800" cy="33804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840080" y="6353280"/>
              <a:ext cx="1303200" cy="16668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840080" y="6454800"/>
              <a:ext cx="1303200" cy="24444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6152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9796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1038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86152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86152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085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3234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4512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20856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20856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559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7044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7950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55596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55596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9976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0178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14204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899760" y="6353280"/>
              <a:ext cx="3531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899760" y="6454800"/>
              <a:ext cx="3531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2468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3648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4894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24680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24680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5942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7122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8364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59420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59420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938000" y="5964480"/>
              <a:ext cx="995040" cy="66672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656480" y="5861160"/>
              <a:ext cx="1394640" cy="48744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830600" y="6018480"/>
              <a:ext cx="3684240" cy="48888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12320" y="6000840"/>
              <a:ext cx="576000" cy="50652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138040" y="6151680"/>
              <a:ext cx="1240920" cy="3556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128320" y="6121440"/>
              <a:ext cx="1263960" cy="21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174400" y="6345360"/>
              <a:ext cx="438840" cy="16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383920" y="6121440"/>
              <a:ext cx="1008360" cy="18900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203200" y="6357960"/>
              <a:ext cx="373320" cy="1494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826640" y="6507360"/>
              <a:ext cx="3687840" cy="35064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310560" y="5902560"/>
              <a:ext cx="1424160" cy="3254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323880" y="6002640"/>
              <a:ext cx="1758600" cy="50472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353040" y="6276960"/>
              <a:ext cx="1021680" cy="22068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790880" y="6418440"/>
              <a:ext cx="569520" cy="889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790880" y="6272280"/>
              <a:ext cx="241920" cy="14616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837960" y="6301080"/>
              <a:ext cx="438840" cy="164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39840" y="6288120"/>
              <a:ext cx="147600" cy="13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310560" y="5961240"/>
              <a:ext cx="1784520" cy="29844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961800" y="6310440"/>
              <a:ext cx="1900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861000" y="6310440"/>
              <a:ext cx="784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178160" y="6310440"/>
              <a:ext cx="7560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528440" y="6310440"/>
              <a:ext cx="12096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449960" y="6310440"/>
              <a:ext cx="5544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676400" y="6310440"/>
              <a:ext cx="5544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630320" y="6113520"/>
              <a:ext cx="88200" cy="316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751280" y="6113520"/>
              <a:ext cx="91800" cy="316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82880" y="6096240"/>
              <a:ext cx="104400" cy="4284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748400" y="6134400"/>
              <a:ext cx="569520" cy="13788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21360" y="6469200"/>
              <a:ext cx="226440" cy="3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046120" y="6426360"/>
              <a:ext cx="225720" cy="3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043240" y="6175440"/>
              <a:ext cx="261360" cy="968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245920" y="6272280"/>
              <a:ext cx="2952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807080" y="6134400"/>
              <a:ext cx="363600" cy="10764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032800" y="6272280"/>
              <a:ext cx="4968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790880" y="6272280"/>
              <a:ext cx="4896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165680" y="6507360"/>
              <a:ext cx="1447200" cy="35064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996280" y="6346800"/>
              <a:ext cx="146880" cy="27000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012840" y="6369120"/>
              <a:ext cx="84600" cy="79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012840" y="6404040"/>
              <a:ext cx="88200" cy="648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012840" y="6394680"/>
              <a:ext cx="88200" cy="468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012840" y="6442200"/>
              <a:ext cx="93960" cy="79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012840" y="6434280"/>
              <a:ext cx="93960" cy="468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76400" y="5967720"/>
              <a:ext cx="995040" cy="70452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9360" y="5870880"/>
              <a:ext cx="1335960" cy="47304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44000" y="6469200"/>
              <a:ext cx="262080" cy="147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05160" y="6526440"/>
              <a:ext cx="154440" cy="7920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395280" y="247104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己的能力一定能学好各门功课。同学们，你们要牢记信心第一，勇往直前。只有拥有了信心，你才可能拥抱成功。要树立信心，不要畏惧高考，要充满信心地走进高考，你才能挥洒自如，超常发挥，考出意想不到的好成绩。青年时代的毛泽东同志曾豪迈地说：“自信人生二百年，会当击水三千里。”同学们，你们要确信自己是优秀的，并把全部精力都集中起来去证明它，你们一定会成功的。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"/>
          <p:cNvGrpSpPr/>
          <p:nvPr/>
        </p:nvGrpSpPr>
        <p:grpSpPr>
          <a:xfrm>
            <a:off x="0" y="5861160"/>
            <a:ext cx="9143280" cy="996840"/>
            <a:chOff x="0" y="5861160"/>
            <a:chExt cx="9143280" cy="996840"/>
          </a:xfrm>
        </p:grpSpPr>
        <p:sp>
          <p:nvSpPr>
            <p:cNvPr id="693" name=""/>
            <p:cNvSpPr/>
            <p:nvPr/>
          </p:nvSpPr>
          <p:spPr>
            <a:xfrm>
              <a:off x="0" y="6031080"/>
              <a:ext cx="1830600" cy="47628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0" y="6478560"/>
              <a:ext cx="1826640" cy="3510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517720" y="6013440"/>
              <a:ext cx="3625560" cy="49392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514840" y="6507360"/>
              <a:ext cx="3628440" cy="35064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514840" y="6297840"/>
              <a:ext cx="777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6322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75676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514840" y="6353280"/>
              <a:ext cx="3495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514840" y="6454800"/>
              <a:ext cx="3495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825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0006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1244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2494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373240" y="6297840"/>
              <a:ext cx="82080" cy="2286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498160" y="6310440"/>
              <a:ext cx="81360" cy="23508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625960" y="6323040"/>
              <a:ext cx="78480" cy="24768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749800" y="6338880"/>
              <a:ext cx="78480" cy="26856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874720" y="6363000"/>
              <a:ext cx="78480" cy="29520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999280" y="6390000"/>
              <a:ext cx="77760" cy="3427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9123480" y="6448680"/>
              <a:ext cx="19800" cy="33804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840080" y="6353280"/>
              <a:ext cx="1303200" cy="16668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840080" y="6454800"/>
              <a:ext cx="1303200" cy="24444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6152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9796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1038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86152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86152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2085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3234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4512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20856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20856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555960" y="6297840"/>
              <a:ext cx="784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67044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7950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55596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55596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89976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0178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14204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899760" y="6353280"/>
              <a:ext cx="3531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899760" y="6454800"/>
              <a:ext cx="3531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246800" y="6297840"/>
              <a:ext cx="8208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3648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48944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24680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24680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59420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7122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836480" y="6297840"/>
              <a:ext cx="81360" cy="2095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594200" y="635328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594200" y="6454800"/>
              <a:ext cx="35028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938000" y="5964480"/>
              <a:ext cx="995040" cy="66672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656480" y="5861160"/>
              <a:ext cx="1394640" cy="48744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830600" y="6018480"/>
              <a:ext cx="3684240" cy="48888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912320" y="6000840"/>
              <a:ext cx="576000" cy="50652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138040" y="6151680"/>
              <a:ext cx="1240920" cy="3556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128320" y="6121440"/>
              <a:ext cx="1263960" cy="21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174400" y="6345360"/>
              <a:ext cx="438840" cy="16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383920" y="6121440"/>
              <a:ext cx="1008360" cy="18900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203200" y="6357960"/>
              <a:ext cx="373320" cy="1494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826640" y="6507360"/>
              <a:ext cx="3687840" cy="35064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310560" y="5902560"/>
              <a:ext cx="1424160" cy="3254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323880" y="6002640"/>
              <a:ext cx="1758600" cy="50472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353040" y="6276960"/>
              <a:ext cx="1021680" cy="22068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790880" y="6418440"/>
              <a:ext cx="569520" cy="889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790880" y="6272280"/>
              <a:ext cx="241920" cy="14616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837960" y="6301080"/>
              <a:ext cx="438840" cy="164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839840" y="6288120"/>
              <a:ext cx="147600" cy="13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310560" y="5961240"/>
              <a:ext cx="1784520" cy="29844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961800" y="6310440"/>
              <a:ext cx="1900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861000" y="6310440"/>
              <a:ext cx="784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178160" y="6310440"/>
              <a:ext cx="7560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528440" y="6310440"/>
              <a:ext cx="12096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449960" y="6310440"/>
              <a:ext cx="5544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76400" y="6310440"/>
              <a:ext cx="5544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630320" y="6113520"/>
              <a:ext cx="88200" cy="316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751280" y="6113520"/>
              <a:ext cx="91800" cy="316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682880" y="6096240"/>
              <a:ext cx="104400" cy="4284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748400" y="6134400"/>
              <a:ext cx="569520" cy="13788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121360" y="6469200"/>
              <a:ext cx="226440" cy="3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046120" y="6426360"/>
              <a:ext cx="225720" cy="3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043240" y="6175440"/>
              <a:ext cx="261360" cy="968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245920" y="6272280"/>
              <a:ext cx="2952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807080" y="6134400"/>
              <a:ext cx="363600" cy="10764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032800" y="6272280"/>
              <a:ext cx="4968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790880" y="6272280"/>
              <a:ext cx="48960" cy="146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165680" y="6507360"/>
              <a:ext cx="1447200" cy="35064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996280" y="6346800"/>
              <a:ext cx="146880" cy="27000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012840" y="6369120"/>
              <a:ext cx="84600" cy="79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012840" y="6404040"/>
              <a:ext cx="88200" cy="648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012840" y="6394680"/>
              <a:ext cx="88200" cy="468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012840" y="6442200"/>
              <a:ext cx="93960" cy="79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012840" y="6434280"/>
              <a:ext cx="93960" cy="468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76400" y="5967720"/>
              <a:ext cx="995040" cy="70452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9360" y="5870880"/>
              <a:ext cx="1335960" cy="47304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044000" y="6469200"/>
              <a:ext cx="262080" cy="147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5160" y="6526440"/>
              <a:ext cx="154440" cy="7920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250920" y="2115360"/>
            <a:ext cx="8459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第三、树立积极端正的态度。我们说“态度决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一切”，积极端正的态度，是决战高考的保障。我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真诚地希望你们，平时的学习和生活只能从高考角度着眼，所作所为都要有利于高考，与高考无关的念头不要想，与高考无关的事不要做，要以一颗火热的心去投入到紧张的复习备考中去。要热心于听课、热衷于解题、热爱自己所干的事业。但是，现在还有部分同学并不珍惜眼前的机会，显得精神不佳、作风散漫、作业拖拉，迟迟进入不了状态。时钟在不停地走，我们还有时间去拼搏、取得成功，但是我们却没有一分一秒的时间去浪费、去失败。所以，我们必须以积极端正的态度投入到高考备考复习中去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01:24:06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55:21Z</dcterms:modified>
  <cp:revision>53</cp:revision>
  <dc:subject>主题班会课件(分28大类): http://shop62905894.taobao.com</dc:subject>
  <dc:title>主题班会课件(分28大类): http://shop62905894.taobao.com</dc:title>
</cp:coreProperties>
</file>