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cashreg.wav" ContentType="audio/x-wav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0EC-416B-410D-B4F7-4AA0FF9D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6FA-CFDE-432A-8A9D-6CFF4B6E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F759E-0274-41C3-A4E5-95AD1224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6299F-8B38-4B9A-8A5D-881562B1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46169-FACC-4D18-A537-C07C17AD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1E99A-5F16-477E-B535-24146F71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B2BB8-69B2-41E9-A9EA-EF63178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268A6-DE10-41F9-8AA2-CCD6CE72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6E72F-A5C4-4555-A2B5-FACAC54E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404B0-B0DD-4359-896A-2EF30499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57A23-BCB1-41EF-8F29-32236314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07198-9CA1-4FB4-943A-FF2516F4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03E-38AC-47A6-8FB6-58910F7E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71B45-332E-4931-9BED-DC9147F8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16EF6-2591-450F-8E13-0E411928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D371E-8448-4771-AB2F-F123AC5D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B0FAE-2232-41EE-A6C2-45DDA6FD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18B9E-F0F6-46E9-BA6F-0D16E4D7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C36D0-0D00-4993-A8A2-829963E7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BD6A2-02B6-4402-A02E-A931DEA3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6E2B0-C587-47AC-90E9-8C2F010C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204F5-AB89-4CB6-B94F-E1D2499F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FD725-E3DB-44A9-AD01-135CC7F6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A43-312F-4557-AADB-D3AA1874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8D288-9ECC-4243-B72E-7E9221A5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6AAD6-F752-46A9-98A6-2344C176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86F74-8382-4FAF-B8F5-4FBE303B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258BB-0E1A-4F2D-960B-6C3523C5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7634D-6F9E-412A-B382-16528394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425EA-D1E5-4038-8F38-140BBBE7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352DC-E313-4A7F-8F7A-BFFBA7A2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EC008-5481-4278-920F-DCC91901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EABDC-D2FF-4670-9442-E251ED05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BCDE3-CDAE-4444-902B-544C09B7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BADF-3BA4-4A75-A859-F70A2438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089D3-F8C5-4521-9D4F-CE3AEF66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EFBFB-5005-4F84-ADC4-CDD4D9D1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C5FE0-E770-44A7-8B3F-7600B9D5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841B9-0B82-4417-98E7-06F55611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7E46D-8689-4825-9179-641487D6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A6C70-861F-4AEA-B39C-74598445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7B316-AF1F-4BAF-B6B2-C49568E4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C5556-3CA8-487E-BCBB-1C2592D9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017E9-3071-4E4C-A814-3962BE11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3280C-D424-4069-8F97-A93503CF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C610-B849-45CA-8BB4-DBF86AB1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87F66-29FD-4619-B84E-3543628A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8E55C-2B1E-42C7-858F-5A3592CD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2DF89-ABB0-4903-B8B9-92B983EF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38046-8C9F-4F52-92BA-1F796959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47D2D-3BE9-4135-BD40-92154AB9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AE9C-2934-4337-8CC0-60CA6C47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8C5B-D563-48AF-8060-6E25D6C8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9CDE-F703-472B-A209-049D0A4B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F220-5E04-4DE4-93AA-FBB05329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6DF5-77C7-4467-8DB1-F6344EA1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366-1D7F-4603-899C-6AE2DF29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61E3-B0D7-4F9B-8ABA-ED033698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A259-B456-4FBA-8661-93603599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665B-DB0E-46AB-B612-6A780EDA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9058-8CA1-499A-BF0C-3E3BE236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3D1A-E673-46AA-8D5A-A136C82A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B3FBE-F994-4C80-BD72-5F555168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93C14-4E54-43F7-A385-61E33535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6D91B-541E-404B-85F7-BFCBF225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79E28-600A-4C17-BD03-346784CC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C476D-377F-49E6-BA9F-54C87823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48E-FEB7-48E9-BD73-AD5E0E56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A395-A1BD-4AB0-AB00-DB3FD973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AFC6-2FE2-4A60-B6EE-B33F362F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70E6-1054-4EAA-A25E-D785B49D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4E8F9-5597-4C8E-858C-38D8865C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CC3E-858D-4705-A121-FB1B4C5E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44D33-9ABC-45B3-B045-7B9783AC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BBCA3-6713-4A9E-AA88-CD10C895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CB789-61C2-4A5E-82E6-8B164AC8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93FC0-5976-47E2-88CB-B19E506B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76F9C-7EA6-4591-9015-BC1994AF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F20-226A-488D-BE23-32BD1B08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3F878-29B6-4FC4-90B5-CD0E77DA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4B000-1633-4249-86C9-71C0D81F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BBB3-A6F0-4821-A73A-20B08C56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D3C52-DC29-46A9-8C58-AB99200F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53172-5F52-4CDB-A067-E4F4F8DC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77507-02FE-43CE-BA3F-04A6CE66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D3292-5C19-4DA9-A9A3-94342305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B1721-F0AD-4423-B291-B3EF4019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6C530-E759-46AE-9BEE-D4B26499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AF6C-3CBB-494B-93EC-100A899E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6D3-A9AE-4CAF-A701-73AC3E34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C23E8-A658-4BD4-AA82-7DACF0CB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D0C64-43CE-45BD-AF62-A132F50A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D7BFC-A4C9-40A6-B522-3C2A4582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0D404-4C4B-4A30-8FCD-6D472376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7D7E3-72DF-40F0-943D-38E24EAE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A4565-BDCF-4D26-94DE-FC4EF797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F9EA0-6422-4AEF-9FAE-9D8B7A91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77975-369B-4D28-B0BE-8646560A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E2B48-3D9E-4D5A-B27D-3B2B9368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CE3F5-C3A6-4D59-AD47-7F6F865F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40B-2619-4639-BA4B-2AB759C7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CB952-A2DD-4E19-B63E-C6F52A00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C23AA-98B8-4D78-8F66-0821C882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272EA-E99A-45DA-9DD4-A33A2B4C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69C78-E457-4C7C-A03E-0416707E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CCA2E-E0A1-4118-AC4F-E635025F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12E56-761A-4745-9FF3-A84DD9A2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DAF08-DAE7-48B4-81D4-305E4B53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D06B6-8A3B-4599-9E6E-BD478041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FC808-9B11-44CB-8883-FFCAB4FA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78DBD-AF63-4489-8601-485B69D2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790-F7AB-4D08-BDD6-92C6EE8F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B9794-9ACC-4F9F-A2CA-A3F8A660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73C8A-B064-4724-9580-36DFBF23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7A30C-8717-432D-BCF1-20DFF9BD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3DE77-8519-4D87-A9B6-8E9A4C3E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A1BF7-B5FC-44FA-AD8E-3B7BE92C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F3BA5-8AAB-4F0B-ACF6-36CB273D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1D493-A3E4-4991-9092-F058E3C9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5D462-2038-4A7E-96E7-2269C9D2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D4B39-009B-4B80-BE3F-6F622830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F9217-ACF1-41F7-A243-FC2B4696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8FD-1A4C-4703-A668-A0C361ED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66996-0D65-48B4-B2D4-79578E0A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48F2B-ADFF-4511-8D9E-D09A7966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D0004-C814-4A0D-AAF6-DCAD6B3D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B905E-FD36-4B5F-A5EA-D954AC00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5D2C8-D230-40FF-9ECB-97F4D27C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62782-A6E9-469F-AA15-4621079C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FB7C3-5062-4136-9F23-486F2123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14BF1-AC78-49FC-9122-064A66C3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05FD8-B060-465B-9F1A-FE79A7A1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3326D-80C7-4598-A618-B8BC79A3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B53-6AD5-4832-9E69-841A551E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EFE13-74A0-4BD2-A9FB-95676206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4137F-3238-4256-B640-2F03CDD7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6E153-BA9D-4525-9368-2E9C1F0B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7082A-D5DC-4219-9AB2-E3957884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AFC39-9E06-4275-9A00-B0009E70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10B01-8870-4EEC-AC10-B2AC7A14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CF982-8603-48D9-93A5-25ADF454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7F004-0BF0-49F1-A290-DE3E9B6C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4432D-4EA8-4D64-9A4D-DF14820F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A8E91-AA37-4B3C-A08D-721FF307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A801-03EF-4785-931B-0A43C789A1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28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29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30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90F5-9785-4757-A660-D20C2BBBF8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1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1" marL="542160" indent="-2084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2" marL="834120" indent="-166680"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3" marL="1167840" indent="-166680">
              <a:spcBef>
                <a:spcPts val="11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4" marL="1501560" indent="-166680">
              <a:spcBef>
                <a:spcPts val="11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5" marL="1501560" indent="-166680">
              <a:spcBef>
                <a:spcPts val="11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6" marL="1501560" indent="-166680">
              <a:spcBef>
                <a:spcPts val="11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23D2-7519-4177-8B37-0EA10E4322B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6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B902-6DA4-4F11-A583-A1C048BA0B5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6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0E3D-A65F-4064-A2B0-0C438BE97E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9640" y="846000"/>
            <a:ext cx="8604360" cy="1006560"/>
            <a:chOff x="539640" y="846000"/>
            <a:chExt cx="8604360" cy="1006560"/>
          </a:xfrm>
        </p:grpSpPr>
        <p:sp>
          <p:nvSpPr>
            <p:cNvPr id="46" name=""/>
            <p:cNvSpPr/>
            <p:nvPr/>
          </p:nvSpPr>
          <p:spPr>
            <a:xfrm>
              <a:off x="1474920" y="1494000"/>
              <a:ext cx="7418160" cy="134640"/>
            </a:xfrm>
            <a:prstGeom prst="flowChartAlternateProcess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97840" y="846000"/>
              <a:ext cx="1046160" cy="7826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40" y="907920"/>
              <a:ext cx="989280" cy="944640"/>
            </a:xfrm>
            <a:prstGeom prst="ellipse">
              <a:avLst/>
            </a:prstGeom>
            <a:noFill/>
            <a:ln w="88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9280" y="119700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ff"/>
                  </a:solidFill>
                  <a:latin typeface="Vineta BT"/>
                  <a:ea typeface="華康儷簡宋(P)"/>
                </a:rPr>
                <a:t>XDZ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34EE-E99C-4143-8E3E-1C464E3953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7A46-8596-48BC-AC72-CE51A762FE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1" marL="549720" indent="-211320">
              <a:spcBef>
                <a:spcPts val="11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2" marL="845640" indent="-168840">
              <a:spcBef>
                <a:spcPts val="11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3" marL="1184040" indent="-168840">
              <a:spcBef>
                <a:spcPts val="1100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4" marL="1522440" indent="-168840">
              <a:spcBef>
                <a:spcPts val="11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5" marL="1522440" indent="-168840">
              <a:spcBef>
                <a:spcPts val="1100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6" marL="1522440" indent="-168840">
              <a:spcBef>
                <a:spcPts val="1100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5DCC-8A85-4EA4-9B6D-8485257CD0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2EEC-9189-4EC5-80BF-C92C627C42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2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0D25-47F6-4A98-862F-C5BFECB7BF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B6D8-7D80-43C2-8D2B-99BBBBC1A42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3D8D-4C73-47B6-A434-B570CD3507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期末复习班会系列一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908000" y="2276640"/>
            <a:ext cx="51055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永不落山的太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失败者寻找借口，推卸责任；成功者承担责任，寻找方法。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你到底是推卸责任，还是承担责任？是寻找借口，还是寻找方法？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球王贝利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年的足球生涯里，参加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场比赛，共踢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球。并创造了一个队员在一场比赛中射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球的纪录。他超凡的技艺不仅令万千观众心醉，而且常使球场上的对手拍手称绝。他不仅球艺高超，而且谈吐不凡。当他个人进球记录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时，有人问他：“您哪个球踢得最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贝利笑了，意味深长地说：“下一个。”他的回答含蓄幽默，耐人寻味，像他的球艺一样精彩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启示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迈向成功的道路上，每当实现了一个近期目标，决不应自满，而应迎接新的成功，应把原来的成功当成是新的成功的起点，千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自我满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才永远有新的目标，才能攀登新的高峰，才能获得成功者的无穷无尽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411280" y="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下一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5f5f5f"/>
                </a:solidFill>
                <a:latin typeface="Arial"/>
              </a:rPr>
              <a:t>狮子和羚羊的家教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每天，当太阳升起的时候，非洲大草原上的动物们就开始奔跑了。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      狮子妈妈在教育自己的孩子，你必须跑得再快一点，再快一点，你要是跑不过最慢的羚羊，你就会活活地饿死。”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在另外一个场地上，羚羊妈妈也在教育自己的孩子：“孩子，你必须跑得再快一点，再快一点，如果你不能比跑得最快的狮子还要快，那你就肯定会被他们吃掉。” 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　秘诀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记住，你跑得快，别人跑得更快。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赶超对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6328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一、仔细制定一个考前复习计划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 </a:t>
            </a:r>
            <a:endParaRPr b="0" lang="en-US" sz="8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58560" y="981000"/>
            <a:ext cx="762012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凡事预则立，不预则废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39337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在安排学习任务时，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轻重缓急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得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403280" y="404280"/>
            <a:ext cx="734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二、有效利用复习时间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恩格斯说：“没有计划的学习简直就是荒唐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时，同学们浪费时间的现象非常普遍。如：聊天、没有节制地玩、无目的的东张西望、无目的的看与学习无关的书、为崇拜的人分散精力、看或写不必要的东西等等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1331640" y="404280"/>
            <a:ext cx="7561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三、讲究复习方法，提高复习效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，对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基础知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概念的来龙去脉要搞清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，对知识和概念的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易混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也就是难点要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归纳类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三，不能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眼高手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只看不做，适当的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练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必要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1331640" y="981000"/>
            <a:ext cx="7489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在回扣复习阶段一定要注意各科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时间上的合理分配，</a:t>
            </a:r>
            <a:r>
              <a:rPr b="1" lang="zh-CN" sz="3600" spc="-1" strike="noStrike">
                <a:solidFill>
                  <a:srgbClr val="0000ff"/>
                </a:solidFill>
                <a:latin typeface="新宋体"/>
                <a:ea typeface="新宋体"/>
              </a:rPr>
              <a:t>要齐头并进。一枝独秀不是春，百花齐放春满园</a:t>
            </a: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。各科要均衡发展，每门功课都要复习到位，不能对优势学科掉以轻心，也不能对薄弱学科失去信心。只是不同层次的功课，对你要求各不相同，复习的目标和策略做到相应变化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互帮互学，共同进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独学而无友，则孤陋而寡闻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40000" y="198900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523880" y="189000"/>
            <a:ext cx="76201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特别提醒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042920" y="1557360"/>
            <a:ext cx="7777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</a:t>
            </a:r>
            <a:r>
              <a:rPr b="1" lang="zh-CN" sz="5400" spc="-1" strike="noStrike">
                <a:solidFill>
                  <a:srgbClr val="00ffff"/>
                </a:solidFill>
                <a:latin typeface="宋体"/>
              </a:rPr>
              <a:t>既然我们选择了远方，就只顾风雨兼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cc"/>
                </a:solidFill>
                <a:latin typeface="华文行楷"/>
                <a:ea typeface="华文行楷"/>
              </a:rPr>
              <a:t>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——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汪国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心向着自己目标前进的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个世界都给他让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默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5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每个人都有潜在的能量，只是很容易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被习惯所掩盖，被时间所迷离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被惰性所消磨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5280" y="4221000"/>
            <a:ext cx="87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吃得苦中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方为人上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2384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11280" y="1623960"/>
            <a:ext cx="81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盖士人读书，第一要有志，第二要有识，第三要有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《曾国藩家书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26:2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13:04Z</dcterms:modified>
  <cp:revision>1</cp:revision>
  <dc:subject>主题班会课件(分28大类): http://shop62905894.taobao.com</dc:subject>
  <dc:title>主题班会课件(分28大类): http://shop62905894.taobao.com</dc:title>
</cp:coreProperties>
</file>