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DD2-22B8-415D-AC31-12EBDD52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3FD-EF90-4846-A9FB-6045844E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0604-9632-4FCF-9C7C-409CEAB9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E933-1ABA-4BD8-9F7E-2F695584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165-8DAB-49B7-956D-0773D7D6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3BF-C870-438E-829C-0A376DE5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068-14D0-49D7-9387-90CDDA4C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CB48-BBB6-49D8-9625-22674E6D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807-A4A2-43BF-A45A-D986BA76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775-EA92-47E6-8D2D-483D7F9F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756-119A-45A1-9254-7973BC63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F02-07CE-47E2-9C18-F722150C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F58D-C0D6-46B9-B1DA-C69FBEE2F2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-147600"/>
            <a:ext cx="820872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遇上不会做的题怎么办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考试答题七大策略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48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一问：要不要把全卷看一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拿到卷子以后看一下，是看考卷一共几页，多少道题一定要先知道，千万不能落题和落页。关于是否要把全卷的题目全看一遍。对于第一场考试的语文试卷，我个人的意见是作文题是要看一看的，看了作文，心里有数，等到真正开始作文的时候在细细考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404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试中要保持谨慎还包括要集中全部的精神。不少考生有畏惧心理，怕考不好会受到老师批评、父母责怪、邻里窃笑、友人非议等，这是可以理解的。但一上考场，则必须排除一切干扰，专心致志、净化精神。只有专心致志才能保持头脑清醒，才能感知深刻、积极思维，才能处于加工信息的最佳心理和生理状态。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招数三　　转移焦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拿到试卷后，通览一遍，做到心中有数。既使看到暂时不会做的题目也不要慌，先做易解的题，这是应试技巧，更是增强信心的心理调适方法，每解一题便会增加一份自信，但人易我易我不大意，要仔细。待思路流畅后再做难题，人难我难我不畏难，你感觉难时别人更是无从下手，这样想想心理会平静很多，利于提高士气、正常发挥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33336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　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即使在考试中如果出现了难题，突然产生紧张感或大脑一片空白，可以用转移法，要强迫自己冷静下来，让头脑安静一会儿，想些鼓励自己的话，如“我有信心考出自己的最好水平”、“只要尽力就问心无愧”。此外，学会自我安慰很重要。例如：倘若这道题自己做不出来，就可以想想别人也未必能做得出来。同时，可做几次深呼吸，并在呼气时说“放松”。　　遇到平时掌握的内容考试时突然想不起来的时候，可以暂时跳过去，先去做别的题目，这是比较正确的考试习惯。待别的题目都作好了，紧张情绪会得到缓解，回过头来做这道题目时，失去的记忆就能恢复了，千万不要为了一道题影响了整体的发挥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68440" y="5602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404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最后解答不会做的题目的时候，若是有能力的话，一定要在很短的时间内理出原因。如果是中下层次考生，不会做难题是预料之中的事，紧张是完全没有必要的。如被中低档题卡住，那就要冷静下来，这些凭自己的水平是能够完成的，只要理清思路，按部就班就一定会水落石出。若是优秀生，遇到不会做的题，则多数是难题，此时一定要有心理准备。难题之所以“难”，就是不能一眼就能看出解题思路，但只要发挥自己超常的思维力，难题就一定分解出来，至少能解出此题的大部分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3333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招数四　　把握节奏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在整个考试过程中，把握好节奏是至关重要的。有一个考生语文是他的强项，但他没把握好节奏，在做基础题时过分的仔细，反复地检查，结果作文来不及写，丢了很多分，本来要靠语文拿分的，结果总分反而被语文拉了下来。有一个曾经参加过二次中考的考生，第一次把中考看得太神秘了，尽管发现考卷并不难，好多选择题就那么简单，一眼就可以看出答案，可是还有点不相信，心想，中考题不可能一眼就看出答案吧，就多想了一些，这样反而耽误时间了，第二次中考吸取了教训，把会做的赶快做过去，接着做下面的题，结果一举夺魁，成了中考第一名。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，考生要时刻总览全局，把握好节奏。对大部分基础题，在认真看清题意，并有清晰解题思路的情况下，加快速度，完成后，要坚决控制再检查一遍的冲动，如实在有些放心不下，可用铅笔在题旁做一记号，待整张试卷完成后，有时间再去检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33336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注意的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981000"/>
            <a:ext cx="7921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准备好考试用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保护好答题卡、试卷，草稿纸对折两次写好题号按顺序使用便于检查尤其数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答题卡的内容填好涂好尤其是考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把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沿着密封线折好以免答案超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最后检查答题卡、卷二有无漏涂漏做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620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二问：如何提高一卷的得分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一卷是客观性试题，即选择题和判断题等。一般说，我们的第一判断力非常重要，推翻第一判断一定要谨慎。提高一卷的得分率，同学们第一要重视第一判断，第二要基础扎实，第三要加强抗干扰能力。调查显示：一卷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题的错误率比较高，因为一开始考生一般心情比较紧张，所以提醒大家，在心情恢复正常时要着重检查一下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题。英语一卷有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占总分比例是挺高的，所以大家一定要谨慎对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260280"/>
            <a:ext cx="8640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三问：遇上不会做的题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考试碰到难题是非常正常的。碰到不会做的题不要紧张，要想到，我不会做，那好多人也未必会做。一定要稳定心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四问：有的题可以上手，但做半截又不会了，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碰到这样的题不要慌，仔细审题，能做一步做一步，能做两步做两步。试题题题设防，题题把关，评分按步计分，中档题做对一步给一步的分。心态一定要放松，不可能一道题会做，就一定能做到底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260280"/>
            <a:ext cx="781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五问：最后一题是最难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不一定。考试卷有一个长度，指题量的答题时间的一个参数：中等程度以上的同学在规定的时间内能答完试题。所以答不完卷子的情况也是正常的，但是，最后一道题不要不看，能做几步做几步，能得几分得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六问：要不要最后检查一下全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相当一部分同学在规定时间内答不完题，但一定要留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左右时间检查全卷。往往检查一遍，能检查出一个错误，从而多得几分，这也是高考成功的一个重要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33336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七问：有没有一个具体的答题要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基本的答题要领是：慢做会的求全对，稳做中档题一分也不浪费，舍去全不会的。会做的题慢慢做，保证全对。中档题可以上手，考试按步计分，做一步给一步分。中档题能做一步就做一步。舍去全不会指的是难题，不是说一看不会就舍去。认真看认真思考，确实不会再舍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06560" y="47628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轻松踏入考场  教你心灵吸氧四大绝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220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专家的研究显示，在所有影响考试结果的众多因素中，考试中的心理状态是占第一的，因此，考生在考场中随时调节自己的心态是至关重要的。那么考生如何在考试的全过程中调整自己呢？我提出如下建议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33336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招数一　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放松情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考前十分钟进考场，提前熟悉考场内外的气氛，使自己在心理上保持临考前的适度激昂，是预防考试怯场的一个妙方，也是面对试卷顺利答题、充分发挥应有水平的必经阶段。等于你把进入考场后可能会出现的不适应性反应，挪到了考场以外感受过了，可以尽快地进入角色，心无旁鹜地专注于试卷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提前到场，也是应急的预防措施之一。高考第一场考试，说不定有什么特殊情况出现。譬如，万一到了考场，突然忘记了带某件应考的必需品，至少有点时间作回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前到场，不要忽略一些细节，比如说在去考场的路上如果碰上同学一定要打招呼，这样无形中就可以获得友谊感和社会支持感；进考场时见到监考老师一定也要向老师大声问好，老师自然也会向考生问好，这样在不经意中就消除对监考老师本能的害怕和恐惧感，可以获得心理上的安全感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40464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考场每个学生都会紧张，即使优秀的学生也不例外。调节的方针是一个松字。放松要从考前开始。　　拿到考卷的十分钟内是最紧张的，这时候应尽可能地镇定情绪，放松自己。应该认识到，以前所有的努力到此为止了，这时候再担心，再紧张也无济于事。考卷上不管是生题还是难题，也已经是一个不以考生意志为转移的客观存在了，所以应该以坦然的心态接受它，以紧凑的速度完成它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里介绍一种考场上缓解紧张的方法：身体自然坐正，轻闭双眼，双手平放桌上，在深呼吸的同时，收紧双拳及全身肌肉，然后慢慢呼出，并随之放松肌肉，待情绪趋于稳定后，再继续答题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260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招数二　　谨慎答题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考生经过十分钟的紧张期，适应了考题后，会逐渐放松下来，这时候要牢记一个慎字。因为粗心大意是考生的常见病。经常看到有些考生出了考场，一对题目，直拍脑瓜，对自己因粗心而失分懊丧不已。与其考后悔，不如考时慎。　　怎样做到慎呢？我给大家这样一句话：考卷下面处处有地雷。考卷下处处埋藏着不易察觉却常使人出错的地雷。如：学号忘了写；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看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审题没审清楚。一不小心就踩上地雷，把分数也炸没了。　　所以，考试时审题要周到，做题要细心。做题前先填考号、姓名，将试题浏览一遍，做到心中有数。要学会“会做求全对，稳做中档题，一分不浪费。”切忌漏题，要注意试卷的正面和背面，不要漏掉背面的题。要注意单页试卷，按要求填好机读卡。不要因为感觉某些题好做就忘乎所以。“容易题，容易错”，也不要因为某些题较难而慌张忙乱。每道题都要细心、认真地研究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3:13:2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6:38Z</dcterms:modified>
  <cp:revision>19</cp:revision>
  <dc:subject>主题班会课件(分28大类): http://shop62905894.taobao.com</dc:subject>
  <dc:title>主题班会课件(分28大类): http://shop62905894.taobao.com</dc:title>
</cp:coreProperties>
</file>