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A52-6696-4E41-BEEE-F61A54EF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8F7-0714-41DB-BCF3-6541BB80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BEF-E44B-4B39-B81A-0009125E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B57-94B6-4BFC-8D13-699E6832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7DAC-3022-4D67-A0D3-90EB61E0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D028-F16B-4FA2-BF70-6B0895AB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1595-42E2-492C-8AEA-E8CDFB6E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66D7-7431-40E6-80BD-CDA16F20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584C-4D0D-433B-B2A5-F5AC9CE9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2A1B-2FB0-45B1-A49B-036AE184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3CAD-F47A-4C36-8AB0-35B78F93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234-6EBD-4B45-B0F4-0B4A3A84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7F73-DC1A-441B-8C6A-EC8087E5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86B3-472A-4140-BD2A-5FCD51DA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6238-A2B6-4B04-9718-DA9B4256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FE91-2364-4356-BC02-22300CB1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72C2-6F83-4F1B-8142-08E6ED66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204B-366C-4CF1-8456-BB87B836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BFE60-7227-41BB-9A92-CD505348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470EF-5F7A-46BB-B7E6-8AA0D2B7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9CF7-F790-41AB-BDFE-E4421126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11CD4-77B5-44DC-B4E8-560DBE62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AB1-6FE0-4760-9299-32F2097E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AD38-1C13-4F4B-B8AF-6F3795DB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61EF-2442-4D43-9896-907A8DAD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FD92-5E58-407D-99E9-72EE1534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B7BD-65B5-453F-9DB5-F96C730A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09DD7-4656-4967-9751-0F9DDD2D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3784-E52A-460B-B531-7FC18A3F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64BB-9508-4C51-9ABF-C6531CD1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E565B-5C5D-4421-946E-54238BB3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BAE1-C1E5-4A4F-812F-73545644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C781B-D33B-4488-96C2-A89DB665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388-3755-4BE2-B305-297777F4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6A6B1-40D6-49F3-BC24-E7F564D4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F6933-B382-4386-8311-0460B457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9BE4-D894-41BF-992C-CE339551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E4766-1A71-4500-BD69-2D379D99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09ABE-BF6B-4A32-8883-AAF5721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9FB3D-F1AE-4246-978A-8F2A757E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F339F-8D34-4133-B9A5-55FA171A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FDFE-A520-421C-A3DF-E77A0BA7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4CD99-9EC0-4A62-9F9F-2C63EE89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7C2-6DFF-4422-8390-FF2367C3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679-803D-48A7-B245-FF4A7DBF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2DD-996D-45C4-8248-DDB471E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FEC-245D-43DC-BF50-0BAD5EFE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ACD-CE1C-4E53-8A83-FA724711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480"/>
            <a:chOff x="0" y="4206960"/>
            <a:chExt cx="9166320" cy="285048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b8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289D-BF5A-4059-B97E-6FC05B8FC1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3920"/>
            <a:chOff x="0" y="533520"/>
            <a:chExt cx="9177480" cy="65239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8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298C-2BF7-40C9-AAE6-E6BA165A87E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0C49-5698-4D1A-AAB5-24166A239E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7D09-09A2-4832-BB5D-777D6F1317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673000" y="5300640"/>
            <a:ext cx="437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—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高二（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15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班主题班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7280" y="2637000"/>
            <a:ext cx="676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战严寒磨意志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创期末辉煌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苦不苦</a:t>
            </a: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,</a:t>
            </a: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想想家中的父母</a:t>
            </a: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累不累</a:t>
            </a: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,</a:t>
            </a: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想想自己后半辈</a:t>
            </a: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549360"/>
            <a:ext cx="84963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同学们，</a:t>
            </a: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内驱力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是根本，</a:t>
            </a: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意志力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是保证，</a:t>
            </a: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注意力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是关键，有了它们，严寒和其他一切困难也仅仅是与我们做 伴，甚至会更让我们发扬梅花的精神，将严寒和其他一切困难踩于脚下，我们定将昂首向前，与效率同行，共同铸就和收获期末考试的成绩与辉煌，共同欢庆你和我和夏邑一高又一个春天的到来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900000" y="38530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相信自己是最优秀的，相信自己是最努力的。坚信自己成功的人，已经成功了一半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979640" y="1125360"/>
            <a:ext cx="4800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相信自己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55640" y="22050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积极的人，像太阳，照到哪里哪里亮；消极的人，像月亮，初一十五不一样。想法决定我们的生活和学习，有什么样的想法，就有什么样的未来。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59280" y="549360"/>
            <a:ext cx="3352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信心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34095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雨后，一只蜘蛛艰难地向墙上已经支离破碎的网爬去，由于墙壁潮湿，它爬到一定的高度，就会掉下来，它一次次地向上爬，一次次地又掉下来……第一个人看到了，他叹了一口气，自言自语：“我的一生不正如这只蜘蛛吗？忙忙碌碌而无所得。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于是，他日渐消沉。第二个人看到了，他说：这只蜘蛛真愚蠢，为什么不从旁边干燥的地方绕一下爬上去？我以后可不能像它那样愚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于是，他变得聪明起来。第三个人看到了，他立刻被蜘蛛屡败屡战的精神感动了。于是，他变得坚强起来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68360" y="404640"/>
            <a:ext cx="34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态度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27241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2133720"/>
            <a:ext cx="85694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  <a:ea typeface="幼圆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大厦巍然屹立，是因为有坚强的支柱；航船破浪前行，是因为有指示方向的罗盘，目标就是人生航船的罗盘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340000" y="907920"/>
            <a:ext cx="4267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确立目标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597708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Book Antiqua"/>
                <a:ea typeface="华文行楷"/>
              </a:rPr>
              <a:t>故事：我有一个梦想</a:t>
            </a:r>
            <a:endParaRPr b="0" lang="en-US" sz="48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有人说，这个故事其实就是反映了我们的人生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岁之前，我们活在家人、老师的期望之下，背负着很多的压力、包袱，自己也不够成熟、能力不足，因此步履难免不稳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岁之后，离开了众人的压力，卸下了包袱，开始全力以赴地追求自己的梦想，就这样愉快地过了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年。可是到了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岁，发现青春已逝，不免产生许多的遗憾和追悔，于是开始遗憾这个、惋惜那个、抱怨这个、嫉恨那个……就这样在抱怨中度过了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到了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6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岁，发现人生已所剩不多，于是告诉自己不要在抱怨了，就珍惜剩下的日子吧！于是默默地走完了自己的余年。到了生命的尽头，才想起自己好象有什么事情没有完成……原来，我们所有的梦想都留在了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岁的青春岁月，还没有来得及完成……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24000" y="239724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每个人都希望梦想成真，成功却似乎远在天边遥不可及，倦怠和不自信让我们怀疑自己的能力，放弃努力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实，我们不必想以后的事，一年、一月、十天之后的事，只要想着今天我要作些什么，明天我该作些什么，然后努力去完成，就象钟一样，每秒“滴答”摆一下成功的喜悦就会慢慢浸润我们的生命。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91320" y="2133720"/>
            <a:ext cx="27414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执着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2959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08000" y="1052640"/>
            <a:ext cx="4402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制定计划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7" name=""/>
          <p:cNvSpPr/>
          <p:nvPr/>
        </p:nvSpPr>
        <p:spPr>
          <a:xfrm>
            <a:off x="2711520" y="2421000"/>
            <a:ext cx="400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成功永远属于有准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的人，没有详细的计划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就不会取得成功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252360" y="2492280"/>
            <a:ext cx="9396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268360" y="620640"/>
            <a:ext cx="4800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采取行动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60" name=""/>
          <p:cNvSpPr/>
          <p:nvPr/>
        </p:nvSpPr>
        <p:spPr>
          <a:xfrm>
            <a:off x="2062440" y="2421000"/>
            <a:ext cx="453924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因为我奋斗，所以我快乐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奋斗改变命运，梦想让我们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众不同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268360" y="836640"/>
            <a:ext cx="43974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坚持到底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62" name=""/>
          <p:cNvSpPr/>
          <p:nvPr/>
        </p:nvSpPr>
        <p:spPr>
          <a:xfrm>
            <a:off x="2176560" y="2492280"/>
            <a:ext cx="4479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成功者永不放弃，放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者决不会成功。坚持到底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决不放弃—成功的秘诀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00000" y="692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红岩上红梅开，千里冰霜脚下踩，三九严寒何所惧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昂首怒放花万朵，香飘云天外，唤醒百花齐开放，高歌欢庆新春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2852640"/>
            <a:ext cx="777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传统剧目《红梅赞》中的一段歌词，不畏严寒的梅花正是以江姐为代表的红岩英雄形象的化身，是顽强的意志，是战胜困难的信心铸就了如火的革命事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也是如此，当前，严冬成了我们最大的困难，寒冷正在考验着我们的信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284720" y="5805360"/>
            <a:ext cx="64764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6912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0"/>
            <a:ext cx="835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隶书"/>
                <a:ea typeface="隶书"/>
              </a:rPr>
              <a:t>距离期末考试还有</a:t>
            </a:r>
            <a:r>
              <a:rPr b="0" lang="zh-CN" sz="8800" spc="-1" strike="noStrike">
                <a:solidFill>
                  <a:srgbClr val="d60093"/>
                </a:solidFill>
                <a:latin typeface="Verdana"/>
                <a:ea typeface="MS UI Gothic"/>
              </a:rPr>
              <a:t>10</a:t>
            </a:r>
            <a:r>
              <a:rPr b="0" lang="zh-CN" sz="8800" spc="-1" strike="noStrike">
                <a:solidFill>
                  <a:srgbClr val="ffffff"/>
                </a:solidFill>
                <a:latin typeface="隶书"/>
                <a:ea typeface="隶书"/>
              </a:rPr>
              <a:t>天，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隶书"/>
                <a:ea typeface="隶书"/>
              </a:rPr>
              <a:t>同学们，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隶书"/>
                <a:ea typeface="隶书"/>
              </a:rPr>
              <a:t>加油吧！！！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22760" y="5227920"/>
            <a:ext cx="560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考出老师满意，自己称心，家长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的成绩，过一个心情愉快的春节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!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4360" y="62064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人生是一首诗。对人生的眷恋，对生活的热情，对未来的梦想，这是人生的原动力。我们不能缺乏追求。若缺乏这些，视读书为畏途，或觉得前路茫茫，即心如古井，死寂人生，哪还有什么趣味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人生需要有目标，且要始终如一，不能朝令夕改。只有这样，才有努力的方向，才容易出成果。有目标就会有追求，追求中才能展示你人生的光华，展示你人生的全部意义和价值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657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4360" y="206064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我们深知，期末考试是我们当前最大的目标，期末考试是我们展示学习奋斗成果的最重要的机会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40464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Aiming higher , Achieving Mor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87280" y="333360"/>
            <a:ext cx="6337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：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对期末考试，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对严寒，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准备好了吗？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72560" y="1700280"/>
            <a:ext cx="54079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面对期末考试 我们应该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</a:t>
            </a:r>
            <a:r>
              <a:rPr b="1" lang="zh-CN" sz="8800" spc="-1" strike="noStrike">
                <a:solidFill>
                  <a:srgbClr val="333399"/>
                </a:solidFill>
                <a:latin typeface="华文行楷"/>
                <a:ea typeface="华文行楷"/>
              </a:rPr>
              <a:t>直面风雨</a:t>
            </a:r>
            <a:r>
              <a:rPr b="1" lang="zh-CN" sz="7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    </a:t>
            </a:r>
            <a:r>
              <a:rPr b="1" lang="zh-CN" sz="8800" spc="-1" strike="noStrike">
                <a:solidFill>
                  <a:srgbClr val="333399"/>
                </a:solidFill>
                <a:latin typeface="华文行楷"/>
                <a:ea typeface="华文行楷"/>
              </a:rPr>
              <a:t>不懈追求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2133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期末考试的目标成为我们战斗的方向，让考试中的每一点成绩贮藏于我们收获知识的梁仓，让知识在考前复习的滚动中成为我们实现跨越的坚实的桥梁。有了这样的追求，有了饱满的内驱力，我们就有了最根本的动力，我们才有成功的渴望，我们就会燃烧拼搏的欲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36880" y="189000"/>
            <a:ext cx="429552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从今天开始，我们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更加饱满自己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内驱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11280" y="1773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寒冷成为检验我们能否实现十天冲刺的重要衡量，我们要增强抗拒学习中各种挫折、失败等因素的影响的能力。我们不应该因严冬而停止我们奋进的步伐，也不会让寒冷冻僵我们的信念，不会因暂时的摔倒而一落千丈。因为，坚强的意志力是在学习中收获成功的保障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9240" y="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从今天开始，我们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更加坚强自己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意志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4000" y="18288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没有集中的注意力，我们必将渐渐失去方向；没有集中的注意力，我们必将让短暂的复习时间消耗殆尽。是无聊的闲谈，是庸俗的交往，是频繁的打闹，是无边的遐想，在影响着我们的注意力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注意力才能全神贯注于书本，才能全身心投入于学习，有集中的注意力才有复习的效率，才能收获复习的最大效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35080" y="11736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从今天开始，我们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更加集中自己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注意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00:53:1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2:19Z</dcterms:modified>
  <cp:revision>5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