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11.gif" ContentType="image/gif"/>
  <Override PartName="/ppt/media/image9.wmf" ContentType="image/x-wmf"/>
  <Override PartName="/ppt/media/image6.wmf" ContentType="image/x-wmf"/>
  <Override PartName="/ppt/media/image19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10.wmf" ContentType="image/x-wmf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27.wmf" ContentType="image/x-wmf"/>
  <Override PartName="/ppt/media/image21.jpeg" ContentType="image/jpeg"/>
  <Override PartName="/ppt/media/image16.png" ContentType="image/png"/>
  <Override PartName="/ppt/media/image26.png" ContentType="image/png"/>
  <Override PartName="/ppt/media/image24.wmf" ContentType="image/x-wmf"/>
  <Override PartName="/ppt/media/image25.wmf" ContentType="image/x-wmf"/>
  <Override PartName="/ppt/media/image23.jpeg" ContentType="image/jpeg"/>
  <Override PartName="/ppt/media/image22.wmf" ContentType="image/x-wmf"/>
  <Override PartName="/ppt/media/image5.wmf" ContentType="image/x-wmf"/>
  <Override PartName="/ppt/media/image20.wmf" ContentType="image/x-wmf"/>
  <Override PartName="/ppt/media/image17.wmf" ContentType="image/x-wmf"/>
  <Override PartName="/ppt/media/image14.wmf" ContentType="image/x-wm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C2B-2980-48D3-A71A-48A73265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85B-A5FE-4DBC-BC2B-6C143E3C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679-1234-4F4A-AE7A-CF2F368C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27E-4DC4-41B9-A875-2073C5BB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0EC-D227-4647-964F-A90905D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800-2FAF-4341-A958-865618C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FF5-B8D9-4805-ACC3-232762F2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FC9-5B70-4F6D-A900-7E10EEB5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DD9-5043-4509-A9DD-8A61FE1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7E2-C41E-43C6-B12F-CDC9019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5A7-1601-430F-9F09-F9ED2C2B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7A3-B5C9-4386-8D20-16ED00DE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FCD2-8F0C-471A-BB9B-AC70AD500C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高二（</a:t>
            </a: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4</a:t>
            </a: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）班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期中考试成绩分析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68580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871240" y="1295280"/>
            <a:ext cx="789840" cy="228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10280" y="3962520"/>
            <a:ext cx="157824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762120" y="533520"/>
          <a:ext cx="4154400" cy="594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33520"/>
                    <a:ext cx="41544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058880" y="533520"/>
            <a:ext cx="789840" cy="2438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934320" y="3276720"/>
            <a:ext cx="2209680" cy="30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143000" y="380880"/>
          <a:ext cx="5029200" cy="586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880"/>
                    <a:ext cx="502920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81120" y="1143000"/>
            <a:ext cx="789840" cy="228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48520" y="4267080"/>
            <a:ext cx="2895480" cy="21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1447920" y="1066680"/>
          <a:ext cx="4724280" cy="401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066680"/>
                    <a:ext cx="472428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80880" y="304920"/>
          <a:ext cx="5715000" cy="632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04920"/>
                    <a:ext cx="5715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563520" y="457200"/>
            <a:ext cx="1399320" cy="2819520"/>
          </a:xfrm>
          <a:prstGeom prst="rect">
            <a:avLst/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步较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248520" y="3733920"/>
            <a:ext cx="25905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96840" y="304920"/>
            <a:ext cx="1399320" cy="28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步较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2660760"/>
            <a:ext cx="3733920" cy="41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85800" y="304920"/>
          <a:ext cx="4800600" cy="54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4920"/>
                    <a:ext cx="4800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14400" y="457200"/>
          <a:ext cx="5102280" cy="601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57200"/>
                    <a:ext cx="51022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709680" y="533520"/>
            <a:ext cx="1399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各科均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77120" y="2743200"/>
            <a:ext cx="262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2057400"/>
          <a:ext cx="807732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057400"/>
                    <a:ext cx="80773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914400" y="380880"/>
          <a:ext cx="2895480" cy="1501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380880"/>
                    <a:ext cx="28954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648320" y="38088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</a:rPr>
              <a:t>6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80880" y="2514600"/>
          <a:ext cx="8763120" cy="2895480"/>
        </p:xfrm>
        <a:graphic>
          <a:graphicData uri="http://schemas.openxmlformats.org/drawingml/2006/table">
            <a:tbl>
              <a:tblPr/>
              <a:tblGrid>
                <a:gridCol w="1252800"/>
                <a:gridCol w="1250640"/>
                <a:gridCol w="1252800"/>
                <a:gridCol w="1251000"/>
                <a:gridCol w="1252440"/>
                <a:gridCol w="1251000"/>
                <a:gridCol w="1252440"/>
              </a:tblGrid>
              <a:tr h="12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6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8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6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8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81280" y="1143000"/>
            <a:ext cx="2743200" cy="764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数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60020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914400" y="457200"/>
          <a:ext cx="5567400" cy="58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57200"/>
                    <a:ext cx="55674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886000" y="685800"/>
            <a:ext cx="2191320" cy="3581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533520"/>
          <a:ext cx="6095880" cy="543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60958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242480" y="762120"/>
            <a:ext cx="850680" cy="2743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前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629400" y="3733920"/>
            <a:ext cx="22096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33520" y="533520"/>
          <a:ext cx="6248160" cy="599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6248160" cy="59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6962760" y="990720"/>
            <a:ext cx="1521000" cy="2286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前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447920" y="1676520"/>
          <a:ext cx="6095880" cy="462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76520"/>
                    <a:ext cx="609588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71600" y="609480"/>
            <a:ext cx="4114800" cy="764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语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7848360" cy="5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143000" y="533520"/>
          <a:ext cx="4435560" cy="6019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33520"/>
                    <a:ext cx="443556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633360" y="1143000"/>
            <a:ext cx="789840" cy="2666880"/>
          </a:xfrm>
          <a:prstGeom prst="rect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019920" y="39625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09:0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2:26Z</dcterms:modified>
  <cp:revision>6</cp:revision>
  <dc:subject>主题班会课件(分28大类): http://shop62905894.taobao.com</dc:subject>
  <dc:title>主题班会课件(分28大类): http://shop62905894.taobao.com</dc:title>
</cp:coreProperties>
</file>