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12.jpeg" ContentType="image/jpe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6EB-FE41-41E2-98C6-32A83C74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27E-3B0B-4B44-ADA5-FC5E143F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E01-12E3-49B9-8A2D-66E3235A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748-E5D1-4DA2-A482-AB2AD612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82B-669B-437F-8AFB-CB702AAB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D34-CA50-4F8F-9D9A-E148F554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392-51D6-4283-B04E-2D6081D9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937-786D-4A0A-B25B-4E7BF7F0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56E-E46F-4B57-9CF7-B1674DBD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31B-03AE-4EF5-B521-C262CCAB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334-892B-4A37-87A4-28BC8C15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773-1ACF-4593-BC00-9E8638D4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CF61-8163-460E-8E41-44E4BB3DD2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66"/>
                </a:solidFill>
                <a:latin typeface="Arial"/>
              </a:rPr>
              <a:t>主题班会系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之一：期中考试后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我们如何进行心理调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Arial"/>
                <a:ea typeface="华文中宋"/>
              </a:rPr>
              <a:t>5</a:t>
            </a:r>
            <a:r>
              <a:rPr b="1" i="1" lang="zh-CN" sz="3600" spc="-1" strike="noStrike">
                <a:solidFill>
                  <a:srgbClr val="009999"/>
                </a:solidFill>
                <a:latin typeface="Arial"/>
                <a:ea typeface="华文中宋"/>
              </a:rPr>
              <a:t>．“埋怨愤怒”者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考试后不检查自己平时学习上存在的问题。不是埋怨老师试卷出得不好，就是埋怨老师没有复习到考题。不是埋怨考试题目太难，就是埋怨老师改卷太严。甚至抱怨没有作弊成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良药苦口：我们要好好反省，端正学习态度，明确学习是为什么？为谁学？学习基础较差的同学，要在学习方法加以改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9999"/>
                </a:solidFill>
                <a:latin typeface="Arial"/>
                <a:ea typeface="华文中宋"/>
              </a:rPr>
              <a:t>“</a:t>
            </a:r>
            <a:r>
              <a:rPr b="1" i="1" lang="zh-CN" sz="2800" spc="-1" strike="noStrike">
                <a:solidFill>
                  <a:srgbClr val="009999"/>
                </a:solidFill>
                <a:latin typeface="Arial"/>
                <a:ea typeface="华文中宋"/>
              </a:rPr>
              <a:t>满不在乎”者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考试后，瞄一下分数，试卷也不看一下，便扬长而去，表现的满不在乎。 有的甚至破罐子破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仿宋"/>
              </a:rPr>
              <a:t>我们应该对自己负责，这种现象我们学校恐怕极少，相信每一个同学都想考出好成绩，实现自己的自我价值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cc0000"/>
                </a:solidFill>
                <a:latin typeface="Arial"/>
                <a:ea typeface="黑体"/>
              </a:rPr>
              <a:t>我们应该怎么做呢？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6600"/>
                </a:solidFill>
                <a:latin typeface="Arial"/>
                <a:ea typeface="楷体_GB2312"/>
              </a:rPr>
              <a:t>其实，老师很理解大家的心情。做学生真的好难，考试前为那个未知的结果紧张焦虑，考完以后也不轻松，因为没有交出满意的试卷，不知道如何去面对老师、面对家长、面对同学，更不知道如何面对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彩云"/>
              </a:rPr>
              <a:t>那么我们考后是不是还需要掌握一些从容大计，以便能够更好地去迎接下一次的挑战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ff"/>
                </a:solidFill>
                <a:latin typeface="Arial"/>
                <a:ea typeface="方正姚体"/>
              </a:rPr>
              <a:t>其实，他人怎么看你对你并不是很重要，关键是你会怎么看自己。如果你能够在不幸的事件发生以后还对自己充满信心的话，那你总会有一天会达到自己的期望和要求的，而他们对你的看法也会随着你的变化而变化。可如果你自己都看不起自己，让自己失去信心而自暴自弃，那他人怎么看你都是没有任何意义的，因为你已经彻底地输给自己了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．关键你怎样看自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新宋体"/>
              </a:rPr>
              <a:t>看看你对考试失利的反应、感受、想法。除了害怕自己的父母对待自己的态度和方式外，有没有对自己很消极的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72800" cy="70866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．重要的是寻根究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6553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黑体"/>
              </a:rPr>
              <a:t>是什么造成现在的问题呢？如果真的是很努力了，那会不会是没有瞄准目标，或是力气用的不是地方。所以，好好查查发生事故的原因到底在什么地方。首先看看试题都错在哪儿？分析一下出错的原因是粗心？是没有记住公式？是不能融会贯通与灵活应变，还是没有真正理解和掌握知识点？然后和老师同学们沟通交流，看看是不是自己学习方法有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990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很多同学只重视考前复习，而忽视考后总结，不明白考试既是对前一阶段学习的总结，又是对以后学习的指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8381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．必须立即行动起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新宋体"/>
              </a:rPr>
              <a:t>其次是好好分析一下什么地方是可以努力和改变的，该改的改、该补的补。同时对以后的学习要重新作出合理的安排和计划，然后依旧认真努力地付出，相信你用辛勤的汗水灌溉的“大树”总会有枝繁叶茂、果实累累的那一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990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幼圆"/>
              </a:rPr>
              <a:t>首先是宣泄掉失利带给自己的消极情绪。如果能够让自己哭出来并不是一件坏事情，刘德华曾经高唱《男人哭吧，不是罪》，所以，泪水并不是软弱的象征，更不会影响你男子汉的形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6600"/>
                </a:solidFill>
                <a:latin typeface="Arial"/>
                <a:ea typeface="黑体"/>
              </a:rPr>
              <a:t>写在最后：高中学生要有“自反馈”过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人讲“吾日三省吾身”，学生要经常检查和反思自己的学习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天要将各科的课堂笔记复看一遍的习惯，理科的较难的例题还应复做一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要把本周的学习内容回顾一遍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一章学过后，要有归纳总结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考试过后要有分析试卷失分情况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都要查一查自己有没有完成自己定下的学习计划。还有没有留下疑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52578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相信通过同学们的努力，在平时的学习、考试中不断进取，一定能在高考中取得骄人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3399"/>
                </a:solidFill>
                <a:latin typeface="Arial"/>
              </a:rPr>
              <a:t>对于刚刚结束的高中期中考试</a:t>
            </a:r>
            <a:r>
              <a:rPr b="1" lang="zh-CN" sz="3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3399"/>
                </a:solidFill>
                <a:latin typeface="Arial"/>
              </a:rPr>
              <a:t>不知道同学们的心情怎么样？</a:t>
            </a:r>
            <a:br>
              <a:rPr sz="3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34320" y="2209680"/>
            <a:ext cx="1981080" cy="358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52388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不是有的同学认为自己考的还可以，心情不错；但大多数同学还是认为自己考的不理想，比较伤心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678168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专家提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考试结束了，大家都有一种如释重负的感觉。然而，此时的精神状态仍然是不能忽视的，因为考试结束并不意味着心理压力的自然消失。相反，随之而来的对考试结果的预测和获知，会让许多考生有不同程度的突发性心理冲突和出现生理紊乱现象。因此，此时的心理调适，与考试之前以及考试之中同样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活动：真心话大串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活动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9966"/>
                </a:solidFill>
                <a:latin typeface="Arial"/>
              </a:rPr>
              <a:t>、请匿名写一张小纸条待会儿统一交给班主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9966"/>
                </a:solidFill>
                <a:latin typeface="Arial"/>
              </a:rPr>
              <a:t>、纸条内容依次为：①期中考试考完后的心理感受②知道考试结果后的心理感受③总结经验制定下一步学习计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9966"/>
                </a:solidFill>
                <a:latin typeface="Arial"/>
              </a:rPr>
              <a:t>、以上三项内容各写一句话，但要精辟、真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刚才大家已经真实的面对了自己的问题，回头想一下，拿到成绩后的感受和刚刚考完的感受肯定是有差距的，大家也已经自己把考试总结写了下来。其实，最了解你的人就是你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考试不是为了别人，是为了自己，对自己负责的前提下剖析一下我们的心情。相信在没有作弊的前提下，考试后心态变化大概有这样几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不露声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春风得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懊恼不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伤心欲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埋怨愤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满不在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看你属于哪一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6600cc"/>
                </a:solidFill>
                <a:latin typeface="Arial"/>
                <a:ea typeface="幼圆"/>
              </a:rPr>
              <a:t>下面，咱们共同来对这些心理现象进行分析：</a:t>
            </a:r>
            <a:br>
              <a:rPr sz="5300"/>
            </a:b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629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7696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9999"/>
                </a:solidFill>
                <a:latin typeface="Arial"/>
                <a:ea typeface="华文中宋"/>
              </a:rPr>
              <a:t>1</a:t>
            </a:r>
            <a:r>
              <a:rPr b="1" i="1" lang="zh-CN" sz="3200" spc="-1" strike="noStrike">
                <a:solidFill>
                  <a:srgbClr val="009999"/>
                </a:solidFill>
                <a:latin typeface="Arial"/>
                <a:ea typeface="华文中宋"/>
              </a:rPr>
              <a:t>．“不露声色”者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归纳如下：学得扎实，考得好。自信心强，胜不骄，败不馁。有史以来，成绩稳定，始终保持优良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良药苦口：我们还是要肯定自己，不断鼓励自己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Arial"/>
                <a:ea typeface="华文中宋"/>
              </a:rPr>
              <a:t>2</a:t>
            </a:r>
            <a:r>
              <a:rPr b="1" i="1" lang="zh-CN" sz="3600" spc="-1" strike="noStrike">
                <a:solidFill>
                  <a:srgbClr val="009999"/>
                </a:solidFill>
                <a:latin typeface="Arial"/>
                <a:ea typeface="华文中宋"/>
              </a:rPr>
              <a:t>．“春风得意”者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归纳如下：考好后，往往会沾沾自喜，甚至会自我吹嘘。这样虽然能增加信心，但也会导致自满自足，给以后的学习带来浮躁，导致成绩一上一下，不稳定。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良药苦口：我们应该明确学习是一个长期的任务，需要有韧性，需要有高目标，知道山外有山、楼外楼，做到胜不骄，败不馁。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9999"/>
                </a:solidFill>
                <a:latin typeface="Arial"/>
                <a:ea typeface="华文中宋"/>
              </a:rPr>
              <a:t>3</a:t>
            </a:r>
            <a:r>
              <a:rPr b="1" i="1" lang="zh-CN" sz="3200" spc="-1" strike="noStrike">
                <a:solidFill>
                  <a:srgbClr val="009999"/>
                </a:solidFill>
                <a:latin typeface="Arial"/>
                <a:ea typeface="华文中宋"/>
              </a:rPr>
              <a:t>．“懊恼不已”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归纳如下：每次考试之后都会对自己的失误忏悔不已，不是说看错题目，就是说计算失误；不是说漏做了，就是说抄错答案。总是存在着侥幸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良药苦口：我们要从平时的每次作业开始克服粗心大意的毛病，平时学习要认真、扎实、细心和一丝不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9999"/>
                </a:solidFill>
                <a:latin typeface="Arial"/>
                <a:ea typeface="华文中宋"/>
              </a:rPr>
              <a:t>4</a:t>
            </a:r>
            <a:r>
              <a:rPr b="1" i="1" lang="zh-CN" sz="3200" spc="-1" strike="noStrike">
                <a:solidFill>
                  <a:srgbClr val="009999"/>
                </a:solidFill>
                <a:latin typeface="Arial"/>
                <a:ea typeface="华文中宋"/>
              </a:rPr>
              <a:t>．“伤心欲绝”者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归纳如下：对自己认识不够准确。考前往往盲目自信，准备不足。所以考试的成绩和自己的预料往往相差很大，心理上不能接受眼前的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仿宋"/>
              </a:rPr>
              <a:t>良药苦口：我们要认真分析试卷，对自己有一个较为客观的认识。既要克服盲目自信的心理，又要正确认识自己的能力，鼓起前进的勇气。</a:t>
            </a:r>
            <a:br>
              <a:rPr sz="2800"/>
            </a:br>
            <a:br>
              <a:rPr sz="800"/>
            </a:br>
            <a:r>
              <a:rPr b="1" lang="zh-CN" sz="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6600"/>
                </a:solidFill>
                <a:latin typeface="Arial"/>
                <a:ea typeface="幼圆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4:36:1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6:34Z</dcterms:modified>
  <cp:revision>1</cp:revision>
  <dc:subject>主题班会课件(分28大类): http://shop62905894.taobao.com</dc:subject>
  <dc:title>主题班会课件(分28大类): http://shop62905894.taobao.com</dc:title>
</cp:coreProperties>
</file>