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906-3CA8-42DB-83BE-D5709F87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165-976D-4EC5-A7CA-9F6D397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5D3-CA5A-4759-B4B3-D584A358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53B-4DEB-4B1C-92DA-072BF86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979D-C8C7-4500-8382-5537508E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1AE-BF82-4A05-99E7-96AFE5B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D4AC-D423-410B-B53E-D1E9A58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1C4-7BF0-40DC-8104-20D29ACB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496-F7F9-4B5D-A673-65F9625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2C1F-2198-4F74-B2FE-C403F725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F8E-B582-41DF-A281-FB4F7EB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0A1-374F-44AC-9DFE-F4EAFB9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1677-1092-4274-955C-2027755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E12-64E9-4435-8740-21485C9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7F9C-6132-4178-A959-2D6DC211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C84-600D-4A53-BACA-DE4F8F70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4852-6A07-4FB1-A0EE-22ADC826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AB4-F2B1-49CA-B2AA-DC663D3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67-CBE2-4A0A-9856-29F1976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BB0-4B49-480C-B2A8-C83B08F0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718-CDEF-4D8B-9041-430DD0F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431-3C25-4AF3-961B-0CFD74C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2DE-4D25-43DA-80F5-B9504B4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4B4-3FAA-44FD-B87E-57E194D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7D4-108D-4DE5-82A8-2CA8F5A609A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AD6-2477-4327-9FFA-2D580E20D25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50920" y="1989000"/>
            <a:ext cx="561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期中考试动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2701800" y="54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温馨提示：距离期中考试还有六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62064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期末考试还有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的时间，现在进入到考前的复习阶段，我们从来没有象今天这样体会到时间的宝贵。“宝贵”有两层含义，一则是指时间的有限性，它要求我们必须倍加珍惜，二则是时间的有用性，就是说这段考前的时间很有用，很关键，要求我们必须充分利用。考试专家分析，如果这十几天的复习都能科学有效的话，结果能使你总成绩再提高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好吓人，让人梦想！但仔细分析起来并不奇怪，也并非不可能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到语数外，每科只有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如果通过复习，巩固了基础，加强了审题、书写规范的训练，理清了知识体系，弄通了几个重要模糊点，想通了几个与考试相仿的题目，每科提高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——1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完全有可能的。因此，在今天的班会上，我要向同学们喊出一个口号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765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为</a:t>
            </a: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60</a:t>
            </a: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分而战！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就是我们考前的任务和目标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40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仔细制定一个考前复习计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268280"/>
            <a:ext cx="7777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到这时，有些同学就感到焦头烂额，不知道该怎么复习、复习哪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每科老师都有计划，老师经历过很多次考试，肯定比你有经验，要参照老师的计划安排，结合自身情况制订一个既与老师计划一致又符合自己实际的计划来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858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了复习计划，就要有效地利用时间。离期末考试只有一周多一点的时间了，时间对于我们来说相当重要，所以我们要以迎接期末考试的复习为重心。那么怎样才能在有限的时间内做更多的事情？我认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依靠学习技能，可以提高学习效率，这样就能完成更多的任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充分利用往往被浪费或认为无足轻重的小块时间，这样就能获得比别人更多的时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10447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365720"/>
            <a:ext cx="80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家长和老师最大的骄傲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981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你拼搏的身后是我们默默关注的目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01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8:34Z</dcterms:modified>
  <cp:revision>14</cp:revision>
  <dc:subject>主题班会课件(分28大类): http://shop62905894.taobao.com</dc:subject>
  <dc:title>主题班会课件(分28大类): http://shop62905894.taobao.com</dc:title>
</cp:coreProperties>
</file>