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B0E-19AD-440D-B60C-43833416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682-978B-42EB-A635-AC873AA0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8F1-C579-41D6-A867-CF587F13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005-8C16-4F75-A0DB-879EF5FD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ABDF-F9C2-401B-B9CB-7F0C6E45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0674-FA2D-446B-81BA-470425F4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B801-0C23-404B-A0BB-48BB3F3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ACF0-6510-4977-9AD8-096070F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E43-9A78-4B68-A0B1-844635E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C70A-14E5-481F-BC2B-ECEF3AA6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170D-B39D-41A8-8CED-79132B2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0C7-0871-4A51-AFB8-69980529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2AA3-5120-4912-8520-C9B3C12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5953-3D2A-46D8-B782-63A5B65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31CE-E802-4458-97C5-D5AC573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71A5-FF7D-46AD-9046-E194E7DD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4A6B-A3B8-4B03-A20D-6684C992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CB0-3B28-4C2D-A3C9-BB5C26ED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227-EBCB-48B4-A681-E153CCC4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254-8755-48B3-9B9D-8159AE3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2AB-69DA-493D-8EE9-DDFBAFFA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16A-460D-46A8-B58E-CFB6A2F0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A24-97AE-4AE3-9B99-C2C3549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767-0A01-4962-BF68-B52DEB5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125-498F-4E42-A407-BB17E0919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0B12-CF0B-48A0-AB55-2ACF82AA2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5i5d.com.cn/product/S1O17426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990720"/>
            <a:ext cx="7543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既然选择了远方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          </a:t>
            </a: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便只顾风雨兼程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040" y="189000"/>
            <a:ext cx="58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养成几个习惯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做笔记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回顾反思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整理基础知识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研究中考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研究试题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规范答题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考后分析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收集整理试卷的习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371600"/>
            <a:ext cx="3505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348800" y="1905120"/>
            <a:ext cx="478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今日事，今日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言必行，行必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切莫待明朝，万事成蹉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05df"/>
                </a:solidFill>
                <a:latin typeface="Arial"/>
              </a:rPr>
              <a:t>与期中比较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名次进步</a:t>
            </a:r>
            <a:r>
              <a:rPr b="1" lang="zh-CN" sz="4400" spc="-1" strike="noStrike">
                <a:solidFill>
                  <a:srgbClr val="1f05df"/>
                </a:solidFill>
                <a:latin typeface="Arial"/>
              </a:rPr>
              <a:t>的同学有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学如逆水行舟，不进则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心似平原走马，易放难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457200"/>
            <a:ext cx="61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df"/>
                </a:solidFill>
                <a:latin typeface="Arial"/>
              </a:rPr>
              <a:t>班级总分前十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09480" y="228600"/>
            <a:ext cx="81536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文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学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英语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政治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学年级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371600" y="2362320"/>
            <a:ext cx="6705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70cd8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认清自己很重要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70cd8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304920" y="152280"/>
            <a:ext cx="4876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由考试可以看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2" name=""/>
          <p:cNvSpPr/>
          <p:nvPr/>
        </p:nvSpPr>
        <p:spPr>
          <a:xfrm>
            <a:off x="1584000" y="1143000"/>
            <a:ext cx="499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有部分同学对学习没有足够的自信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175248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有部分同学没有明确的目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84000" y="2362320"/>
            <a:ext cx="49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有部分同学存在科目严重不平衡现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04440" y="2971800"/>
            <a:ext cx="127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有部分同学缺乏学习自觉性、自我约束力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67320" y="3581280"/>
            <a:ext cx="5821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??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部分同学学习基础薄弱和无良好的学习行为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造成学习困难的一个主要原因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638680" y="4876920"/>
            <a:ext cx="3287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38080" y="137160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70cd8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相信我们的老师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70cd8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133720" y="3429000"/>
            <a:ext cx="6019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70cd8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相信我们的集体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70cd8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295280" y="2286000"/>
            <a:ext cx="6782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70cd8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为明天的生存环境而努力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70cd8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5638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华文行楷"/>
              </a:rPr>
              <a:t>为搭上快车而奋斗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-76320" y="-305280"/>
            <a:ext cx="9220320" cy="64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在什么样的家庭环境中，受过什么样的教育，有什么样的朋友，有哪些自我意识、自我追求，也许就决定了我们的未来。我们说“性格决定命运”，这还是不够的，有时候甚至是“环境决定命运”。经济学和社会学有一个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“火车头”理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讲的是：</a:t>
            </a:r>
            <a:r>
              <a:rPr b="1" lang="zh-CN" sz="3200" spc="-1" strike="noStrike">
                <a:solidFill>
                  <a:srgbClr val="1f05df"/>
                </a:solidFill>
                <a:latin typeface="Arial"/>
              </a:rPr>
              <a:t>一个人跑得很慢，但他搭上了一部快车，而另一个人跑得很快，但他搭上了一部慢车，最后谁更快到达终点呢？可能是那个跑得很慢却搭上了快车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优质的学校走出来的人，人的精神面貌，对人生的期许都会与别人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080" y="1218960"/>
            <a:ext cx="884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华文行楷"/>
              </a:rPr>
              <a:t>能到达金字塔的只有两类英雄</a:t>
            </a:r>
            <a:br>
              <a:rPr sz="4800"/>
            </a:b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华文行楷"/>
              </a:rPr>
              <a:t>        ——鹰和蜗牛！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3733920"/>
            <a:ext cx="884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失败者通常都是成不了鹰，又不愿作蜗牛的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79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1:44Z</dcterms:modified>
  <cp:revision>9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