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B14F-2602-454E-935C-208BA2F91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81EA-1829-4FA9-963C-71E210D90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4A13-0D69-4635-BB59-B63990754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DF15-1310-44D4-A9AE-0A8AABE51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3A186-E404-4937-9656-2776227C5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5CAD7-C8F3-46B4-96E0-5F4D02271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FB247-8787-4398-846F-18638A02A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CA00E-EAB9-4A88-867B-0F6393227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33F2C-C27F-4E54-8BA6-DC63EBD63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EF91E-B876-4B88-9A40-167C5A284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527EE-09A7-462D-BC07-B73B48872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4DAC-CDC7-4046-8B35-8AF0CC8C9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54A13-092D-4745-B064-51B0EA5E1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CAC40-5EE3-4E9F-96B5-162DA050D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37F1F-81A6-4EBF-8373-DA5EF7229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3AA19-F6A9-494A-AAC6-E48AC4A13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0436F-99F3-42FD-9C55-38CC7B57F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273E-EF4D-4A45-A65B-C3C2D71A2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0BF2-DA99-4E7F-8210-DE34FB160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6523-2B39-4752-B69A-CC79849B6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3FFB-B838-422E-ACFF-3B0FE3FED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4663-ED06-4503-B892-AA608B5E2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52FE-66C2-4E7A-8077-E51B2593D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990D-0B5A-40CB-B35F-8DE6328F2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6201A-6288-42BE-9C5B-FE93B85C65E1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7B51B-7F18-4DDE-915E-21A0E56B0D1D}" type="slidenum">
              <a:rPr b="0" lang="zh-CN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cc"/>
                </a:solidFill>
                <a:latin typeface="Tahoma"/>
                <a:ea typeface="华文行楷"/>
              </a:rPr>
              <a:t>学习方法交流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  <a:ea typeface="华文行楷"/>
              </a:rPr>
              <a:t>制作者：刘婧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cc"/>
                </a:solidFill>
                <a:latin typeface="Tahoma"/>
                <a:ea typeface="华文行楷"/>
              </a:rPr>
              <a:t>我的学习步骤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  <a:ea typeface="华文行楷"/>
              </a:rPr>
              <a:t>作业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  <a:ea typeface="华文行楷"/>
              </a:rPr>
              <a:t>复习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  <a:ea typeface="华文行楷"/>
              </a:rPr>
              <a:t>预习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5076720" y="2133720"/>
            <a:ext cx="3527640" cy="403200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cc"/>
                </a:solidFill>
                <a:latin typeface="Tahoma"/>
                <a:ea typeface="华文行楷"/>
              </a:rPr>
              <a:t>作业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作用：巩固当日知识，帮助我们学会运用所学知识解决问题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精力分配：擅长科目——在短时间内尽量高质量完成；不擅长科目——将主要时间和精力放在上面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心态调整：有些或许你已经会了，有些你做过了，问问自己——再作一次我能拿满分吗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cc"/>
                </a:solidFill>
                <a:latin typeface="Tahoma"/>
                <a:ea typeface="华文行楷"/>
              </a:rPr>
              <a:t>复习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原因：我的记忆力不好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精力分配：与现在所学有关的知识忘记的先看，以免影响新知识的接受。复习的量和内容视当日情况而定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cc"/>
                </a:solidFill>
                <a:latin typeface="Tahoma"/>
                <a:ea typeface="华文行楷"/>
              </a:rPr>
              <a:t>自习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原因：北京的教材知识容量大而且分布杂。不预习上课会只是听懂却不知老师讲的哪里该记，哪里不用记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精力分配：不做过多习题，也尽量预习。可以课间提前扫一两眼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cc"/>
                </a:solidFill>
                <a:latin typeface="Tahoma"/>
                <a:ea typeface="华文行楷"/>
              </a:rPr>
              <a:t>日常生活调节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饮食：注意营养搭配。不偏食。对于身体好的即使不喜欢也要多吃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睡眠：尽可能让自己休息好。疲惫地熬夜看书不如睡好了再看。这样反而更省时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娱乐：调节心情，放松大脑。可以利用上下学路上的时间。（注意交通安全！）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cc"/>
                </a:solidFill>
                <a:latin typeface="Tahoma"/>
                <a:ea typeface="华文行楷"/>
              </a:rPr>
              <a:t>复课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其实都很实用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高考考什么，我们暂时学什么。复课可以帮我们扩宽视野，而且有专时。我们没什么要花课余玩的时间去扩宽视野呢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4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Tahoma"/>
                <a:ea typeface="华文行楷"/>
              </a:rPr>
              <a:t>希望对大家有所帮助，</a:t>
            </a:r>
            <a:br>
              <a:rPr sz="5400"/>
            </a:br>
            <a:r>
              <a:rPr b="0" lang="zh-CN" sz="5400" spc="-1" strike="noStrike">
                <a:solidFill>
                  <a:srgbClr val="ffffcc"/>
                </a:solidFill>
                <a:latin typeface="Tahoma"/>
                <a:ea typeface="华文行楷"/>
              </a:rPr>
              <a:t>谢谢观赏！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13:51:47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2:02:55Z</dcterms:modified>
  <cp:revision>7</cp:revision>
  <dc:subject>主题班会课件(分28大类): http://shop62905894.taobao.com</dc:subject>
  <dc:title>主题班会课件(分28大类): http://shop62905894.taobao.com</dc:title>
</cp:coreProperties>
</file>