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EB1-AAC2-42F4-A907-E8F0C052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F58E-FB13-4D1B-825E-C7570BB7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D23-CAD7-4CD9-BBAC-09923EA7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81F2-2257-4BDD-8E01-35216C93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9C6F-F3F2-498F-8E3C-45E9AB30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1E49-E019-4B69-A3B6-DD3C7CA2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14AE-514D-442B-98E2-2BA625F0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9385-2B98-4BA0-92F8-A8937EB5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411E-3047-481B-8BA2-94497663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1C94-2831-4FEF-B361-82705015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A9E0-AF7B-4FE9-826A-F126322F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B4E-C196-4B59-B438-82964C82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0FCA-0CF1-4AC3-A90C-FF1D8E68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8266-67B2-49AC-BF9E-8D1C256C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A744-FE99-4AEE-B44E-D32329BF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F06F-3F0E-47A2-BBE5-5677A048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491E-7C89-4BCE-93D6-08F92745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C8E-F065-45EB-9454-E316E70E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206-553C-46B8-83AC-67CD746F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6D8-F831-4B68-BAE2-608868CA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F42-997B-462E-83AC-D60CD93C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A17-CE90-4799-AF65-2729FE9F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EA1-FEBD-468C-AC2F-CD6D46A8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33F-FCC7-4B0F-9149-494E6D82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4C02-A4C9-4F40-A0C6-169C7290B566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F8CF-16BE-40DE-B07F-42BA2D3EC7C4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333360"/>
            <a:ext cx="8388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高二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(1)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最后动员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565360"/>
            <a:ext cx="9144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ff33"/>
                </a:solidFill>
                <a:latin typeface="Arial"/>
              </a:rPr>
              <a:t>苦不苦</a:t>
            </a:r>
            <a:r>
              <a:rPr b="0" lang="zh-CN" sz="66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0" lang="zh-CN" sz="6600" spc="-1" strike="noStrike">
                <a:solidFill>
                  <a:srgbClr val="66ff33"/>
                </a:solidFill>
                <a:latin typeface="Arial"/>
              </a:rPr>
              <a:t>想想家中的父母</a:t>
            </a:r>
            <a:r>
              <a:rPr b="0" lang="zh-CN" sz="66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ff33"/>
                </a:solidFill>
                <a:latin typeface="Arial"/>
              </a:rPr>
              <a:t>累不累</a:t>
            </a:r>
            <a:r>
              <a:rPr b="0" lang="zh-CN" sz="66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0" lang="zh-CN" sz="6600" spc="-1" strike="noStrike">
                <a:solidFill>
                  <a:srgbClr val="66ff33"/>
                </a:solidFill>
                <a:latin typeface="Arial"/>
              </a:rPr>
              <a:t>想想自己后半辈</a:t>
            </a:r>
            <a:r>
              <a:rPr b="0" lang="zh-CN" sz="6600" spc="-1" strike="noStrike">
                <a:solidFill>
                  <a:srgbClr val="66ff33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17120" y="3429000"/>
            <a:ext cx="326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直面风雨 不懈追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17120" y="2058840"/>
            <a:ext cx="326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面对联考 我们应该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38080" y="2286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让联考的目标成为我们战斗的方向，让考试中的每一点成绩贮藏于我们收获知识的梁仓，让知识在考前复习的滚动中成为我们实现跨越的坚实的桥梁。有了这样的追求，有了饱满的内驱力，我们就有了最根本的动力，我们才有成功的渴望，我们就会燃烧拼搏的欲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7480" y="914400"/>
            <a:ext cx="261900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从今天开始，我们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更加饱满自己的内驱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20574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让酷暑成为检验我们能否实现一个月冲刺的重要衡量，要让一定战胜酷暑成为我们做好一个月冲刺的精神力量。当然，我们还要增强抗拒学习中各种挫折、失败等因素的影响的能力。我们不应该因严冬而停止我们奋进的步伐，也不会让寒冷冻僵我们的信念，不会因暂时的摔倒而一落千丈。因为，坚强的意志力是在学习中收获成功的保障。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38200" y="1295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从今天开始，我们要更加坚强自己的意志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8288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没有集中的注意力，我们必将渐渐失去方向；没有集中的注意力，我们必将让短暂的复习时间消耗殆尽。是无聊的闲谈，是庸俗的交往，是频繁的打闹，是无边的遐想在影响着我们的注意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一学习的最关键因素。有注意力才能全神贯注于书本，才能全身心投入于学习，有集中的注意力才有复习的效率，才能收获复习的最大效益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61880" y="91440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从今天开始，我们要更加集中自己的注意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1523880"/>
            <a:ext cx="7543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同学们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内驱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根本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意志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保证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注意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键，有了它们，严寒和其他一切困难也仅仅是与我们做伴，甚至会更让我们发扬梅花的精神，将严寒和其他一切困难踩于脚下，我们定将昂首向前，与效率同行，共同铸就和收获联考的成绩与辉煌，共同欢庆你和我和范中又一个春天的到来。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523880" y="1371600"/>
            <a:ext cx="5029200" cy="4800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   </a:t>
            </a: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 rot="5400000">
            <a:off x="5074560" y="3070080"/>
            <a:ext cx="453708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哈尔滨大学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0920" y="2602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班 训</a:t>
            </a:r>
            <a:r>
              <a:rPr b="0" lang="zh-CN" sz="4400" spc="-1" strike="noStrike">
                <a:solidFill>
                  <a:srgbClr val="66ff33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74920" y="836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吃得苦中苦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,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方为人上人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2060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班级座右铭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781360"/>
            <a:ext cx="75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Aiming higher , Achieving More.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3573360"/>
            <a:ext cx="43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班级奋斗目标</a:t>
            </a:r>
            <a:r>
              <a:rPr b="0" lang="zh-CN" sz="4400" spc="-1" strike="noStrike">
                <a:solidFill>
                  <a:srgbClr val="00ff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4292640"/>
            <a:ext cx="6769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今天拼搏在范中</a:t>
            </a:r>
            <a:r>
              <a:rPr b="0" lang="zh-CN" sz="4800" spc="-1" strike="noStrike">
                <a:solidFill>
                  <a:srgbClr val="ff33cc"/>
                </a:solidFill>
                <a:latin typeface="Times New Roman"/>
              </a:rPr>
              <a:t>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Times New Roman"/>
              </a:rPr>
              <a:t>         </a:t>
            </a:r>
            <a:r>
              <a:rPr b="0" lang="zh-CN" sz="48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明天相聚在名校</a:t>
            </a:r>
            <a:r>
              <a:rPr b="0" lang="zh-CN" sz="4800" spc="-1" strike="noStrike">
                <a:solidFill>
                  <a:srgbClr val="ff33cc"/>
                </a:solidFill>
                <a:latin typeface="Times New Roman"/>
              </a:rPr>
              <a:t>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5400000">
            <a:off x="5904720" y="2527920"/>
            <a:ext cx="4392720" cy="11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华文行楷"/>
              </a:rPr>
              <a:t>武汉大学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华文行楷"/>
              <a:ea typeface="华文行楷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65440" y="2232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167652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7572"/>
                </a:solidFill>
                <a:latin typeface="Arial"/>
                <a:ea typeface="创艺简隶书"/>
              </a:rPr>
              <a:t>战严寒磨意志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7572"/>
                </a:solidFill>
                <a:latin typeface="Arial"/>
                <a:ea typeface="创艺简隶书"/>
              </a:rPr>
              <a:t>创联考辉煌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886200"/>
            <a:ext cx="432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范水高级中学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10666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红岩上红梅开，千里冰霜脚下踩，三九严寒何所惧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昂首怒放花万朵，香飘云天外，唤醒百花齐开放，高歌欢庆新春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32004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传统剧目《红梅赞》中的一段歌词，不畏严寒的梅花正是以江姐为代表的红岩英雄形象的化身，是顽强的意志，是战胜困难的信心铸就了如火的革命事业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也是如此，当前，严冬成了我们最大的困难，寒冷正在考验着我们的信念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7057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8380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人生是一首诗。对人生的眷恋，对生活的热情，对未来的梦想，这是人生的原动力。我们不能缺乏追求。若缺乏这些，视读书为畏途，或觉得前路茫茫，即心如古井，死寂人生，那还有什么趣味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36576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人生需要有目标，且要始终如一，不能朝令夕改。只有这样，才有努力的方向，才容易出成果。有目标就会有追求，追求中才能展示你人生的光华，展示你人生的全部意义和价值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19320" y="205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但我们深知，联考是我们当前最大的目标，联考是我们展示学习奋斗成果的最重要的机会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38080" y="160020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面对联考，面对严寒，你准备好了吗？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3840" y="0"/>
            <a:ext cx="88963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80640" y="1676520"/>
            <a:ext cx="36918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盖士人读书，第一要有志，第二要有识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第三要有恒。有志则断不敢为下流，有识则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知学问之无尽，不敢以一得以自足，如河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之观海，如井蛙之观天，皆无识也。有恒则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断无不成之事。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     ——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《曾国藩家书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76720" y="1981080"/>
            <a:ext cx="38862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黑体"/>
                <a:ea typeface="黑体"/>
              </a:rPr>
              <a:t>追求卓越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4:44:0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4:23Z</dcterms:modified>
  <cp:revision>114</cp:revision>
  <dc:subject>主题班会课件(分28大类): http://shop62905894.taobao.com</dc:subject>
  <dc:title>主题班会课件(分28大类): http://shop62905894.taobao.com</dc:title>
</cp:coreProperties>
</file>