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899-8D9F-4129-80EA-8FA9FBBC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A14-1B63-4C46-83EB-C54470A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D05-87B0-4014-BC16-74102769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558-1E8D-4978-BD22-25502106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23A-74CF-47CD-A38F-EF562C0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F33-9F2C-411F-8CD2-8E6A12E7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9A9-2072-4A14-BC14-26D0D78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CEE-7E07-41A9-B27B-7CC8A059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C27-5D05-4E4B-A584-B260F9C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7B9-57BA-4124-A860-B67C26A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5CA-BE87-4568-97BB-079AA56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661-C138-43F8-9C4E-E7C5CD3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C6B-D1F4-492D-9779-5354DE90B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268280"/>
            <a:ext cx="727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习方法、策略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4128480" y="40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、学习方法不当的诊断与对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常见的不良学习方法有以下几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缺乏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计划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心二用的不良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马虎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应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忽视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基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偏重钻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4603680"/>
            <a:ext cx="53658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造成学习方法不当的主要原因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缺乏正确的学习目的和端正的学习态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意志力薄弱、缺乏进取精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压力过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生受社会上“学习无用”、“及时享乐”等错误观念的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五、学习适应问题的诊断与对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学习适应性主要表现在以下几个大的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态度是否端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有无积极的学习热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的计划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课堂听讲的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阅读和记笔记的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记忆和思考的策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应试的方法和策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环境的影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24360" y="3645000"/>
            <a:ext cx="3237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35560" y="1197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问题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09680"/>
            <a:ext cx="84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科学运用学习策略    努力提高学习绩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80769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目标设置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认识目标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正确估计目标实现的可能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设置目标要长短结合，形成系统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要学会把当前目标具体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要不间断地给自己提出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计划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优先保证预习和复习两大环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文理科学习内容交叉搭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妥善安排集中时间和零散的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选择适宜的学习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注意劳逸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时间利用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按任务的轻重缓急安排学习和工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作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确定适合自己的有效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有效利用“黄金时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主动利用零散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习方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预习内容不要过多过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合理控制预习的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不同学科的预习需要分别对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预习方式选择：浏览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评点式、  探讨式、技能训练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复习式、  辅助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听课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掌握预习的有效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提高听课的动机，做到主动听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培养良好的注意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养成记课堂笔记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上课做到：专心、主动、五到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卫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复习方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尝试回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钻研教科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整理笔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看参考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2353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最近班级整体状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在学习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已形成良好的学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自习纪律很好，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自习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仍然不能很快进入状态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个别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话（或讨论问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课已没有人瞎闹了；各任课老师反映很好！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能认真完成，少数同学改变很多，但仍然有个别同学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抄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阅读方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制定计划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循序渐近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博专兼顾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多思善疑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86400" y="2666880"/>
            <a:ext cx="2895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应试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充分做好考前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注意用脑卫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对考试有一个合理的期望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给自己积极的自我暗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注意身体健康，加强自我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掌握应对考试焦虑的有效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合理安排答题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纪律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体已形成良好的班风，但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不在时，有人讲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时纪律由大家自己管理，每一位同学都有管理权，主要由值日班长、盛廷俊、孙萌管理，如不好则此三人都不称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玩文曲星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强、李巍、马丽军、王成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值日卫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值日生早晨值日比较到，但中午、晚读前有部分值日生不到位，大家保洁工作不够好，有乱扔现象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值日不认真的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丽、王梦颖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理纸篓一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宿舍值日整体比较好，特别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3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差：男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3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厚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女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3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549360"/>
            <a:ext cx="813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黑体"/>
              </a:rPr>
              <a:t>学习困难的合理归因与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76197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、影响学习成绩的主要因素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智力因素对学习成绩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非智力因素对学习成绩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情绪情感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意志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5)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018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学习技能障碍的诊断与对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业不良的学生群体中，学习技能方面存在障碍的现象比较普遍，主要表现为以下几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课堂听讲的能力比较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语言表达能力欠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阅读技能障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书面语言表达能力较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48360" y="2637000"/>
            <a:ext cx="15145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改进记忆策略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加深对记忆内容的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多感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协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回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过度学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运用记忆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28641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、学习环境不良的诊断与对策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家庭环境状况不良的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校环境不良的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生关系紧张；同学关系紧张；班级学习气氛差、缺乏组织纪律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社会环境不良的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环境差、缺乏文化氛围；错误或消极的社会观念；结交不良朋友、产生品行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40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3:07Z</dcterms:modified>
  <cp:revision>1</cp:revision>
  <dc:subject>主题班会课件(分28大类): http://shop62905894.taobao.com</dc:subject>
  <dc:title>主题班会课件(分28大类): http://shop62905894.taobao.com</dc:title>
</cp:coreProperties>
</file>