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B6C-C246-4868-86EE-8AF5A484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996-B002-423B-BC38-4015B8FB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AE1-4D04-4119-9337-57AF8921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6DC-EE20-4174-A226-A292F1B8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B4D-9182-45CD-A2F0-D62F97A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C10-D363-4496-880D-C667AE4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A51-4A7B-445C-A89F-6C6AD4B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250-6956-4CF3-B9FF-59F0DFF3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F3D-ADC8-4F48-8654-3C2008DE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F16-7A6A-4F3F-B58E-4A78F68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95B-2B17-40ED-A1CC-CDD9313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9D0-F79C-4AD2-888F-6EEF17E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5B55-F058-46C3-A81D-A92BA47ECF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理科要想学好我觉得应该从以下几个方面入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是要通过认真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学习、思考、总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断提高自己对理科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兴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有了兴趣你就容易走进理科这个殿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是要重视老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课讲课的内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做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专心听讲、思维活跃、勤于动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也就是对老师讲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基本概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集中注意力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每个概念的含义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深刻领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老师讲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例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要迅速理出自己的思路，对照老师的解法看看有何不同，若是不同就要迅速判断是对还是错，要是错了一定要找到错误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是相同，更好能找出其它的方法，近而能总结出解决这一类问题的其它方法，不断提高自己解决理科问题的能力，为学好理科打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是要重视老师留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课外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做作业时一定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勤于思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认真对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从中挖掘自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解题的方法和能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是重视作业以外的一定量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习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练习，题目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精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选择一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典型的题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做的过程中，注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题多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只追求数量，题见多了解题的能力也就提高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五条一定要重视理科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章节的总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将分散的知识连贯起来，相溶于混淆的知识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理解透彻，融汇贯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，想学好理科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提高兴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必须准备好要吃大苦，因为理科它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着重理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科目，不下功夫就不可能提高学好理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是也希望你对理科不要有一种惧怕的情感，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敢于摸索、敢于探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总结出自己学好理科的一套方法和规律。最后祝愿你早日把理科学好，为学好其他学科打下基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3:11Z</dcterms:modified>
  <cp:revision>1</cp:revision>
  <dc:subject>主题班会课件(分28大类): http://shop62905894.taobao.com</dc:subject>
  <dc:title>主题班会课件(分28大类): http://shop62905894.taobao.com</dc:title>
</cp:coreProperties>
</file>