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gif" ContentType="image/gif"/>
  <Override PartName="/ppt/media/image10.gif" ContentType="image/gif"/>
  <Override PartName="/ppt/media/image1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5.gif" ContentType="image/gif"/>
  <Override PartName="/ppt/media/image15.gif" ContentType="image/gif"/>
  <Override PartName="/ppt/media/image7.jpeg" ContentType="image/jpeg"/>
  <Override PartName="/ppt/media/image1.jpeg" ContentType="image/jpe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B28-FE0A-4EE7-AA35-0C162088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84F-B1F6-48E7-81C1-D58DF3EB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779-101F-4379-AE00-59AD1DC2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33D-4BF6-4017-AB1D-723F29BA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512-EEF7-4508-92CC-22B2AB80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5AF-2F37-4813-90FC-C5AA9093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8CE-8FC2-45D3-B22C-AFA2222B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5AD-6756-40A1-9B56-77BBACA9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E2B-3538-46E5-B6AE-07A03EBE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955-3665-4A5C-9F5F-BA99F19B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912-1537-47D3-996F-3808DBE6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650-4282-494B-8257-16624B77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46AC-F2EC-4FF6-B148-E20056C04B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4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gi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gif"/><Relationship Id="rId3" Type="http://schemas.openxmlformats.org/officeDocument/2006/relationships/slide" Target="slide10.xml"/><Relationship Id="rId4" Type="http://schemas.openxmlformats.org/officeDocument/2006/relationships/image" Target="../media/image3.gif"/><Relationship Id="rId5" Type="http://schemas.openxmlformats.org/officeDocument/2006/relationships/slide" Target="slide7.xml"/><Relationship Id="rId6" Type="http://schemas.openxmlformats.org/officeDocument/2006/relationships/image" Target="../media/image4.gif"/><Relationship Id="rId7" Type="http://schemas.openxmlformats.org/officeDocument/2006/relationships/slide" Target="slide9.xm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面对考试焦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62720" y="2362320"/>
            <a:ext cx="304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一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2286000"/>
            <a:ext cx="4800600" cy="4114800"/>
            <a:chOff x="990720" y="2286000"/>
            <a:chExt cx="4800600" cy="4114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219320" y="2286000"/>
              <a:ext cx="4381560" cy="38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990720" y="5410080"/>
              <a:ext cx="4800600" cy="9907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90720" y="563868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文鼎石头体"/>
                </a:rPr>
                <a:t>唉… 我是怎么了… …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57600" y="4876920"/>
              <a:ext cx="838080" cy="609480"/>
            </a:xfrm>
            <a:prstGeom prst="rtTriangle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行为上比较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朝三暮四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7391520" y="54864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今社会，企业的竞争已逐步转化为人才的竞争。于是，社会对学历的要求也在逐步提高，更多的人渴望接受高等教育。九十年代以来，上海市高考学生人数连年增长，现在，高考又取消了年龄的限制，虽然各高校已加大了扩招力度，但却还远远跟不上考生的增长速度。因此，高考竞争还将更加激烈，社会对人才的要求也将水涨船高。这就在无形中又给你们增加了压力。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572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大家应当知道的一些现实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据调查，大约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％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％的学生对考试存在着不同程度的焦虑，特别是学习基础比较差、性格比较内向、学习方法不够灵活的学生最容易产生考试焦虑症状，有的学生还伴有失眠和神经衰弱等症状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们对天天重复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吃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就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老一套生活方式往往感到腻烦，在学习遇到困难时，也会产生厌烦感。在厌烦感起主导作用的心理机制下，大脑对外界的刺激常处于“休眠” 状态，学什么都学不进去，因而更会增大了心理焦虑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焦虑一方面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现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对所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霹雳体"/>
              </a:rPr>
              <a:t>学科很无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霹雳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霹雳体"/>
              </a:rPr>
              <a:t>我就是学不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霹雳体"/>
              </a:rPr>
              <a:t>~~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香肠体"/>
              </a:rPr>
              <a:t>不愿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霹雳体"/>
              </a:rPr>
              <a:t>~~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霹雳体"/>
              </a:rPr>
              <a:t>好催眠的课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霹雳体"/>
              </a:rPr>
              <a:t>~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面对考试为什么会出现焦虑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考试看得太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0" y="29718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文鼎香肠体"/>
              </a:rPr>
              <a:t>太无聊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石头体"/>
              </a:rPr>
              <a:t>。。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191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石头体"/>
              </a:rPr>
              <a:t>神经质了。。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5334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石头体"/>
              </a:rPr>
              <a:t>太拼命了。。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7971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文鼎石头体"/>
              </a:rPr>
              <a:t>思想错乱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石头体"/>
              </a:rPr>
              <a:t>。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1219320"/>
            <a:ext cx="4800600" cy="3485880"/>
            <a:chOff x="228600" y="1219320"/>
            <a:chExt cx="4800600" cy="348588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228600" y="1219320"/>
              <a:ext cx="4648320" cy="34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219320" y="297180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文鼎石头体"/>
                </a:rPr>
                <a:t>杞人        天。。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429000"/>
            <a:ext cx="3886200" cy="2286000"/>
            <a:chOff x="1143000" y="3429000"/>
            <a:chExt cx="3886200" cy="22860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1143000" y="342900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218960" y="42670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文鼎石头体"/>
                </a:rPr>
                <a:t>外部        力。。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54100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石头体"/>
              </a:rPr>
              <a:t>大脑休息不足 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怎么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说也不要想：“这次考试，我肯定考不好”、“成绩不好，我怎么向父母交差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研究表明，积极的自我暗示、自我鼓励能唤起人良好的情绪，而消极的自我暗示则会使人产生不良情绪。 “放松、放松、放松” “平静、平静、平静” “我行、我行、我行” 。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14600" y="990720"/>
            <a:ext cx="4800240" cy="5333400"/>
            <a:chOff x="2514600" y="990720"/>
            <a:chExt cx="4800240" cy="5333400"/>
          </a:xfrm>
        </p:grpSpPr>
        <p:grpSp>
          <p:nvGrpSpPr>
            <p:cNvPr id="102" name=""/>
            <p:cNvGrpSpPr/>
            <p:nvPr/>
          </p:nvGrpSpPr>
          <p:grpSpPr>
            <a:xfrm>
              <a:off x="2514600" y="990720"/>
              <a:ext cx="4800240" cy="5333400"/>
              <a:chOff x="2514600" y="990720"/>
              <a:chExt cx="4800240" cy="5333400"/>
            </a:xfrm>
          </p:grpSpPr>
          <p:pic>
            <p:nvPicPr>
              <p:cNvPr id="1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14600" y="990720"/>
                <a:ext cx="4014360" cy="464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" name=""/>
              <p:cNvGrpSpPr/>
              <p:nvPr/>
            </p:nvGrpSpPr>
            <p:grpSpPr>
              <a:xfrm>
                <a:off x="4014720" y="4419360"/>
                <a:ext cx="3300120" cy="1904760"/>
                <a:chOff x="4014720" y="4419360"/>
                <a:chExt cx="3300120" cy="1904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014720" y="4419360"/>
                  <a:ext cx="3300120" cy="1904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766040" y="5027040"/>
                  <a:ext cx="23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  <a:ea typeface="文鼎石头体"/>
                    </a:rPr>
                    <a:t>我很强</a:t>
                  </a: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  <a:ea typeface="文鼎石头体"/>
                    </a:rPr>
                    <a:t>!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" name=""/>
            <p:cNvSpPr/>
            <p:nvPr/>
          </p:nvSpPr>
          <p:spPr>
            <a:xfrm>
              <a:off x="4724280" y="39625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3581280"/>
              <a:ext cx="60984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3200400"/>
              <a:ext cx="4572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2819520"/>
              <a:ext cx="22860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充分的复习准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只要尽力而为，也就没什么可遗憾的了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对确定的东西、掌握得住的东西才会有安全感、才不会慌乱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考试作为自己已有知识和才能的一种检验，是战胜自我、锻炼意志的一次挑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制定考前复习策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教材为本。无论是大考还是小考，总不可能脱离教材出题，这是毫无疑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视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集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。要重视旧错的收集整理。平时出现的错误，由于心理定势的影响，经过一次改正，大脑很难清除它们的痕迹。事过数月或更长时间后，如果把正确的与错误的混在一起，大脑往往很难分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562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集中关押，登录在案 ，待到考前，一一算帐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希望大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战术上重视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战略上藐视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33526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文鼎霹雳体"/>
              </a:rPr>
              <a:t>（考试并没有什么了不起，跟平时作业差不多，只不过是“作业”的分量重了，“作业”的时间长了，根本不值得害怕，要做到在战略上藐视考试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5105520" y="304920"/>
            <a:ext cx="4038480" cy="3200400"/>
            <a:chOff x="5105520" y="304920"/>
            <a:chExt cx="4038480" cy="3200400"/>
          </a:xfrm>
        </p:grpSpPr>
        <p:grpSp>
          <p:nvGrpSpPr>
            <p:cNvPr id="121" name=""/>
            <p:cNvGrpSpPr/>
            <p:nvPr/>
          </p:nvGrpSpPr>
          <p:grpSpPr>
            <a:xfrm>
              <a:off x="5105520" y="304920"/>
              <a:ext cx="4038480" cy="3200400"/>
              <a:chOff x="5105520" y="304920"/>
              <a:chExt cx="4038480" cy="3200400"/>
            </a:xfrm>
          </p:grpSpPr>
          <p:pic>
            <p:nvPicPr>
              <p:cNvPr id="1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304920"/>
                <a:ext cx="3809880" cy="2857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3" name=""/>
              <p:cNvGrpSpPr/>
              <p:nvPr/>
            </p:nvGrpSpPr>
            <p:grpSpPr>
              <a:xfrm>
                <a:off x="7010280" y="2362320"/>
                <a:ext cx="2133720" cy="1143000"/>
                <a:chOff x="7010280" y="2362320"/>
                <a:chExt cx="2133720" cy="11430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010280" y="2362320"/>
                  <a:ext cx="2133720" cy="1143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96080" y="2590920"/>
                  <a:ext cx="1447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99"/>
                      </a:solidFill>
                      <a:latin typeface="Arial"/>
                      <a:ea typeface="文鼎石头体"/>
                    </a:rPr>
                    <a:t>哼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6781680" y="251460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会放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放松的步骤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舒服的姿势坐好，保持身体两边的平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鼻子深深地、慢慢地吸气，再用嘴巴慢慢地吐出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象身体各部位的放松，放松的顺序：脚、双腿、背部、颈、手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800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焦虑是人的一种正常反应，任何一个人面对一个有压力的情景或时候，都会有焦虑。这是人所具有的本能的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适度焦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凡事都有个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过度焦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3124080"/>
            <a:ext cx="685800" cy="2362320"/>
          </a:xfrm>
          <a:custGeom>
            <a:avLst/>
            <a:gdLst>
              <a:gd name="textAreaLeft" fmla="*/ 438120 w 685800"/>
              <a:gd name="textAreaRight" fmla="*/ 686160 w 6858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2120" y="2971800"/>
            <a:ext cx="8001000" cy="3276360"/>
            <a:chOff x="762120" y="2971800"/>
            <a:chExt cx="8001000" cy="3276360"/>
          </a:xfrm>
        </p:grpSpPr>
        <p:sp>
          <p:nvSpPr>
            <p:cNvPr id="51" name=""/>
            <p:cNvSpPr/>
            <p:nvPr/>
          </p:nvSpPr>
          <p:spPr>
            <a:xfrm>
              <a:off x="762120" y="2971800"/>
              <a:ext cx="8001000" cy="3276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7920" y="3429000"/>
              <a:ext cx="6248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文鼎石头体"/>
                </a:rPr>
                <a:t>But………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睡眠消除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消除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趣消除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绪宣泄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疗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乐疗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86200" y="914400"/>
            <a:ext cx="5048280" cy="4400640"/>
            <a:chOff x="3886200" y="914400"/>
            <a:chExt cx="5048280" cy="44006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3886200" y="1523880"/>
              <a:ext cx="5048280" cy="37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5181480" y="914400"/>
              <a:ext cx="3580920" cy="1602720"/>
              <a:chOff x="5181480" y="914400"/>
              <a:chExt cx="3580920" cy="16027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5486400" y="914400"/>
                <a:ext cx="3276000" cy="1221480"/>
                <a:chOff x="5486400" y="914400"/>
                <a:chExt cx="3276000" cy="12214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629040" y="1143000"/>
                  <a:ext cx="213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  <a:ea typeface="文鼎石头体"/>
                    </a:rPr>
                    <a:t>zz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" name=""/>
                <p:cNvGrpSpPr/>
                <p:nvPr/>
              </p:nvGrpSpPr>
              <p:grpSpPr>
                <a:xfrm>
                  <a:off x="5486400" y="914400"/>
                  <a:ext cx="2971080" cy="1221480"/>
                  <a:chOff x="5486400" y="914400"/>
                  <a:chExt cx="2971080" cy="12214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5486400" y="1676160"/>
                    <a:ext cx="152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Arial"/>
                        <a:ea typeface="文鼎石头体"/>
                      </a:rPr>
                      <a:t>zz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866920" y="1295280"/>
                    <a:ext cx="2133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Arial"/>
                        <a:ea typeface="文鼎石头体"/>
                      </a:rPr>
                      <a:t>zz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248160" y="914400"/>
                    <a:ext cx="21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Arial"/>
                        <a:ea typeface="文鼎石头体"/>
                      </a:rPr>
                      <a:t>zz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324120" y="1371240"/>
                    <a:ext cx="2133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Arial"/>
                        <a:ea typeface="文鼎石头体"/>
                      </a:rPr>
                      <a:t>zz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"/>
              <p:cNvSpPr/>
              <p:nvPr/>
            </p:nvSpPr>
            <p:spPr>
              <a:xfrm>
                <a:off x="5181480" y="20574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文鼎石头体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4167000" cy="3106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2819520" y="457200"/>
            <a:ext cx="4800600" cy="5999040"/>
            <a:chOff x="2819520" y="457200"/>
            <a:chExt cx="4800600" cy="5999040"/>
          </a:xfrm>
        </p:grpSpPr>
        <p:grpSp>
          <p:nvGrpSpPr>
            <p:cNvPr id="145" name=""/>
            <p:cNvGrpSpPr/>
            <p:nvPr/>
          </p:nvGrpSpPr>
          <p:grpSpPr>
            <a:xfrm>
              <a:off x="2819520" y="457200"/>
              <a:ext cx="2971800" cy="5999040"/>
              <a:chOff x="2819520" y="457200"/>
              <a:chExt cx="2971800" cy="5999040"/>
            </a:xfrm>
          </p:grpSpPr>
          <p:pic>
            <p:nvPicPr>
              <p:cNvPr id="1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19520" y="457200"/>
                <a:ext cx="2971800" cy="396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19520" y="3124080"/>
                <a:ext cx="2895480" cy="333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"/>
            <p:cNvSpPr/>
            <p:nvPr/>
          </p:nvSpPr>
          <p:spPr>
            <a:xfrm>
              <a:off x="6324480" y="1752480"/>
              <a:ext cx="1295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文鼎霹雳体"/>
                  <a:ea typeface="文鼎霹雳体"/>
                </a:rPr>
                <a:t>找个安静的地方大哭大笑去吧</a:t>
              </a:r>
              <a:r>
                <a:rPr b="0" lang="zh-CN" sz="2800" spc="-1" strike="noStrike">
                  <a:solidFill>
                    <a:srgbClr val="000099"/>
                  </a:solidFill>
                  <a:latin typeface="文鼎霹雳体"/>
                  <a:ea typeface="文鼎霹雳体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33520" y="609480"/>
            <a:ext cx="7924680" cy="5099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2362320" y="12952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76320" y="3049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科学用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、听、读、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交替进行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一段时间后，适当休息一下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按照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记忆规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生物节律来组织复习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中复习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散复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适宜在复习内容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缺乏兴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容易疲劳时使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间隔复习：遗忘的规律是先快后慢，所以要注意间隔复习，间隔时间是先短后长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物节律： 精力充沛时用来复习有难度的部分，轻微疲劳时，用来复习容易的部分。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度学习：复习量达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记忆效果最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(6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尝试背诵：边阅读边背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与背诵交替进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效果好于单纯阅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讲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目标策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根据自己各科的基础和学习现状，制定相应不同的分数目标，有策略地复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认清自己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习风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明白每个人的学习风格不一样，不要盲目与他人比较，制定适合自己的复习计划最重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必要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借用外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向他人请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充分利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零碎时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如走路时、睡着前用来记忆或回忆单词、公式等需背诵的知识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990360"/>
            <a:ext cx="2057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家仍需努把力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048120"/>
            <a:ext cx="1005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文鼎石头体"/>
              </a:rPr>
              <a:t>班会结束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048120" y="304920"/>
            <a:ext cx="5561640" cy="8381160"/>
            <a:chOff x="3048120" y="304920"/>
            <a:chExt cx="5561640" cy="83811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3048120" y="304920"/>
              <a:ext cx="5561640" cy="64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446520" y="435960"/>
              <a:ext cx="2163240" cy="6285960"/>
            </a:xfrm>
            <a:custGeom>
              <a:avLst/>
              <a:gdLst>
                <a:gd name="textAreaLeft" fmla="*/ 105480 w 2163240"/>
                <a:gd name="textAreaRight" fmla="*/ 2057760 w 2163240"/>
                <a:gd name="textAreaTop" fmla="*/ 105480 h 6285960"/>
                <a:gd name="textAreaBottom" fmla="*/ 6180480 h 6285960"/>
              </a:gdLst>
              <a:ahLst/>
              <a:rect l="textAreaLeft" t="textAreaTop" r="textAreaRight" b="textAreaBottom"/>
              <a:pathLst>
                <a:path w="21600" h="62759">
                  <a:moveTo>
                    <a:pt x="3600" y="0"/>
                  </a:moveTo>
                  <a:arcTo wR="3600" hR="3600" stAng="16200000" swAng="-5400000"/>
                  <a:lnTo>
                    <a:pt x="0" y="59159"/>
                  </a:lnTo>
                  <a:arcTo wR="3600" hR="3600" stAng="10800000" swAng="-5400000"/>
                  <a:lnTo>
                    <a:pt x="18000" y="627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78640" y="697680"/>
              <a:ext cx="667800" cy="79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为了新生活前进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适度焦虑其实对于我们适应环境、提高工作效率是有帮助的。因为它让我们很认真、很投入，它还调动我们的身体为我们的大脑和其它方面源源不断地提供能量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7162920" y="5410080"/>
            <a:ext cx="1218960" cy="914400"/>
          </a:xfrm>
          <a:custGeom>
            <a:avLst/>
            <a:gdLst>
              <a:gd name="textAreaLeft" fmla="*/ 59040 w 1218960"/>
              <a:gd name="textAreaRight" fmla="*/ 1159920 w 121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791" h="21600">
                <a:moveTo>
                  <a:pt x="0" y="0"/>
                </a:moveTo>
                <a:lnTo>
                  <a:pt x="28791" y="0"/>
                </a:lnTo>
                <a:lnTo>
                  <a:pt x="28791" y="21600"/>
                </a:lnTo>
                <a:lnTo>
                  <a:pt x="0" y="21600"/>
                </a:lnTo>
                <a:close/>
              </a:path>
              <a:path fill="lightenLess" w="28791" h="21600">
                <a:moveTo>
                  <a:pt x="0" y="0"/>
                </a:moveTo>
                <a:lnTo>
                  <a:pt x="28791" y="0"/>
                </a:lnTo>
                <a:lnTo>
                  <a:pt x="27391" y="1400"/>
                </a:lnTo>
                <a:lnTo>
                  <a:pt x="1400" y="1400"/>
                </a:lnTo>
                <a:close/>
              </a:path>
              <a:path fill="darken" w="28791" h="21600">
                <a:moveTo>
                  <a:pt x="28791" y="0"/>
                </a:moveTo>
                <a:lnTo>
                  <a:pt x="28791" y="21600"/>
                </a:lnTo>
                <a:lnTo>
                  <a:pt x="27391" y="20200"/>
                </a:lnTo>
                <a:lnTo>
                  <a:pt x="27391" y="1400"/>
                </a:lnTo>
                <a:close/>
              </a:path>
              <a:path fill="darkenLess" w="28791" h="21600">
                <a:moveTo>
                  <a:pt x="28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1" y="20200"/>
                </a:lnTo>
                <a:close/>
              </a:path>
              <a:path fill="lighten" w="28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1" h="21600">
                <a:moveTo>
                  <a:pt x="7389" y="3794"/>
                </a:moveTo>
                <a:lnTo>
                  <a:pt x="21402" y="10800"/>
                </a:lnTo>
                <a:lnTo>
                  <a:pt x="73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焦虑一旦超过一定的程度，那就走向它的反面。这往往表现为影响你的记忆；妨碍你的加工处理的逻辑思维，导致加工效率降低；另外还有一些负面作用，如心情不好、容易烦躁、跟别人闹矛盾、自己跟自己过不去等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考试时焦虑过了头。。。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考试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焦虑情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学生大部分会感到不同程度的学习困难，记忆力下降，精神难以集中，注意力易于分散，思维似乎停滞。记得很熟的单词怎么也想不起来，面对题目看了多遍，不知是什么意思。生理上则容易疲倦、失眠、多汗、厌食、心跳加速、头脑混乱，甚至引起神经衰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971800"/>
            <a:ext cx="60958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429000"/>
            <a:ext cx="7086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380988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33920" y="369576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9920" y="0"/>
            <a:ext cx="312408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5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1447920"/>
            <a:ext cx="4952880" cy="371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962520" y="18288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057400" y="457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忧主要是担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担心考试的结果不理想；担心别的同学比自己考得好；担心自己在考场上状态不好；担心平时记得的东西记不得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7238880" y="5562720"/>
            <a:ext cx="1295640" cy="76176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6731" h="21600">
                <a:moveTo>
                  <a:pt x="0" y="0"/>
                </a:moveTo>
                <a:lnTo>
                  <a:pt x="36731" y="0"/>
                </a:lnTo>
                <a:lnTo>
                  <a:pt x="36731" y="21600"/>
                </a:lnTo>
                <a:lnTo>
                  <a:pt x="0" y="21600"/>
                </a:lnTo>
                <a:close/>
              </a:path>
              <a:path fill="lightenLess" w="36731" h="21600">
                <a:moveTo>
                  <a:pt x="0" y="0"/>
                </a:moveTo>
                <a:lnTo>
                  <a:pt x="36731" y="0"/>
                </a:lnTo>
                <a:lnTo>
                  <a:pt x="35331" y="1400"/>
                </a:lnTo>
                <a:lnTo>
                  <a:pt x="1400" y="1400"/>
                </a:lnTo>
                <a:close/>
              </a:path>
              <a:path fill="darken" w="36731" h="21600">
                <a:moveTo>
                  <a:pt x="36731" y="0"/>
                </a:moveTo>
                <a:lnTo>
                  <a:pt x="36731" y="21600"/>
                </a:lnTo>
                <a:lnTo>
                  <a:pt x="35331" y="20200"/>
                </a:lnTo>
                <a:lnTo>
                  <a:pt x="35331" y="1400"/>
                </a:lnTo>
                <a:close/>
              </a:path>
              <a:path fill="darkenLess" w="36731" h="21600">
                <a:moveTo>
                  <a:pt x="36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31" y="20200"/>
                </a:lnTo>
                <a:close/>
              </a:path>
              <a:path fill="lighten" w="36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31" h="21600">
                <a:moveTo>
                  <a:pt x="11359" y="3794"/>
                </a:moveTo>
                <a:lnTo>
                  <a:pt x="25372" y="10800"/>
                </a:lnTo>
                <a:lnTo>
                  <a:pt x="113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就是着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010280" y="53341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34290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围的人不要惹我、最好离我远远的、让我一个人关在房子里面静静的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7391520" y="54864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14600" y="2955960"/>
            <a:ext cx="43434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4:40:0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7:11Z</dcterms:modified>
  <cp:revision>1</cp:revision>
  <dc:subject>主题班会课件(分28大类): http://shop62905894.taobao.com</dc:subject>
  <dc:title>主题班会课件(分28大类): http://shop62905894.taobao.com</dc:title>
</cp:coreProperties>
</file>