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0C1-030E-44BA-9385-784AD771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D8F-F69D-4195-9D78-70841F31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0C0-DE66-4F54-A89E-03B65139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766-BC39-4C0C-A847-073F4DD2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871E-1806-4F3E-B2A1-CCE2D003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05C-75DA-4B67-B0C3-313C0D1E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360-A19B-4B0E-BE9E-06B57B1F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D93-1441-4887-A9B4-5952A14C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F2B-3C4F-4B31-9C00-9717BC83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7BA-7C21-4D80-8545-A06680D2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61BF-5CA6-4264-A9E4-E33315FF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CF4-0EEB-4B10-AA61-40AF1049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FD7B-1511-44E8-928E-D58B4DF5DF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68360" y="1700280"/>
            <a:ext cx="8137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如何达到考试最佳竞技状态</a:t>
            </a:r>
            <a:endParaRPr b="0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35002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高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07696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答题顺序：从卷首依次开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般地讲，全卷大致是先易后难的排列，所以，正确的做法是从卷首开始依次做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27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克服两种现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8077320" cy="70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抱着“试试看，看这个题难不难，难就做下一个题”的想法，这样每做一个题时，就准备着换个题做。在这种思想支配下或者审题不细、想的不深，没有悟出隐含条件和题目的暗示，把不很难的题看成难题，望而生畏；或者误解题意、答非所问。他们不断地从一个题转移到另一个题，收获不大，差错却不少，这类毛病可以形象地叫做“打水漂”。</a:t>
            </a:r>
            <a:br>
              <a:rPr sz="36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652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有的同学坚决地“依次＂做题，前一题不做完就不做后一题。他们往往是“如果前一个题不做完，做下一个题时总是想着它，怎么也放不下。＂如此执着的学生常常因为一个题的严重挫折搞得心慌意乱，导致整场考试的失败。这类毛病可以形象地称为“吊死在半路＂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076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之，不执着不好，太执着也不好，两种极端都不可取。一份试卷，虽然大致是先易后难，但试卷前部特别是中间出现难题也是常见的，执着程度适当，才能绕过难题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在关键时刻，敢于放弃也是一种明智的选择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一慢一快，三先三后”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审题要慢，做题要快。先做选择（填空）题，后做大题；先做易题，后做难题；先做熟悉题，后做陌生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450828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审题要慢，做题要快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些考生只知道一味求快，往往题意未理解清楚，便匆忙动笔，结果误入歧途，所以审题一定要慢，有了这个“慢”，才能形成完整合理的解题策略，才有答题的“快”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581000"/>
            <a:ext cx="7446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审题好坏是答卷能否成功的重要因素，在审题这一环节出现问题的主要原因有：一、马虎大意、不认真审题造成看错题、看漏题。二、先入为主，一看题就认为过去做过、考过，拿起来就做，结果一做就错。三、过于紧张造成看不准题，看漏题。第四、只看题表面，没有深入挖掘题目的深刻含义造成理解错误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860280"/>
            <a:ext cx="7913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克服这些毛病就要在审题时仔细、认真、冷静。遇到看不懂的地方不要联想考试后果如何，要集中精力、挖掘题意深层东西，寻找各种条件之间的关系，有些题不妨看两遍，第一遍掌握该题的大体信息，第二遍深入把握该题内在的联系。这样就能看准题，把握题意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此外审题时一要准，二要在准的基础上要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386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易题千万不要掉以轻心，对待难题要慢慢回忆课本知识、检索所有的解题信息，稳住心神努力寻找突破口。一道题目模糊不懂，要读多一遍，仔细分析题意，划出重点词语，仔细揣摩，找题眼，捉出解题的关键性字眼，防止审题不清。挖“三点”，即隐含信息点、迷惑点和考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必胜的信心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是良好心态的重要组成部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19280" y="1773360"/>
            <a:ext cx="734544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兵来将挡，水来土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3213000"/>
            <a:ext cx="7921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我不会人更不会；人不会我会；人会我更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472428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这个世界上究竟谁怕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！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题要快，书写快一点，在工整、清晰的前提下提高书写速度，字体千万不要太潦草，对选择题、填空题要善于压缩时间，可在第一卷上边写边演算边答，切忌小题大做。看到熟题，要认真读完题，不要凭想象作答，看到不熟的题，不要紧张，先放过去争取时间，不能在一道难题上花费太多的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选择题填涂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涂分离移植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涂结合并进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涂记号加重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292640"/>
            <a:ext cx="856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458136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选择题时要选用巧妙的方法，一般来说，选择题不会太难，当然，个别的题目是有难度的。如果你的解法繁杂，肯定是走错了方向。其次，不要在选择（填空）上停留过久，实在想不出办法就凭多年的“感觉”选一个你认为相对正确的答案，同时还要小心选择（填空）中的陷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大题要尽量选用基本的方法，想到哪一步做到哪一步，千万不要追求所谓的“巧妙方法”，一般情况下“巧妙方法”只会浪费时间。做大题目应该有梯度，表达要准确，紧紧抓住得分点，只要有时间就应该想办法动笔，因为很多题目往往前面的步骤非常简单，很容易得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58136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运算要准胆子要大</a:t>
            </a:r>
            <a:br>
              <a:rPr sz="36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试没有足够的时间让你反复验算，更不容你再三地变换解题方法，往往是拿到一个题目，凭感觉选定一种方法就动手做，这时除了你的每一步运算务求正确外，还要求把你当时的解法坚持到底。也许你选择的不是最好的方法，但如回头重来将会花费更多的时间。当然坚持到底并不意味着钻牛角尖，一旦发现自己走进死胡同，还是要立刻迷途知返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4005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先易后难敢于放弃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题的次序应尽量做到先易后难，这是因为一方面做容易题准确率高，用时短，每做对一道题对自己是一次巨大的鼓舞，能够增强信心，对发挥水平极为有利；另一方面如果先做难题，可能会浪费好多时间，即使难关被攻克，却已没有时间去得那些易得的分数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8920" y="1557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时不会做的题，暂时搁置下来，作个记号，待其它题做完后或在做某些题时受到启示后再做，这样可避免遇到难题后紧张发怵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5373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对不会做的题不要钻牛角尖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暂时跳过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完成其他题目后再回头来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说不定会茅塞顿开。先做高分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后做低分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使时间不足时少失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到了最后十分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也应对那些拿不下来的题目就高分题“分段得分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增加在时间不足前提下的得分。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458136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先熟后生合理用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面对熟悉的题目，自然像吃了定心丸，做起来得心应手，会使你获得好心情，并且可以在最短时间内完成，留下更多的时间来思考那些不熟悉的题目。有些题目需花很多时间却只得到很少分数，有些题目只要花很少时间却有很高的分值。所以应先把时间用在那些较易题或分值较高题目上，最大限度地提高时间的利用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4508280"/>
            <a:ext cx="860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重视简单题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在这类题上千万不要粗心大意，要是在这类题上失分，会使自己损失很大；中等难度的题目是超过竞争对手的关键所在，所以对这类题要格外重视。中低档试题的分数往往占每科试卷总分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％左右，如果考生把这两部分试题的分数都拿到手，心里就可以踏实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应是考试的总体策略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保持正向的情绪状态—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是良好心态的重要方面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806436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愉快的心境，有助于形成积极乐观的态度，克服困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3645000"/>
            <a:ext cx="74883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只要尽了最大的努力，就对得起自己，对得起帮助自己的人，就无悔无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212640"/>
            <a:ext cx="82440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难题尽量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至于试卷上的难题，可以尽力去做，要从各种角度去分析，这部分试题无论是试题的材料、情景，还是命题立意的角度都是新颖的，肯定是大家平时看不到的，如果不会做就要努力摆脱习惯性思维的束缚，跳出习惯性的框框，换一个角度，换一途径，换一个思路去解决问题，不要被一个思路所束缚而不能自拔，当然，实在不会做也不必太在意。这部分试题不一定非要做得很完美，有多少答多少，因为这类题对任何考生来说都是很难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458136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检查的方法：检查做了记号的题目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检查是答卷的一个重要环节，检查时最忌从头到尾一题题地检查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因为在短短的时间里看许多题，自然不会很细，而轻易地更改常会把本来做对的题改错。正确的检查是只检查应该检查的题，一个题该不该检查，应当在做完这个题时给出判定，并在该题记下检查的符号。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检查时首先要注意有没有漏题。此外检查时仍需审题，因为在审题环节出问题是考生最常犯的毛病。检查时不要轻易改选择题的答案。到检查时，大脑已经连续工作很长时间了，轻易以疲惫的头脑去翻头脑清醒时的案，结果是把做对的题改错了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4365720"/>
            <a:ext cx="68709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检查后的涂改方式要讲究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一、要划掉重新写，忌原地用涂黑的方式改，这会使阅卷老师看不清。      二、如果对现有的题解不满意想重新写，要先写出正确的，再划去错误的。有的同学先把原来写的题解涂抹了，写新题解的时间又不够，本来可能得的分数被自己涂掉了。三、新的答案写出后，不要忘记把原来的答案划去，如果出现对的和错的两个答案并存的情况，按规矩是不能给分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5373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书写要求：字迹清晰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迹清晰，让人看清楚，这是对考生的第一要求，在保证答卷速度的基础之上，一定要做到这一点。要求考生把答案写在答题纸上，而答题纸对答案书写的位置及文字量要求很高，要想好了再写，决不能乱涂乱写，否则影响判卷。而大题要求考生的文字要精炼，切中要害，不能写废话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卷不是给自己批的，要给批卷人留下良好的印象，必须书写规范，层次分明，重点突出，否则评卷人可能看不清，甚至找不到你的得分点。因此，做解答题时切忌只求结论，不顾过程，要力争既对且全，把该得的分都得到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、忌挥汗如雨，心乱如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10920" y="907560"/>
            <a:ext cx="7561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fd6f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如果遇到几道不会做的题时，不要怕，不要认为这科完蛋了，要做“呼吸放松”，进一步进行心理暗示：“考试面前人人平等，我不会，别人也不一定就会做”，“这道题做不出来没关系，过一会儿就能想出来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700280"/>
            <a:ext cx="93963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总之，考试的各个环节都不能马虎大意，要善始善终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考后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569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认为考得好的，不要春风得意，戏还没演完，好戏还在后头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认为考得不好的，不要灰心丧气，坚信这科太难，肯定大家都考得不好，很多人考得比我要差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要忙着对答案，不要谈论考试问题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784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愿好运像地雷，时常给你踩到；厄运像流星雨，永远淋你不到；分数像垃圾，随处可以捡到；幸福像苍蝇，盯着你不放！模考快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92280"/>
            <a:ext cx="91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祝福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保持较轻松并适度紧张的心态 —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3141720"/>
            <a:ext cx="708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平和但适度紧张的考前心态，有助于我们保持较为兴奋的竞技状态。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19280" y="4581360"/>
            <a:ext cx="3095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广州一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3360" y="2205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9079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昂首挺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357720"/>
            <a:ext cx="316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迎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234936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fd6f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2ffd6f"/>
                </a:solidFill>
                <a:latin typeface="Arial"/>
              </a:rPr>
              <a:t>信心百倍</a:t>
            </a:r>
            <a:br>
              <a:rPr sz="5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要沉着、冷静，不骄不躁，不悲观、消极，保持饱满的情绪和积极的进取心，树立自信，超越自我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549360"/>
            <a:ext cx="8136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接到试卷后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先用笔填好相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的内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包括答题卡和答题纸上准考证号、姓名和座位号等）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30200" y="249768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浏览：只看试卷结构不看内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应抓紧时间把试卷结构浏览一遍，一共多少道题，多少页，有没有空白页？最后一题在哪一面，以防止漏掉某一页的题没有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浏览试卷结构时，不要浏览试题内容。因为模考有些题目难度较大，所给的条件很隐蔽，不字斟句酌，就难以真正弄清题意。如果第一印象错误会影响下一步答题。再则有些同学心理素质较差，在没有仔细审题的情况下看到一些难题就心里发毛影响正常发挥。不能卷子发下来就埋头做题，这样只会“欲速则不达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考中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99640" y="1628280"/>
            <a:ext cx="7559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要如入无人之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fd6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将考试看成表现自己的好时机 ，不断排除因难题带来的紧张，做到积极的思考，冷静地分析，日积月累，练就出入无人之境的心理功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773360"/>
            <a:ext cx="8604360" cy="40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试时间通盘考虑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同学们在考试时对答卷的时间也应有一个整体安排，要通盘考虑。一般说来简单题用的时间比较少，但答题时必须要仔细、认真，不能过于匆忙。中档题是每位考生需重点投入部分，需要的时间也要多一些，只有在解决了这两部分试题之后才能考虑去解难题，即便是有实力的考生也应如此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此外考生在答卷时间安排上要防止前紧后松的现象，这样会影响答卷的质量。在可能得分的题上保证时间，在没把握的题上尽量少耗费时间。一定不要提前交卷，应充分利用宝贵的时间继续检查，让规定的考试时间充分发挥作用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1:07:4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7:12Z</dcterms:modified>
  <cp:revision>17</cp:revision>
  <dc:subject>主题班会课件(分28大类): http://shop62905894.taobao.com</dc:subject>
  <dc:title>主题班会课件(分28大类): http://shop62905894.taobao.com</dc:title>
</cp:coreProperties>
</file>