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png" ContentType="image/png"/>
  <Override PartName="/ppt/media/image7.wmf" ContentType="image/x-wmf"/>
  <Override PartName="/ppt/media/image20.jpeg" ContentType="image/jpeg"/>
  <Override PartName="/ppt/media/image10.jpeg" ContentType="image/jpeg"/>
  <Override PartName="/ppt/media/image6.gif" ContentType="image/gif"/>
  <Override PartName="/ppt/media/image11.png" ContentType="image/png"/>
  <Override PartName="/ppt/media/image5.wmf" ContentType="image/x-wmf"/>
  <Override PartName="/ppt/media/cashreg.wav" ContentType="audio/x-wav"/>
  <Override PartName="/ppt/media/laser.wav" ContentType="audio/x-wav"/>
  <Override PartName="/ppt/media/image21.jpeg" ContentType="image/jpeg"/>
  <Override PartName="/ppt/media/image19.png" ContentType="image/png"/>
  <Override PartName="/ppt/media/image12.gif" ContentType="image/gif"/>
  <Override PartName="/ppt/media/image3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3.gif" ContentType="image/gif"/>
  <Override PartName="/ppt/media/image4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3309-0F39-4067-B60D-F72E456BF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2804-37A0-4801-B636-9BEA8B36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4BCE-B4B3-47BF-B493-CE8935F7F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F267-8B81-451C-8AF4-C6BBD38C0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3B34-B136-4F88-B362-DC00AE26D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AEE3-9936-41A7-8A75-1B5757BA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A097-9729-46C9-AFB7-CFEE3046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42F0-645B-4909-A4E1-38AAABBC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571A-F24C-42AE-8574-6B9642CF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40F3-4153-47E0-8491-986579AE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EBDC-C3F9-4C38-A6BC-43425B70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1915-A78E-4700-8948-0CA6A3E3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B6FA-B5E2-4F2D-8199-44206324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787B-8CA0-4D06-9C6A-5E4C78AF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9F6F-CAE9-41A3-B653-46AB57A3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75B2-D898-4DEF-B4A3-4FEF99881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56F1-4F04-4878-821E-193F4FD0B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26D2-FE4F-4DFB-96C7-0793F3B7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E542-240F-4331-A6BD-B06F2853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D40E-4652-4D37-9CE2-A4AE949D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6543-F8C0-4546-96E2-88F03AE8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2303-D32F-4983-B71C-4097477C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A2DC-EF86-463F-BBB1-3F3982C4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2F9C-CF61-4407-9CDF-F92DB23A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7ED7-20FB-4D36-8039-404311C999F3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6CD7-3529-4BB1-952D-0FC6E7F5C203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0.xm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920" y="0"/>
            <a:ext cx="9136080" cy="68612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62120" y="1676520"/>
            <a:ext cx="838188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十月月考总结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十月月考的胜利就是我们最大的收获，这次考试意义非常重大，是我们吃苦勤奋的回报，是我们认真努力的果实，也许能起到转折点的作用——这次考试是一次重大的分水岭。成功了，意味着你向大学之门又迈进了一步。如何打好这一仗，关键在于这几天时间的利用上，下面拟出我的奋斗计划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抓住要点，有计划复习，不盲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有规律的进行复习，不要专攻一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合理的分配自己的时间，该干什么，干什么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注重基础，只有打好坚实的基础，才能拿到高分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同学们，让我们一起努力吧，为了班级荣誉，为了父母微笑，为了自己的将来，我们齐心协力，誓死一战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6858000"/>
            <a:ext cx="763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3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成功在于坚持！</a:t>
            </a:r>
            <a:br>
              <a:rPr sz="4400"/>
            </a:b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   世间最容易的事是坚持，最难的事也是坚持。说它容易，是因为只要愿意做，人人能做到；说它难，是因为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真正能做到的，终究只是少数人。</a:t>
            </a:r>
            <a:br>
              <a:rPr sz="4800"/>
            </a:b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228600" y="1752480"/>
            <a:ext cx="845820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愿同学们努力学习，笑对高考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990160" y="685800"/>
            <a:ext cx="333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2005/09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刚入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67652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大家三年共同就读于才溪中学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,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但…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590920" y="60948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现在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43960" y="1828800"/>
            <a:ext cx="311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也许你是班上的…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别人是班上的…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786480" y="7621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一年后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63160" y="2209680"/>
            <a:ext cx="379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各自奔赴不同的大学深造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,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但是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,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并非人人都…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278160" y="9144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五年后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59200" y="2057400"/>
            <a:ext cx="2009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走进社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有人才华横溢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有人…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313000" y="685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十五年后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16400" y="1676520"/>
            <a:ext cx="2923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意气风发，事业有成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…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16000" y="1557360"/>
            <a:ext cx="7489800" cy="3095640"/>
          </a:xfrm>
          <a:prstGeom prst="cloudCallout">
            <a:avLst>
              <a:gd name="adj1" fmla="val -44236"/>
              <a:gd name="adj2" fmla="val 44972"/>
            </a:avLst>
          </a:prstGeom>
          <a:solidFill>
            <a:srgbClr val="6699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05120" y="2209680"/>
            <a:ext cx="628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命运，为什么可以相差那大！？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1773360" cy="18237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爱拼才会赢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7440" y="1981080"/>
            <a:ext cx="853452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一时失志不免怨叹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/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一时落魄不免胆寒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哪怕失去希望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/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每日醉茫茫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无魂有体像稻草人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/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人生可比是海上的波浪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有时起有时落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/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好运歹命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/……/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三分天注定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/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七分靠打拼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/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爱拼才会赢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72400" y="62485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083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</a:rPr>
              <a:t>总成绩在班排前十名：</a:t>
            </a:r>
            <a:br>
              <a:rPr sz="40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林晓燕 张立文 王远平 卓仙娣 王龙生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黄兴炬 王大贝 罗雪云 赖忠华 刘文强</a:t>
            </a: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743200"/>
            <a:ext cx="830556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进步之星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林强（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1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）   江林发（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） 刘建华（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1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陈道斌（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）罗芳（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）      谢培锋（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胡灵发（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）  刘培旺（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）王晓斌（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蓝启平（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1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）钟建顺（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）  曾尚汉（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1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黄文由 （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） 罗艳芳（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）  梁裕林（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阙丽容（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24840" y="52801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另外，还有些同学学习勤勤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恳恳，也取得了一定进步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8820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2565360"/>
            <a:ext cx="8856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的进步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老师和父母最大的骄傲！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835280" y="907920"/>
            <a:ext cx="626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拼搏的身后是老师和父母默默关注的目光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42920" y="1557360"/>
            <a:ext cx="777708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</a:t>
            </a:r>
            <a:r>
              <a:rPr b="1" lang="zh-CN" sz="5400" spc="-1" strike="noStrike">
                <a:solidFill>
                  <a:srgbClr val="0033cc"/>
                </a:solidFill>
                <a:latin typeface="宋体"/>
              </a:rPr>
              <a:t>既然我们选择了远方，就只顾风雨兼程！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华文行楷"/>
                <a:ea typeface="华文行楷"/>
              </a:rPr>
              <a:t>          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cc"/>
                </a:solidFill>
                <a:latin typeface="华文行楷"/>
                <a:ea typeface="华文行楷"/>
              </a:rPr>
              <a:t>                         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1197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拼搏中难免受苦、但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也要坚定信念！彩虹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总在风雨之后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788000" y="260280"/>
            <a:ext cx="358128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62064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一心向着自己目标前进的人，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整个世界都给他让路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                    ——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爱默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8" dur="1" fill="hold"/>
                                  <p:tgtEl>
                                    <p:spTgt spid="1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每个人都有潜在的能量，只是很容易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被习惯所掩盖，被时间所迷离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被惰性所消磨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4221000"/>
            <a:ext cx="87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华文行楷"/>
              </a:rPr>
              <a:t>吃得苦中苦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华文行楷"/>
              </a:rPr>
              <a:t>,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华文行楷"/>
              </a:rPr>
              <a:t>方为人上人。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77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77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0" dur="77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23840" y="0"/>
            <a:ext cx="889632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791800" y="1676520"/>
            <a:ext cx="36918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盖士人读书，第一要有志，第二要有识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第三要有恒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          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                    ——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《曾国藩家书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54100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失败者寻找借口，推卸责任；成功者承担责任，寻找方法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你到底是推卸责任，还是承担责任？是寻找借口，还是寻找方法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不要后悔！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后悔是一种耗费精神的情绪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后悔是比损失更大的损失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比错误更大的错误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所以不要后悔 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　　　　　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爸爸妈妈别说再见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这是一个真实的故事。一个秋天，在某游览区，一辆缆车正悠闲地滑动在大山上空。缆车里的人们说说笑笑，尽情欣赏着窗外的景色，没有人能预料到接下来的厄运。因为缆车超载，在行驶到一半的时候，缆绳突然被缆绳挣断了。缆车倏地跌下了山谷，人们惊恐万分，但是没有人能拯救他们……后来缆车被发现的时候，只有一个小男孩幸存了下来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原来，在缆车下落的时候，他的父母把他举起来顶到了头上。在生的最后几秒，父母用自己的身躯挽救了孩子。　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826920" y="5373720"/>
            <a:ext cx="1258920" cy="10494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0" y="6408720"/>
            <a:ext cx="9182160" cy="449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824400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9" dur="224314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　　想想我们的父母吧，他们为我们所有付出。我相信，遇到这种情况，任何一个父母都会做出这样的选择。想想我们从小到大，我们生病时父母的焦虑，我们高兴时父母的欣慰。我们为他们做的每一件小事，都会让他们好高兴。（学习进步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1258920" cy="10494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0" y="6408720"/>
            <a:ext cx="9182160" cy="449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8388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5" dur="194978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609480"/>
            <a:ext cx="89154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黑体"/>
              </a:rPr>
              <a:t>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黑体"/>
              </a:rPr>
              <a:t>      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语文——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王远平蓝启平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12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）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数学——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刘文强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13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英语——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王远平阙丽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11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物理——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张立文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9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化学——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刘文强 雷发杨 阙丽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86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8120" y="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单科状元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界球王贝利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年的足球生涯里，参加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36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场比赛，共踢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8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球。并创造了一个队员在一场比赛中射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球的纪录。他超凡的技艺不仅令万千观众心醉，而且常使球场上的对手拍手称绝。他不仅球艺高超，而且谈吐不凡。当他个人进球记录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时，有人问他：“您哪个球踢得最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贝利笑了，意味深长地说：“下一个。”他的回答含蓄幽默，耐人寻味，像他的球艺一样精彩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启示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在迈向成功的道路上，每当实现了一个近期目标，决不应自满，而应迎接新的成功，应把原来的成功当成是新的成功的起点，千万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不能自我满足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才永远有新的目标，才能攀登新的高峰，才能获得成功者的无穷无尽的乐趣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11280" y="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下一个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7572"/>
                </a:solidFill>
                <a:latin typeface="Arial"/>
              </a:rPr>
              <a:t>狮子和羚羊的家教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每天，当太阳升起的时候，非洲大草原上的动物们就开始奔跑了。</a:t>
            </a:r>
            <a:br>
              <a:rPr sz="2800"/>
            </a:b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狮子妈妈在教育自己的孩子，你必须跑得再快一点，再快一点，你要是跑不过最慢的羚羊，你就会活活地饿死。”</a:t>
            </a:r>
            <a:br>
              <a:rPr sz="2800"/>
            </a:b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在另外一个场地上，羚羊妈妈也在教育自己的孩子：“孩子，你必须跑得再快一点，再快一点，如果你不能比跑得最快的狮子还要快，那你就肯定会被他们吃掉。” 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　秘诀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记住，你跑得快，别人跑得更快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[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赶超对手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1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87080" y="839520"/>
            <a:ext cx="724860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十一月工作打算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847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继续加强责任心的培养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学习是自己的事！增强集体荣誉感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进一步端正学习态度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态度决定一切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有态度就会有责任心，有责任心就会有前途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强调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各学科之间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协调合作！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各学科要均衡发展，千万不能偏科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作好精神减压工作：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重视过程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淡化分数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79280" y="404640"/>
            <a:ext cx="2305080" cy="642600"/>
          </a:xfrm>
          <a:prstGeom prst="rect">
            <a:avLst/>
          </a:prstGeom>
          <a:solidFill>
            <a:srgbClr val="e5ee3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心灵体操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1557360"/>
            <a:ext cx="4608360" cy="520560"/>
          </a:xfrm>
          <a:prstGeom prst="rect">
            <a:avLst/>
          </a:prstGeom>
          <a:solidFill>
            <a:srgbClr val="e1fd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看我的一天是怎么度过的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971640" y="2349360"/>
            <a:ext cx="6913440" cy="3816360"/>
            <a:chOff x="971640" y="2349360"/>
            <a:chExt cx="6913440" cy="3816360"/>
          </a:xfrm>
        </p:grpSpPr>
        <p:sp>
          <p:nvSpPr>
            <p:cNvPr id="174" name=""/>
            <p:cNvSpPr/>
            <p:nvPr/>
          </p:nvSpPr>
          <p:spPr>
            <a:xfrm>
              <a:off x="971640" y="2349360"/>
              <a:ext cx="684036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71640" y="2349360"/>
              <a:ext cx="0" cy="381636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71640" y="6165720"/>
              <a:ext cx="69134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812000" y="2349360"/>
              <a:ext cx="73080" cy="381636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71640" y="2854080"/>
              <a:ext cx="684036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71640" y="3285720"/>
              <a:ext cx="684036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71640" y="3717720"/>
              <a:ext cx="684036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71640" y="4221000"/>
              <a:ext cx="684036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71640" y="4725720"/>
              <a:ext cx="684036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71640" y="5229000"/>
              <a:ext cx="684036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71640" y="5733720"/>
              <a:ext cx="684036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24360" y="2349360"/>
              <a:ext cx="0" cy="381636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971640" y="2349360"/>
            <a:ext cx="6820920" cy="3844440"/>
            <a:chOff x="971640" y="2349360"/>
            <a:chExt cx="6820920" cy="3844440"/>
          </a:xfrm>
        </p:grpSpPr>
        <p:sp>
          <p:nvSpPr>
            <p:cNvPr id="187" name=""/>
            <p:cNvSpPr/>
            <p:nvPr/>
          </p:nvSpPr>
          <p:spPr>
            <a:xfrm>
              <a:off x="2536560" y="2802600"/>
              <a:ext cx="148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华文新魏"/>
                  <a:ea typeface="华文新魏"/>
                </a:rPr>
                <a:t>上课时间 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536560" y="3211920"/>
              <a:ext cx="179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华文新魏"/>
                  <a:ea typeface="华文新魏"/>
                </a:rPr>
                <a:t>晚自习时间 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76200" y="3738960"/>
              <a:ext cx="32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华文新魏"/>
                  <a:ea typeface="华文新魏"/>
                </a:rPr>
                <a:t>你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利用了</a:t>
              </a:r>
              <a:r>
                <a:rPr b="1" lang="zh-CN" sz="2400" spc="-1" strike="noStrike">
                  <a:solidFill>
                    <a:srgbClr val="0033cc"/>
                  </a:solidFill>
                  <a:latin typeface="华文新魏"/>
                  <a:ea typeface="华文新魏"/>
                </a:rPr>
                <a:t>的课余时间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71640" y="4250520"/>
              <a:ext cx="494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cc"/>
                  </a:solidFill>
                  <a:latin typeface="Arial"/>
                  <a:ea typeface="华文新魏"/>
                </a:rPr>
                <a:t>平均</a:t>
              </a:r>
              <a:r>
                <a:rPr b="1" lang="zh-CN" sz="2000" spc="-1" strike="noStrike">
                  <a:solidFill>
                    <a:srgbClr val="0033cc"/>
                  </a:solidFill>
                  <a:latin typeface="华文新魏"/>
                  <a:ea typeface="华文新魏"/>
                </a:rPr>
                <a:t>每节课多少分钟后才能集中精神听课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320920" y="4753440"/>
              <a:ext cx="240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华文新魏"/>
                  <a:ea typeface="华文新魏"/>
                </a:rPr>
                <a:t>上课时发呆时间 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88920" y="5258160"/>
              <a:ext cx="362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华文新魏"/>
                  <a:ea typeface="华文新魏"/>
                </a:rPr>
                <a:t>自习课上闲聊、发呆时间 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58560" y="5734080"/>
              <a:ext cx="44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华文新魏"/>
                  <a:ea typeface="华文新魏"/>
                </a:rPr>
                <a:t>自习课上找、借东西所花时间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320920" y="2349360"/>
              <a:ext cx="23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时间类别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37280" y="2421000"/>
              <a:ext cx="16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所需时间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484360" y="476280"/>
            <a:ext cx="863640" cy="504720"/>
          </a:xfrm>
          <a:prstGeom prst="rightArrow">
            <a:avLst>
              <a:gd name="adj1" fmla="val 50000"/>
              <a:gd name="adj2" fmla="val 42778"/>
            </a:avLst>
          </a:prstGeom>
          <a:solidFill>
            <a:srgbClr val="e5ee3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nextslide"/>
          </p:cNvPr>
          <p:cNvSpPr/>
          <p:nvPr/>
        </p:nvSpPr>
        <p:spPr>
          <a:xfrm>
            <a:off x="3348000" y="463680"/>
            <a:ext cx="5256360" cy="520560"/>
          </a:xfrm>
          <a:prstGeom prst="rect">
            <a:avLst/>
          </a:prstGeom>
          <a:solidFill>
            <a:srgbClr val="e5ee3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新魏"/>
              </a:rPr>
              <a:t>看自己一天时间的利用率高不高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95280" y="4076640"/>
            <a:ext cx="8424720" cy="581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天时间的利用率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＝学习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工作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)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时间／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24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小时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1844640"/>
            <a:ext cx="8136000" cy="1068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学习（工作）时间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＝上课时间＋自习时间＋真正利用的课余时间－发呆时间－闲聊时间－借东西时间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24000" y="981000"/>
            <a:ext cx="1944360" cy="642600"/>
          </a:xfrm>
          <a:prstGeom prst="rect">
            <a:avLst/>
          </a:prstGeom>
          <a:solidFill>
            <a:srgbClr val="e5ee3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难题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4360" y="1989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现在有几件事情同时摆在我们面前。某同学家里：洗衣机洗衣服要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分钟，电饭锅煮饭需要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25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分钟，看完一篇文章需要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20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分钟，问做完这三件事情共需要多长时间？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">
            <a:hlinkClick r:id="rId2" action="ppaction://hlinksldjump"/>
          </p:cNvPr>
          <p:cNvSpPr/>
          <p:nvPr/>
        </p:nvSpPr>
        <p:spPr>
          <a:xfrm>
            <a:off x="1763640" y="5084640"/>
            <a:ext cx="6840720" cy="581400"/>
          </a:xfrm>
          <a:prstGeom prst="rect">
            <a:avLst/>
          </a:prstGeom>
          <a:solidFill>
            <a:srgbClr val="e5ee3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办法：学会统筹方法，同时做几件事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24000" y="981000"/>
            <a:ext cx="1944360" cy="642600"/>
          </a:xfrm>
          <a:prstGeom prst="rect">
            <a:avLst/>
          </a:prstGeom>
          <a:solidFill>
            <a:srgbClr val="e5ee3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难题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5280" y="414972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高考要求掌握的英语单词数为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3500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个，照这样计算，经过多长时间可以达到这个词汇量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90560" y="5432400"/>
            <a:ext cx="6985080" cy="581400"/>
          </a:xfrm>
          <a:prstGeom prst="rect">
            <a:avLst/>
          </a:prstGeom>
          <a:solidFill>
            <a:srgbClr val="e5ee3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办法：善用零碎时间，循序渐进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191628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  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分钟是一个很短的时间，但是一天抓住两个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分钟，请问：一年抓住了多少分钟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306864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每个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分钟可以记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个单词，一年可以记多少个单词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1447920" y="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274320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5334120" y="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777240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7"/>
          <a:stretch/>
        </p:blipFill>
        <p:spPr>
          <a:xfrm>
            <a:off x="403848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8"/>
          <a:stretch/>
        </p:blipFill>
        <p:spPr>
          <a:xfrm>
            <a:off x="655308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9"/>
          <a:stretch/>
        </p:blipFill>
        <p:spPr>
          <a:xfrm>
            <a:off x="7696080" y="5410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650680" y="1600200"/>
            <a:ext cx="4204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想过成功，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想过失败，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但从未想过放弃！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525780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相信自己！尽力就行！</a:t>
            </a:r>
            <a:endParaRPr b="0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14400" y="609480"/>
            <a:ext cx="2514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总结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52280" y="1386000"/>
            <a:ext cx="92966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华文行楷"/>
              </a:rPr>
              <a:t>1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华文行楷"/>
              </a:rPr>
              <a:t>、“懒筋”没拔出，不够刻苦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华文行楷"/>
              </a:rPr>
              <a:t>、对待练习不够认真，不刻苦钻研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华文行楷"/>
              </a:rPr>
              <a:t>、有严重偏科现象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华文行楷"/>
              </a:rPr>
              <a:t>4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华文行楷"/>
              </a:rPr>
              <a:t>、时间安排欠合理、科学，易受情绪影响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华文行楷"/>
              </a:rPr>
              <a:t>5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华文行楷"/>
              </a:rPr>
              <a:t>、考试前没有认真复习，不懂的问题没有及时解决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华文行楷"/>
              </a:rPr>
              <a:t>6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华文行楷"/>
              </a:rPr>
              <a:t>、考试时，太过粗心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华文行楷"/>
              </a:rPr>
              <a:t>7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华文行楷"/>
              </a:rPr>
              <a:t>、基础不够扎实，做练习太少，没能巩固好所学知识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华文行楷"/>
              </a:rPr>
              <a:t>8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华文行楷"/>
              </a:rPr>
              <a:t>、复习不全面，只是粗略地看了一次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个人摄影壁纸 - 上田久仁生作品 - 梦幻花卉6 - ml0006.jpg : 1024 * 768 68.4 K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685800" y="1676520"/>
            <a:ext cx="77058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把握生命每一分钟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762120"/>
            <a:ext cx="8381880" cy="302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让我们一起筹划未来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咬定班级与个人的十一月考目标，誓创辉煌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22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76720" y="3860640"/>
            <a:ext cx="2695320" cy="2745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十一月考复习计划与目标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总结历次考试经验和教训，分析自己薄弱学科和优势学科，计划在剩下一个星期的复习重点和策略。（每天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给自己定下新的目标（超越：同伴；分数；名次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给自己一个拼搏的理由（一句话）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84680" y="5516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苦战一星期，实现超越梦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-12600" y="-1440"/>
            <a:ext cx="9163080" cy="685008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  <a:ea typeface="隶书"/>
              </a:rPr>
              <a:t>争分夺秒，我们有能力做得更好</a:t>
            </a:r>
            <a:endParaRPr b="0" lang="en-US" sz="5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81480" y="4038480"/>
            <a:ext cx="33530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隶书"/>
                <a:ea typeface="隶书"/>
              </a:rPr>
              <a:t>加油！</a:t>
            </a: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2133720"/>
            <a:ext cx="533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隶书"/>
              </a:rPr>
              <a:t>高三（</a:t>
            </a: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隶书"/>
              </a:rPr>
              <a:t>4</a:t>
            </a: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隶书"/>
              </a:rPr>
              <a:t>）班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685800" y="533520"/>
            <a:ext cx="7772400" cy="2819160"/>
          </a:xfrm>
          <a:prstGeom prst="rect">
            <a:avLst/>
          </a:prstGeom>
        </p:spPr>
        <p:txBody>
          <a:bodyPr wrap="none" lIns="90000" rIns="90000" tIns="46800" bIns="46800" anchor="t">
            <a:prstTxWarp prst="textDeflate">
              <a:avLst>
                <a:gd name="adj" fmla="val 26227"/>
              </a:avLst>
            </a:prstTxWarp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ccecff"/>
                </a:solidFill>
                <a:miter/>
              </a:ln>
              <a:solidFill>
                <a:srgbClr val="00ff00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0000"/>
                </a:solidFill>
                <a:latin typeface="Tahoma"/>
              </a:rPr>
              <a:t>显露出的问题</a:t>
            </a:r>
            <a:r>
              <a:rPr b="1" lang="zh-CN" sz="4800" spc="-1" strike="noStrike">
                <a:solidFill>
                  <a:srgbClr val="ff0000"/>
                </a:solidFill>
                <a:latin typeface="Tahoma"/>
              </a:rPr>
              <a:t>：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1447920"/>
            <a:ext cx="78483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在这次考试后，发现很多同学的总分高不了，究其原因，偏科厉害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由于各个方面的原因，很多同学都在这些科目中出现“瘸腿”现象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试卷答题过程中暴露出来的不规范性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基础掌握不扎实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0000"/>
                </a:solidFill>
                <a:latin typeface="Tahoma"/>
              </a:rPr>
              <a:t>成绩背后的问题：</a:t>
            </a:r>
            <a:endParaRPr b="0" lang="en-US" sz="4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371600"/>
            <a:ext cx="80769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个别同学自以为是，上课不够专心，甚至出现开小差、睡觉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2. </a:t>
            </a: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有些学生做练习较马虎，选择题乱猜，计算题只写一个答案；老师讲评过的练习部分学生始终没有养成及时订正的习惯，导致已做过的练习屡做屡错。到考试时遇到难题不是去思考，而是抓阄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3. </a:t>
            </a: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晚自习的效率不高，课间之后无法迅速进入学习的状态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4. </a:t>
            </a: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放松学习，临考试才匆忙复习</a:t>
            </a: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, </a:t>
            </a: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行为懒散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5. </a:t>
            </a: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考试心理差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-609480" y="-704880"/>
            <a:ext cx="10693440" cy="7562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219320"/>
            <a:ext cx="8686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我们的不足之处在哪里呢？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609480" y="-704880"/>
            <a:ext cx="10693440" cy="7562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0"/>
            <a:ext cx="9677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　　老师不在时，我们就像失去了一个支柱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　　我们就散漫起来了，包括我自己在内，晚自修寻找机会讲话诸如此类缺乏自制力的表现……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　　　　　　　　　　　　　——来自我班某同学的心声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057400"/>
            <a:ext cx="914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　　我不禁有一些悲哀。因为没有了老师的管理，班上的一部分同学纪律放松了，或多或小对认真学习的同学有些影响，有时竟在晚自习上看小说、报纸，真荒唐。还有我们宿舍还有部分同学也因缺少自制力，冒着被扣分的危险，晚上像开集会似的，声音很大，直到半夜，而第二天上课却在“钓鱼” ……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　　　　　　　　　　　　——来自某同学的心声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95280" y="333360"/>
            <a:ext cx="7921800" cy="11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6600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老师不在时，我们是这样做的：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6600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2514600"/>
            <a:ext cx="2057400" cy="2514600"/>
          </a:xfrm>
          <a:prstGeom prst="wedgeEllipseCallout">
            <a:avLst>
              <a:gd name="adj1" fmla="val -32407"/>
              <a:gd name="adj2" fmla="val 62120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4495680"/>
            <a:ext cx="1990800" cy="2362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800000" y="307188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我终于发现了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我们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不足之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是…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20574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一、学习缺乏自觉性和自律性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38480" y="28954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二、学习不够勤奋；做表面文章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38480" y="37339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三、学习有畏难情绪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38480" y="44956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四、学习中不敢请教老师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38480" y="5181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五、没有合理安排时间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14800" y="57913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六、学习缺乏钻研，易于满足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2:02:49Z</dcterms:modified>
  <cp:revision>103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