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A9F-714E-4245-8DBF-AFD9A00C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44C-5804-4897-B617-CC075A09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93B-2C8C-4606-B8F8-45A7814D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A25-4224-4F7F-9785-E5A60CD4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AE7-BAF0-49C0-ADC7-CED537C4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97F-BB55-4DB3-A0DE-EE19D6B6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B51-F0A3-4B5F-8309-C721ECCA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C35-CC12-4AEE-A5D7-721B4ACF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259-ECAA-40BE-88ED-A5B8AD6F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C58-CAF8-4564-A777-91A1902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753-E8BD-4FD4-ADEF-0EBCE634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56B-72E6-40D2-910B-3AB171E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CC5-7881-4EAB-8A89-DCDDC71C7B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71360"/>
            <a:ext cx="79297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Calibri"/>
                <a:ea typeface="隶书"/>
              </a:rPr>
              <a:t>切行，且珍惜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6840" y="3857400"/>
            <a:ext cx="66294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898989"/>
                </a:solidFill>
                <a:latin typeface="Times New Roman"/>
              </a:rPr>
              <a:t>——</a:t>
            </a:r>
            <a:r>
              <a:rPr b="1" lang="zh-CN" sz="3700" spc="-1" strike="noStrike">
                <a:solidFill>
                  <a:srgbClr val="898989"/>
                </a:solidFill>
                <a:latin typeface="Calibri"/>
              </a:rPr>
              <a:t>梦在前方，努力追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898989"/>
                </a:solidFill>
                <a:latin typeface="Calibri"/>
              </a:rPr>
              <a:t>（虚心，细致，严谨，规范</a:t>
            </a:r>
            <a:r>
              <a:rPr b="0" lang="en-US" sz="3700" spc="-1" strike="noStrike">
                <a:solidFill>
                  <a:srgbClr val="898989"/>
                </a:solidFill>
                <a:latin typeface="Calibri"/>
              </a:rPr>
              <a:t> ——</a:t>
            </a:r>
            <a:r>
              <a:rPr b="0" lang="zh-CN" sz="3700" spc="-1" strike="noStrike">
                <a:solidFill>
                  <a:srgbClr val="898989"/>
                </a:solidFill>
                <a:latin typeface="Calibri"/>
              </a:rPr>
              <a:t>广州市一模总结班会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Calibri"/>
              </a:rPr>
              <a:t>几点看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只动嘴，不动脑，学习不会好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只动脑，不动手，知识不长久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只做题，不看书，基础不牢固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时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汗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效率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（汗水包括：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、经得起皮肉之苦：不掉皮肉怎换成功；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、经得起血泪相洗：没有坎坷哪有成功；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、经得起泥水相随：要舍的付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有限时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无限题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浪费生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有限时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有限题目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深入思考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大效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Calibri"/>
              </a:rPr>
              <a:t>面对二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我们该怎么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Calibri"/>
              </a:rPr>
              <a:t>（首先我们要清楚复习后期的几个最好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Calibri"/>
              </a:rPr>
              <a:t>最好的复习资料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课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Calibri"/>
              </a:rPr>
              <a:t>最好的试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高考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Calibri"/>
              </a:rPr>
              <a:t>最好的复习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清楚考纲、紧跟老师的复习安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Calibri"/>
              </a:rPr>
              <a:t>对余下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i="1" lang="zh-CN" sz="3000" spc="-1" strike="noStrike">
                <a:solidFill>
                  <a:srgbClr val="000000"/>
                </a:solidFill>
                <a:latin typeface="Calibri"/>
              </a:rPr>
              <a:t>天的建议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Calibri"/>
              </a:rPr>
              <a:t>一．详细的计划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                    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zh-CN" sz="3000" spc="-1" strike="noStrike">
                <a:solidFill>
                  <a:srgbClr val="000000"/>
                </a:solidFill>
                <a:latin typeface="Calibri"/>
              </a:rPr>
              <a:t>越在前期，越要注重补漏、梳理、重温、巩固（基础，体系），越到后期，越注重速度、技巧、心理调节。当然，两者不能截然分开，只是在前期后期，他们各自的效能不同所以我们也应有所侧重，这样才能做到心中有数。总之，以基础积累实现推动成绩，以心理平和实现发挥水平，在这个认识的基础上再结合个人情况定计划，才能找到比较适合自己的节奏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ff0000"/>
                </a:solidFill>
                <a:latin typeface="Calibri"/>
              </a:rPr>
              <a:t>二．策略</a:t>
            </a:r>
            <a:r>
              <a:rPr b="1" i="1" lang="en-US" sz="27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700"/>
            </a:br>
            <a:r>
              <a:rPr b="1" i="1" lang="en-US" sz="2700" spc="-1" strike="noStrike">
                <a:solidFill>
                  <a:srgbClr val="7030a0"/>
                </a:solidFill>
                <a:latin typeface="Calibri"/>
              </a:rPr>
              <a:t>       </a:t>
            </a:r>
            <a:r>
              <a:rPr b="1" i="1" lang="zh-CN" sz="2700" spc="-1" strike="noStrike">
                <a:solidFill>
                  <a:srgbClr val="7030a0"/>
                </a:solidFill>
                <a:latin typeface="Calibri"/>
              </a:rPr>
              <a:t>端正心态：期待大幅度提升不现实，但能力范围内的分必须拿满；心中有数，按部就班</a:t>
            </a:r>
            <a:br>
              <a:rPr sz="2700"/>
            </a:br>
            <a:r>
              <a:rPr b="1" i="1" lang="en-US" sz="2700" spc="-1" strike="noStrike">
                <a:solidFill>
                  <a:srgbClr val="7030a0"/>
                </a:solidFill>
                <a:latin typeface="Calibri"/>
              </a:rPr>
              <a:t>       </a:t>
            </a:r>
            <a:r>
              <a:rPr b="1" i="1" lang="zh-CN" sz="2700" spc="-1" strike="noStrike">
                <a:solidFill>
                  <a:srgbClr val="7030a0"/>
                </a:solidFill>
                <a:latin typeface="Calibri"/>
              </a:rPr>
              <a:t>回归基础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    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扬长补短：弱势科目的提高空间相对优势科目而言较大（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90-100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易于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130-140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</a:rPr>
              <a:t>三．后期的自我管理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  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    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保持节奏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——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有序的环境、规律的生活、平和的心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</a:rPr>
              <a:t>四．对不确定因素的认识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     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X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科平均分的差距可能下次便完全不同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    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三次模拟考试卷设计不同对成绩的影响、对备考的影响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     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扎实的基础、整体成绩综合优势才是的优势（平衡、优化）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在高考的紧要关头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学习松懈  我们全力强化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概念模糊  我们本质把握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重复做题  我们落实考点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堆积知识  我们发展能力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疲于应试  我们理解高考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盲目复习  我们科学高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考备考的新境界：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愉快不轻松、 量化不后悔、高效不盲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3ee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ee436"/>
                </a:solidFill>
                <a:latin typeface="Calibri"/>
                <a:ea typeface="隶书"/>
              </a:rPr>
              <a:t>面对苦难的时候，我们要做到熟悉困难，从容应对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3ee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克服不良心态，树立必胜信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良好心理是高考制胜的法宝，不良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是高考的大敌。我们在冲刺阶段必须想办法克服以下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种不良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骄傲自满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表现在上课不认真听讲，回答问题不积极，喜欢做难题偏题，不注重基础训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消极厌学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上课打不起精神，甚至不想来上课，来上课也是看杂志，做小动作，说闲话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依赖懒惰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aa633"/>
                </a:solidFill>
                <a:latin typeface="Calibri"/>
              </a:rPr>
              <a:t>没有自己的学习计划，完全依赖老师，很少主动看课本，做练习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虚荣漂浮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0b050"/>
                </a:solidFill>
                <a:latin typeface="Calibri"/>
              </a:rPr>
              <a:t>有些同学对知识一知半解，不懂装懂，表面看似接受，实际没有掌握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悲观紧张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0b050"/>
                </a:solidFill>
                <a:latin typeface="Calibri"/>
              </a:rPr>
              <a:t>有些同学一方面总感觉智力不如其他人，考大学无望；另一方面又很想踏入大学之门，因而长时间处于一种十分紧张的状态中，表现为：上课时昏昏欲睡，加班时这本资料看看，那本资料瞧瞧，看得多，消化吸收少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贪多求快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0b050"/>
                </a:solidFill>
                <a:latin typeface="Calibri"/>
              </a:rPr>
              <a:t>对基础性的“短平快”试题不屑一顾，尽找知识点多的综合性的难题来做，只求速度和数量，不加总结提高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499680"/>
            <a:ext cx="8258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同学们，如果人生是散布在天空的星星，那突然闪过的流星就是我们高三最后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100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天的冲刺吧！也许，我们只注意到自己创造灿烂时那灼烧身体的痛苦，似乎只感受到了生活的紧张、学习的负担和父母亲那期盼的眼睛。但是，高考过后，当我们蓦然回首，最后的冲刺生活，最后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100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天那流星般的灿烂，一定会令人难忘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同学们，努力吧！要抢抓最后</a:t>
            </a:r>
            <a:r>
              <a:rPr b="1" lang="en-US" sz="3000" spc="-1" strike="noStrike">
                <a:solidFill>
                  <a:srgbClr val="0000ff"/>
                </a:solidFill>
                <a:latin typeface="隶书"/>
                <a:ea typeface="隶书"/>
              </a:rPr>
              <a:t>70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天，珍惜分分秒秒，以苦学、善学、乐学的精神，达到忘时、忘物、忘我的境界，万念归一，全力冲刺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隶书"/>
                <a:ea typeface="隶书"/>
              </a:rPr>
              <a:t>是船，就要搏击风浪；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隶书"/>
                <a:ea typeface="隶书"/>
              </a:rPr>
              <a:t>是桨，就要奋勇向前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图片 4" descr="图片6.gif"/>
          <p:cNvPicPr/>
          <p:nvPr/>
        </p:nvPicPr>
        <p:blipFill>
          <a:blip r:embed="rId2"/>
          <a:stretch/>
        </p:blipFill>
        <p:spPr>
          <a:xfrm>
            <a:off x="7000920" y="4249800"/>
            <a:ext cx="21430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世上无难事，磨剑十年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无为者功不就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学海有方舟，击水千里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有志者事竟成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70</a:t>
            </a:r>
            <a:r>
              <a:rPr b="0" lang="zh-CN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天，</a:t>
            </a:r>
            <a:br>
              <a:rPr sz="7200"/>
            </a:br>
            <a:r>
              <a:rPr b="0" lang="zh-CN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虽是流星般的短暂</a:t>
            </a:r>
            <a:br>
              <a:rPr sz="7200"/>
            </a:br>
            <a:r>
              <a:rPr b="0" lang="zh-CN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但要流星般的灿烂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隶书"/>
              </a:rPr>
              <a:t>序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每个人的一生，都会面临一些很重要的关口。高考，又无疑是这些关口的重中之重，它可能影响你一生的命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而从现在开始的今后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天，则是高考成败的关键。这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天的努力可能意味着你考入梦寐以求的大学，从此掀开辉煌的人生篇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战鼓已经敲响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七十日创辉煌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超越梦想一起飞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挑战无处不在，超越震撼心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衷心祝愿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同学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愉快、高效地完成备考任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在即将到来的高考中梦想成真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标题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359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57200" y="4500360"/>
            <a:ext cx="80438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模考试班级前五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14240" y="1357200"/>
          <a:ext cx="6143760" cy="4143600"/>
        </p:xfrm>
        <a:graphic>
          <a:graphicData uri="http://schemas.openxmlformats.org/drawingml/2006/table">
            <a:tbl>
              <a:tblPr/>
              <a:tblGrid>
                <a:gridCol w="1535400"/>
                <a:gridCol w="1536480"/>
                <a:gridCol w="1536840"/>
                <a:gridCol w="15350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总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班排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模考试班级进步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</a:rPr>
              <a:t>从一模总结出的几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一．一模前自己的复习有什么好的经验心得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二．对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基础知识点、基础技能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”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的覆盖、落实不够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不轻视、不想当然、不投机取巧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课本这么多不可能全部看完？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看什么？怎么看？作为个体知识点的识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温、补漏、提醒？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    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点都还抓不过来，非重点哪里顾得上？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何为重点？老师提到的重点自己理解是否到位？重点考察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点讲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点练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自己点面结合复习的工作有否兼顾、是否最优化？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    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课堂提到的重点似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不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？老师没有强调这个内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—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，在备考后期，吸收、领悟、主观能动性更明显影响进步的快与慢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    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推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能力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而不是依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推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能力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三．胜利不存在于大比分的领先，而存在于点滴积累落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有的内容所占比重不多，花那么多时间可能只能得到几分的提高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个内容的比重不大，但此零散类型的内容比重却不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    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越着重考察基础的题目，同一水平的学生分数差距越小；但差距小不等于没差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四．对自己的清醒认识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难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情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易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情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根据个人特点及考试方向进行微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0c0"/>
                </a:solidFill>
                <a:latin typeface="Calibri"/>
              </a:rPr>
              <a:t>调整心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5600" spc="-1" strike="noStrike">
                <a:solidFill>
                  <a:srgbClr val="0070c0"/>
                </a:solidFill>
                <a:latin typeface="Calibri"/>
              </a:rPr>
              <a:t>每个人都应该有自己的奋斗目标，每件事都应该有一个根基和支撑。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zh-CN" sz="5600" spc="-1" strike="noStrike">
                <a:solidFill>
                  <a:srgbClr val="0070c0"/>
                </a:solidFill>
                <a:latin typeface="Calibri"/>
              </a:rPr>
              <a:t>你要始终坚信，只要人生还没有结束，一切都不会是定局。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030a0"/>
                </a:solidFill>
                <a:latin typeface="Arial"/>
                <a:ea typeface="隶书"/>
              </a:rPr>
              <a:t>为了成功，我们必须把握生命里的每一分钟，全力以赴我们心中的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7:15:4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1:18Z</dcterms:modified>
  <cp:revision>13</cp:revision>
  <dc:subject>主题班会课件(分28大类): http://shop62905894.taobao.com</dc:subject>
  <dc:title>主题班会课件(分28大类): http://shop62905894.taobao.com</dc:title>
</cp:coreProperties>
</file>