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FEA-B97A-4509-AE8A-D84C21A4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E24-3E5E-4E28-9BF0-D3CCAD41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C08-1C9B-4D1E-8CB7-76C8B38D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99B-754F-4E44-851F-903B47CF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BA2-D50F-4DA7-8DC2-25C64C12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EC0-E94F-45C2-AF85-A74DA812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0C2-B9A8-43F3-AFF1-55945B9F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05F-2E4A-491D-BC8B-7FE630B1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8F0-C434-47B2-8917-656ED53C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81E-DF7C-4E2D-92A1-501039A8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ABE-1E97-4C91-A339-1E3DB921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EDE-24B3-4F49-A91B-B6D245C6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1117-955F-4ADA-920E-8F61236E35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24000" y="1916280"/>
            <a:ext cx="539928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圣火耀珠峰：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008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日，火炬照亮了珠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9640" y="620640"/>
            <a:ext cx="8136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此基础上，考生要对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大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知识点从整体上再梳理一遍，在第二轮复习中加强针对性的专题训练，如数学学科的最值问题、开放性、探索性问题、思想方法等，并不断地进行归纳、领会、应用，以此提高得分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在最后的个一月的复习中，则要挑选导向性好、难度适中的综合卷进行考前适应性训练，特别要重视完卷之后的总结反思，找准薄弱环节，对易出错的地方要分析原因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减少失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69228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方法二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把握命题趋向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2720" y="21337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吃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大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基础上，考生还要把握命题趋向，增强备考的目的性。强调学科间的真正融合，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高考的一个明显的发展趋势。因此，考生除了要重视知识的联系和深层理解，重视向学科本质逼近，不要死抠高中的知识，还要着重加强语数外基础性和工具性的作用，加强相关学科间的交融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836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方法三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补弱”不是一个好思路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989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优点发挥法是提高效率的有效手段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而一些考生备考时，喜欢采用‘补弱’的办法。其实对很多学生而言，‘补弱’是一件‘痛苦’的事情，有的时候无论怎样用功，‘弱势’仍不见好转。因此，建议考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要学会扬长避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确定与自身优势相关密切的内容，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大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依据，采用多点（优势）进攻、分割包围的战术，充分发挥自己优势，提高备考效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33336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方法四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培养答题技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41300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五个方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培养答题技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是将题目中的相关信息与学科知识挂钩，进行重组和整合，通过一系列思维活动使问题得到解决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题设置是情境真实地模拟现实，不像书本知识高度理想化、模式化，有些情境甚至是学生前所未闻的，但总可以从课本上找出知识依据。从这些题目信息中，考生要学会捕捉相关的学科信息，归纳成学科中的问题，再对知识点进行串联、并联、迁移、转换、分析、综合等，加以解决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87280" y="981000"/>
            <a:ext cx="874872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二是抓住关键词句，找出解题的突破口。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挖掘题目中的隐含条件，将所给信息进行合理转换，例如换一种方式表述条件、将图表转换成文字、将文字信息转换成图表，将抽象的信息具体化，隐藏的条件浮出来，从而明确问题的指向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8360" y="981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三是讲求答题顺序，培养良好的应试心理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生应提高应试水平，同时又不要把综合科目看得过于神秘。遇到生题、难题不要心慌，要集中注意力搜寻头脑中已有知识，尽可能联系熟悉的知识和题型，调动各种解题方法去解。综合测试有起点高、落点低的特点，因此，有的题目会很长，看起来很生疏、很难，但实际解起来往往并不难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836640"/>
            <a:ext cx="813744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四是科学作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案要准确，要做到层次清晰、条理清楚、逻辑严谨。答案宜简洁，要紧扣基本观点。答案要体现创新精神，尤其是开放性的试题，可以大胆用多种方式解答。要尽量使用规范化的学科语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653000"/>
            <a:ext cx="8064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五是对于难题则能做多少算多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整为零，争取将其中较易步骤的分拿到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96360" cy="73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破茧之痛造就化蝶之美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曾经年幼，我们向往长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曾经懵懂，我们憧憬未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而今青春，我们需要把握现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也许，眼前困难重重，但我们心中有希望的明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也许，外面风霜雨雪，但我们心中有不灭的火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也许，前路坎坷不平，但我们心中有不渝的意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剩下的时间已不容许我们驻足徘徊，拿出青春的热情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拿出昂扬的斗志，我们一起努力。我们会以信心、恒心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决心鞭策自我，我们会以严肃、严格、严密对战高考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相信无悔的努力会助我们羽化成最美的蝴蝶，遨游于无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天际！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让生命更精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的承诺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决战高考中，我们首先需要勤奋，竞争如此激烈。每一个局部都要认真钻研，容不得我们懒散、懈怠。因此时间就是一切，要好好珍惜时间，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留下我们努力拼搏的足迹，留下一生的无怨无悔！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　另外，还需要努力营造一份好心情，保持良好健康的心态。这需要我们乐观、自信。自信是成功的基石与源泉，是一个人生活与事业的支撑力量。当一个人对他自己失去信心时，他往往会一事无成；相反，一个人无论处于何种艰难的境地，只要他拥有东山再起的自信与一颗不甘失败的心，才显得难而做不到。拥有自信，理所当然地就要注意克服消极的情绪和对自己的不当否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信依然  勇气依然  决心依然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山是需要我们自信地去攀缘的，水是需要我们勇敢地去跋涉的，路是需要我们一个脚印去走的。在这短暂的最后一个月中，我相信我们高三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班的所有同学都不会松懈，因为在每个人的内心都孕育着一个相同却又相异的梦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　学也无涯，求学的路是无所谓终点。但我们坚信，站得越高，望得越远。在这十二年征途的最后阶段，我们终究自信依然，勇气依然，决心依然。我想说：“或许我们五班担不起这一片掌声，但相信掌声会因为我们而更热烈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3933360"/>
            <a:ext cx="83055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拼搏三年，送走无悔风雨寒暑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冲刺卅日，迎来决胜巅峰时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692280"/>
            <a:ext cx="784872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黑体"/>
                <a:ea typeface="黑体"/>
              </a:rPr>
              <a:t>最后的战役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 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最后冲刺，咬紧牙关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为自己的未来努力奋斗 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当战争的号角吹响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风雨拼搏十二年，我们心中都存着一份理想。在那一个梦想沸腾的时刻即将要来临的时候，我们全班同学将以全新的姿态，充沛的精力冲刺高考，用努力和汗水去充实余下的每一天，以优异的成绩向自己、向五中交出一份满意的答卷。如今，正是我们丰满了羽翼，扶摇而上九万里的时刻，而与我并肩作战的我的战友们，当战争的号角吹响时，就是我们迸发激情的时刻。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　　请相信，希望由我们来实现，奇迹由我们来创造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炽热的激情和饱满的斗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过三十天，我们就将迈入高考的殿堂，用我们积蓄了十几年的力量，乘风破浪，欲与天公试比高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我们要拼效率，有了效率才会成功；我们要拼勤奋，勤奋是成功的第一要素；拼心态，愉悦的心态可以激活大脑思维；我们要拼意志，顽强的毅力不会畏惧任何险阻；我们要拼潜力，人的潜力是无限的，只看你挖掘了没有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4762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自信铸成就　拼搏创辉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高考是人生第一次最重要的挑战，它是一次学习的检验，透视出十二年的付出和努力，它是一次祖国的挑选，一场英才的竞技，它是我们人生的新起点，将引领我们走向更辉煌的舞台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在剩下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里，我们会坚持到底，拼搏永无止境，但我们会把仅剩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投入到无尽的拼搏中，去赢得高考，我们会成为高考的胜者，这就是我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―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三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班。我们需要笑傲高考的自信，请告诉自己：“高考，我能笑到最后！”记住五中的大门就是我们的凯旋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49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誓言如山　青春无悔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不知不觉间离高考仅有一月，无声无息中龙门逼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，珍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，让飞翔的梦想在六月张开翅膀，奋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，让雄心智慧在六月发出光芒，拼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，让父母恩情在六月收获希望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在高考冲刺之际，我们会在老师的带领下，以最饱满的热情、最昂扬的斗志、最刻苦的精神、最坚韧的毅力，决心做到志存高远、脚踏实地、刻苦钻研、勤奋多思、自我调整、稳定心态、遵守纪律、不馁不气、自强自信、创造奇迹、全力以赴，争取胜利。年轻的我们会以实践来证明誓言如山，青春无悔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距高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誓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是一个有志气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拥有蟾宫折桂的信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拥有团结拼搏的精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拥有坚韧强健的体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是最棒的五中学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不做怯懦的退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不做无益的彷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全力冲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拼搏奋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创造辉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常时期 非常乐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常坚持 非常毅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信自我 不断超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决胜高考 舍我其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16000" y="836640"/>
            <a:ext cx="712800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祝你成功！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4280"/>
            <a:ext cx="9144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树立自信精神　树立坚定信念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，我们召开这次主题班会，为的是你们精神抖擞地去迎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的高考。为了这一天，你们已经准备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也奋斗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现在，冲刺的时刻到了。此时，我想对你们说：你们要树立自信精神，树立坚定信念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在高考冲刺阶段，你们要有一个坚定的信念，要有永不言败的不服输的精神，要有不达目标誓不罢休的精神。在困难面前决不退缩，在疲惫时决不懈怠，用自己的信心和毅力去克服一切困难。要记住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人能走多远，不问双脚问意志；人能攀多高，不问双手问信念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希望你们轻装上阵，以饱满的精神状态和良好的心态奔赴考场，希望你们拿出年轻人的胆量和智慧勇敢地向高考宣战，考出自己最好的成绩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2560" y="1066680"/>
            <a:ext cx="75614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考生存在三大备考误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高考作为一门科学，命题人员是按照科学的方法和科学的态度进行命题的，因此，考生的备考也必须走上科学之路。可实际上有非常多的考生在备考中陷入了三个误区中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2560" y="1066680"/>
            <a:ext cx="75614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考生存在三大备考误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高考作为一门科学，命题人员是按照科学的方法和科学的态度进行命题的，因此，考生的备考也必须走上科学之路。可实际上有非常多的考生在备考中陷入了三个误区中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119700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是盲目备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些考生不清楚高考的要求，只管自己埋头苦学，学中学的内容，学教辅资料上的内容，而不管高考的需求。有的考生没有自己的主见，有的则盲从教师，被各种指导和诱惑牵着向前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88272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二是焦急万分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些考生渴望成功，给自己背上沉重的负担，有时家长殷切的目光也给考生带来了莫名的压力。他们就像没头的苍蝇，每天都很紧张，急得不得了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390852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三是投机取巧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的考生削尖了脑袋，四处探听消息，追求猜题、押题。有的则怕吃苦，备考时不努力还自我安慰，找借口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617400"/>
            <a:ext cx="8064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科学备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按照这样的思路和方法，每科提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没有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500280"/>
            <a:ext cx="8209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方法一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科学高效地使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大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破除备考误区，首先要科学高效地使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大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54200" y="32050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次，要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大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高考试题、教材、练习相结合，重在发现高考内容的必考点，把握领会高考试题特点及其变化规律，发现今年处在高考考查方向上的知识点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2560" y="866880"/>
            <a:ext cx="76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首先考生要学习钻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大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大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求复习备考，把握要求，明确方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8:58Z</dcterms:modified>
  <cp:revision>15</cp:revision>
  <dc:subject>主题班会课件(分28大类): http://shop62905894.taobao.com</dc:subject>
  <dc:title>主题班会课件(分28大类): http://shop62905894.taobao.com</dc:title>
</cp:coreProperties>
</file>