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type.wav" ContentType="audio/x-wav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2A6C-7422-4BC1-8EE3-0B8788CC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2178-2A18-4410-9373-71AB78AD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5CA-D715-4F1B-9C7C-EA19FE81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295-9805-4999-99C8-6B978467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C3A-5900-4256-8200-306CF304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5090-1CE5-4FA1-8668-3DD6CFDD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CEE6-1F56-44A3-B8C5-199941A4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BDA-669F-49DF-9230-37412AC6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239-CADA-4A6B-9521-7D39890E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B87A-5366-4865-9D64-AFAA5693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26C4-0DEB-4770-8F31-F50960A0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FAA-09D5-46EA-BA3F-3DF4389C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58D7-5CA4-42AE-B705-DDD0D7B29F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90720" y="1066680"/>
            <a:ext cx="7086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宋体"/>
              </a:rPr>
              <a:t>冲刺中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f00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4520" y="50760"/>
            <a:ext cx="8994960" cy="675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4176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复习间歇适当地运动，劳逸结合考前的紧张复习，会令人感觉满脑子的公式、定律、单词，昏昏沉沉地非常难受。这时不妨作些适当的运动或娱乐，如散步、爬山、打球、听音乐等，一可消除脑部的疲劳、二可让我们的紧张的气氛中解脱出来。但是有输赢的娱乐活动不宜多做，非但不能调节情绪，反而使人难以平静，回复到功课上。</a:t>
            </a:r>
            <a:br>
              <a:rPr sz="1000"/>
            </a:br>
            <a:br>
              <a:rPr sz="1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11430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(3)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平时做题量要足够，见过的题型越多，越不害怕。所以不要忽视平时老师发的练习，练习当作考试，考试时就像做练习一样如履平地，就要达到这样的境界。</a:t>
            </a:r>
            <a:br>
              <a:rPr sz="1000"/>
            </a:br>
            <a:br>
              <a:rPr sz="1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29718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晚上做完作业后，先做一些轻微的锻炼，睡觉时不要控制自己的想法，不要说别想了赶快睡吧，也不要数数，因为越是提醒自己越是把自己唤醒，身体疲劳了，就不想那么多了，就入睡了。</a:t>
            </a:r>
            <a:br>
              <a:rPr sz="3200"/>
            </a:br>
            <a:br>
              <a:rPr sz="1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44792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 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5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紧张的时候不要控制自己情绪，对自己说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豁出去了，紧张去吧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结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分钟之内紧张情绪就过去了。紧张就象一个看不到底的黑洞，很深。但只要你勇敢地跳过去，回过头来看看原来是那么简单，可以逾越的。</a:t>
            </a:r>
            <a:br>
              <a:rPr sz="3600"/>
            </a:br>
            <a:br>
              <a:rPr sz="1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1523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(6)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加强定期的体育锻炼，不要因为体育测试结束而中止运动。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609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三、冲刺阶段的高效复习技巧</a:t>
            </a:r>
            <a:r>
              <a:rPr b="0" lang="zh-CN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828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Times New Roman"/>
              </a:rPr>
              <a:t>  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 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用孙子兵法复习备考，可以助你决胜于千里之外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四、临场发挥策略</a:t>
            </a:r>
            <a:br>
              <a:rPr sz="1000"/>
            </a:br>
            <a:br>
              <a:rPr sz="1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858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整体把握，先易后难，合理取舍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自信从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30200" y="355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438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对于难题，做到“你难我难大家难，我不畏难”，在心理上就占上风；对于容易题，做到“你易我易大家易，我不大意！”如果怯场，心理暗示：告诉自己：我能行！我一定行！控制情绪的练习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什么时候改变答案？（明显错误，模棱两可，就相信自己的直觉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47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 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检查的技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362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区别对待不同的题目（有把握，无把握，作记号，最后必须消除记号）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03848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摆脱第一遍做法的影响，把题目当作第一次接触，最好不阅读第一次答题的过程。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920" y="380880"/>
            <a:ext cx="6629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最后奉送三句话：</a:t>
            </a:r>
            <a:br>
              <a:rPr sz="3200"/>
            </a:br>
            <a:br>
              <a:rPr sz="1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3716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坚持就是一种赢的姿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轻松一点，胜人一筹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429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把最美的风景带到山巅，体验登天的感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把最灿烂的笑容留到火热的六月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447920" y="1905120"/>
            <a:ext cx="62481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祝你成功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52560" y="1600200"/>
            <a:ext cx="72388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磨砺百日，披荆斩棘赴中考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看我刀锋锐利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奋战三月，卧薪尝胆增学时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听我消息喜人。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75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23920" y="-3800520"/>
            <a:ext cx="9591840" cy="14459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80880"/>
            <a:ext cx="9144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两兄弟酿酒的故事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 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谷物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米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发酵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    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密封在坛子里，九九八十一天，酿酒师一再吩咐：公鸡三啼之后再打开。弟弟按捺不住，在公鸡第一次打鸣之后匆匆打开瓶盖，结果前功尽弃，弟弟的酒是酸的。老成持重的哥哥铁定了心，一定要等到公鸡唱三唱的时候，结果哥哥酿成了醇香的美酒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666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这个故事给我们的启示起码两点：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、坚持到底就是胜利。谁能坚持到最后，谁就是最后的胜利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、决定胜负的往往在最后的关键时刻，也就是我们目前的冲刺阶段。中考是综合素质的检测，既是知识、能力的考查，同时，也是心理素质的较量。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808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冲刺阶段的最佳心态及调整</a:t>
            </a:r>
            <a:br>
              <a:rPr sz="4000"/>
            </a:br>
            <a:br>
              <a:rPr sz="1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28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目前，冲刺阶段的心理状态大致分为三类：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    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、松散状态。自己放弃，我只想对这些同学说：人往往不是被对手打败的，而是被自己打败的。</a:t>
            </a:r>
            <a:br>
              <a:rPr sz="1000"/>
            </a:br>
            <a:br>
              <a:rPr sz="1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094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适度的紧张状态。这是主流，大部分同学是处在这种状态。有些紧张，感觉中考是一种压力，同时也是一种动力，因而目前正在进行紧张有序的复习。这是一种最佳的复习迎考状态。根据心理学家桑尼博士的理论：适度的紧张是有益的，它会促使学生做好准备，振作精神，消除杂念，提高注意力，激发潜能，让我们比平时更出色。所以，适度或者说稍微的紧张是必须的，也就是我们说的紧迫感，它能引领我们走向成功。因此，把这种状态进行到底，一直保持到中考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0666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    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过分紧张。估计不多，将会导致无助、失望、消极甚至生病。因此，反作用比较大。因此，需要尽快调整。紧张的表现：比如上课、自修时的烦躁、不静心、低效学习、暂时的失眠现象等等。</a:t>
            </a:r>
            <a:br>
              <a:rPr sz="4000"/>
            </a:br>
            <a:br>
              <a:rPr sz="1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5335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380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原因：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0666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当天的学习任务未完成。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历次考试的失利，对自己缺乏信心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1384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对自己的目标定得太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114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家长的紧张情绪影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1814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连续的紧张学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99"/>
                                      </p:cond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3049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对策：</a:t>
            </a:r>
            <a:br>
              <a:rPr sz="3600"/>
            </a:br>
            <a:br>
              <a:rPr sz="1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89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正常的生活方式有的家长在考试前甚至比考生还要紧张。他们把考生当作重点保护对象，停止了家里的一切娱乐活动，连电视机都不敢开，使得家里生活气氛格外紧张，这无形中对考生施加了压力。父母这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望子成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心情是可以理解的，但我们一定要镇静，可以和父母交流一下看法，让父母放松情绪，尽量排除来自外界的一切情绪干扰。要保持平静的、正常的生活方式。因为，正常的生活方式本身就是一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镇静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03:20:5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7:44Z</dcterms:modified>
  <cp:revision>7</cp:revision>
  <dc:subject>主题班会课件(分28大类): http://shop62905894.taobao.com</dc:subject>
  <dc:title>主题班会课件(分28大类): http://shop62905894.taobao.com</dc:title>
</cp:coreProperties>
</file>