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5.jpeg" ContentType="image/jpeg"/>
  <Override PartName="/ppt/media/image19.png" ContentType="image/png"/>
  <Override PartName="/ppt/media/image16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C34-E93E-4348-B60F-F34CBF4E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CCF-B312-4362-AD47-0D16716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776-CB54-4C93-8244-55EFD8DA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81A-C0E1-487E-8CDA-7C35F81C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3C6B-5819-4DC1-A498-CAADB359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48B-1CCE-42F3-8AA9-211CE3B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30F-0E3D-43B2-B3E7-E43207F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FB0A-0133-4444-86F5-F126513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282B-7CF8-4C87-8763-F212D50A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2E33-52AA-4CC1-A56F-80522F3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7B7-88F2-4827-A2B6-2CF4DB5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E74-9939-4CAA-AA3C-3DAC71F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B007-529E-4633-A20E-B74EEBB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4E1A-E1CD-47FC-B8DF-EDF27D1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7188-CBDF-4872-9328-1281C1D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C28-96C6-45D9-8C2F-FCB95781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633-744D-47BC-87E5-E3CBA153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88B-44A5-41A0-9297-987C0FD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92B-7F51-4D88-9A8D-186B567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139-AB67-42D1-B330-6E7809C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329-D1F7-4759-B98F-A5542B7A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ACD-9160-4CCC-98F3-5F38F1B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58C-0A71-442A-BB44-6C86698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F0B-E25B-4D90-91B5-F10E614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7CC0-5D58-4A11-AFDE-0726A75F35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D4E-C23F-4431-A02F-F685876895A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11280" y="2060640"/>
            <a:ext cx="799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充满自信 迈向高考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动作按钮: 声音 8">
            <a:hlinkClick r:id="rId2"/>
          </p:cNvPr>
          <p:cNvSpPr/>
          <p:nvPr/>
        </p:nvSpPr>
        <p:spPr>
          <a:xfrm>
            <a:off x="8215200" y="600084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8424" y="8406"/>
                </a:moveTo>
                <a:lnTo>
                  <a:pt x="12854" y="8406"/>
                </a:lnTo>
                <a:lnTo>
                  <a:pt x="17276" y="3794"/>
                </a:lnTo>
                <a:lnTo>
                  <a:pt x="17276" y="17806"/>
                </a:lnTo>
                <a:lnTo>
                  <a:pt x="12854" y="13194"/>
                </a:lnTo>
                <a:lnTo>
                  <a:pt x="8424" y="13194"/>
                </a:lnTo>
                <a:close/>
              </a:path>
              <a:path fill="darken" w="30862" h="21600">
                <a:moveTo>
                  <a:pt x="18930" y="10800"/>
                </a:moveTo>
                <a:lnTo>
                  <a:pt x="22437" y="10800"/>
                </a:lnTo>
              </a:path>
              <a:path fill="darken" w="30862" h="21600">
                <a:moveTo>
                  <a:pt x="18930" y="8406"/>
                </a:moveTo>
                <a:lnTo>
                  <a:pt x="22437" y="5639"/>
                </a:lnTo>
              </a:path>
              <a:path fill="darken" w="30862" h="21600">
                <a:moveTo>
                  <a:pt x="18930" y="13194"/>
                </a:moveTo>
                <a:lnTo>
                  <a:pt x="22437" y="1596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4904280" y="5643720"/>
            <a:ext cx="32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200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日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922-1834-441C-8C98-354DBE70F89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50920" y="40464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卡通简体"/>
              </a:rPr>
              <a:t>同学们，对明年高考有信心吗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Picture 5" descr="good"/>
          <p:cNvPicPr/>
          <p:nvPr/>
        </p:nvPicPr>
        <p:blipFill>
          <a:blip r:embed="rId2"/>
          <a:stretch/>
        </p:blipFill>
        <p:spPr>
          <a:xfrm>
            <a:off x="1071720" y="357120"/>
            <a:ext cx="202392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mg-1627937033"/>
          <p:cNvPicPr/>
          <p:nvPr/>
        </p:nvPicPr>
        <p:blipFill>
          <a:blip r:embed="rId3"/>
          <a:stretch/>
        </p:blipFill>
        <p:spPr>
          <a:xfrm>
            <a:off x="3780000" y="2421000"/>
            <a:ext cx="4752720" cy="4292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0" y="2637000"/>
            <a:ext cx="3708360" cy="3024000"/>
          </a:xfrm>
          <a:prstGeom prst="cloudCallout">
            <a:avLst>
              <a:gd name="adj1" fmla="val 67680"/>
              <a:gd name="adj2" fmla="val 30472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看</a:t>
            </a:r>
            <a:r>
              <a:rPr b="1" lang="en-US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!</a:t>
            </a:r>
            <a:r>
              <a:rPr b="1" lang="zh-CN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刘翔都在为你们为加油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4FA7-4790-48B0-88C9-37B32FDB339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-71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方正水黑简体"/>
              </a:rPr>
              <a:t>相信自己，才能成功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7358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多少次挥汗如雨  伤痛曾填满记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只因为始终相信  去拼搏才能胜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总是在鼓舞自己  要成功就得努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热血在赛场飞腾  巨人在东方升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你将赢得胜利创造奇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梦想在你手中这是你的天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你我将超越极限超越自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当这一切过去你们将是第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</a:t>
            </a:r>
            <a:r>
              <a:rPr b="1" lang="en-US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960640" y="85716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相 信 自 己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动作按钮: 开始 11"/>
          <p:cNvSpPr/>
          <p:nvPr/>
        </p:nvSpPr>
        <p:spPr>
          <a:xfrm>
            <a:off x="8001000" y="5357880"/>
            <a:ext cx="928800" cy="714240"/>
          </a:xfrm>
          <a:custGeom>
            <a:avLst/>
            <a:gdLst>
              <a:gd name="textAreaLeft" fmla="*/ 46080 w 928800"/>
              <a:gd name="textAreaRight" fmla="*/ 882720 w 9288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85" h="21600">
                <a:moveTo>
                  <a:pt x="0" y="0"/>
                </a:moveTo>
                <a:lnTo>
                  <a:pt x="28085" y="0"/>
                </a:lnTo>
                <a:lnTo>
                  <a:pt x="28085" y="21600"/>
                </a:lnTo>
                <a:lnTo>
                  <a:pt x="0" y="21600"/>
                </a:lnTo>
                <a:close/>
              </a:path>
              <a:path fill="lightenLess" w="28085" h="21600">
                <a:moveTo>
                  <a:pt x="0" y="0"/>
                </a:moveTo>
                <a:lnTo>
                  <a:pt x="28085" y="0"/>
                </a:lnTo>
                <a:lnTo>
                  <a:pt x="26685" y="1400"/>
                </a:lnTo>
                <a:lnTo>
                  <a:pt x="1400" y="1400"/>
                </a:lnTo>
                <a:close/>
              </a:path>
              <a:path fill="darken" w="28085" h="21600">
                <a:moveTo>
                  <a:pt x="28085" y="0"/>
                </a:moveTo>
                <a:lnTo>
                  <a:pt x="28085" y="21600"/>
                </a:lnTo>
                <a:lnTo>
                  <a:pt x="26685" y="20200"/>
                </a:lnTo>
                <a:lnTo>
                  <a:pt x="26685" y="1400"/>
                </a:lnTo>
                <a:close/>
              </a:path>
              <a:path fill="darkenLess" w="28085" h="21600">
                <a:moveTo>
                  <a:pt x="28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5" y="20200"/>
                </a:lnTo>
                <a:close/>
              </a:path>
              <a:path fill="lighten" w="28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5" h="21600">
                <a:moveTo>
                  <a:pt x="10544" y="10800"/>
                </a:moveTo>
                <a:lnTo>
                  <a:pt x="21049" y="3794"/>
                </a:lnTo>
                <a:lnTo>
                  <a:pt x="21049" y="17806"/>
                </a:lnTo>
                <a:close/>
              </a:path>
              <a:path fill="darken" w="28085" h="21600">
                <a:moveTo>
                  <a:pt x="7036" y="3794"/>
                </a:moveTo>
                <a:lnTo>
                  <a:pt x="8699" y="3794"/>
                </a:lnTo>
                <a:lnTo>
                  <a:pt x="8699" y="17806"/>
                </a:lnTo>
                <a:lnTo>
                  <a:pt x="7036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CF21-4929-4F57-89B7-D075157019F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动作按钮: 开始 7"/>
          <p:cNvSpPr/>
          <p:nvPr/>
        </p:nvSpPr>
        <p:spPr>
          <a:xfrm>
            <a:off x="7929720" y="5429160"/>
            <a:ext cx="928440" cy="71460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0531" y="10800"/>
                </a:moveTo>
                <a:lnTo>
                  <a:pt x="21037" y="3794"/>
                </a:lnTo>
                <a:lnTo>
                  <a:pt x="21037" y="17806"/>
                </a:lnTo>
                <a:close/>
              </a:path>
              <a:path fill="darken" w="28060" h="21600">
                <a:moveTo>
                  <a:pt x="7024" y="3794"/>
                </a:moveTo>
                <a:lnTo>
                  <a:pt x="8686" y="3794"/>
                </a:lnTo>
                <a:lnTo>
                  <a:pt x="8686" y="17806"/>
                </a:lnTo>
                <a:lnTo>
                  <a:pt x="702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571680" y="1653480"/>
            <a:ext cx="971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让我们共同唱响心中的歌：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真心英雄”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不经历风雨，怎么见彩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079-F2BC-49BA-8F6A-12282E30293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7" name="Picture 4" descr="00956097"/>
          <p:cNvPicPr/>
          <p:nvPr/>
        </p:nvPicPr>
        <p:blipFill>
          <a:blip r:embed="rId2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27200" y="333360"/>
            <a:ext cx="20088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方正琥珀简体"/>
                <a:ea typeface="方正琥珀简体"/>
              </a:rPr>
              <a:t>王大雷平静面对落选 自信国奥下届名单肯定有他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E87-6470-4327-AB11-F24EB7EB38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图片1"/>
          <p:cNvPicPr/>
          <p:nvPr/>
        </p:nvPicPr>
        <p:blipFill>
          <a:blip r:embed="rId2"/>
          <a:stretch/>
        </p:blipFill>
        <p:spPr>
          <a:xfrm>
            <a:off x="1357200" y="1071720"/>
            <a:ext cx="6000840" cy="5216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995640" y="5373720"/>
            <a:ext cx="295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71680" y="214200"/>
            <a:ext cx="7200720" cy="703440"/>
          </a:xfrm>
          <a:prstGeom prst="rect">
            <a:avLst/>
          </a:prstGeom>
          <a:solidFill>
            <a:srgbClr val="cc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第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1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次向高考发起冲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─曹湘凡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3" name="Picture 7" descr="高考13次终走进大学 “高考王”曹湘凡入学报到(图)"/>
          <p:cNvPicPr/>
          <p:nvPr/>
        </p:nvPicPr>
        <p:blipFill>
          <a:blip r:embed="rId3"/>
          <a:stretch/>
        </p:blipFill>
        <p:spPr>
          <a:xfrm>
            <a:off x="1428840" y="1071720"/>
            <a:ext cx="5929200" cy="506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1CF-15B5-4C15-838A-B9AEDE0992B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5" name="Picture 4" descr="刘仕春用嘴作画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79280" y="404640"/>
            <a:ext cx="43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铁筋隶书简体"/>
              </a:rPr>
              <a:t>坚强自信的无臂女子   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艺黑简体"/>
                <a:ea typeface="方正艺黑简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艺黑简体"/>
                <a:ea typeface="方正艺黑简体"/>
              </a:rPr>
              <a:t>刘仕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811200" y="476280"/>
            <a:ext cx="2008800" cy="417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隶变简体"/>
              </a:rPr>
              <a:t>用口咬毛笔，写出各种字体的毛笔字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24922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00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年参加高考被黄海学院录取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675640" y="6237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7619-966D-44E3-8B98-DFE1E05CD54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1" name="Picture 4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662080" y="2276640"/>
            <a:ext cx="3227760" cy="4103640"/>
          </a:xfrm>
          <a:prstGeom prst="rect">
            <a:avLst/>
          </a:prstGeom>
          <a:solidFill>
            <a:srgbClr val="99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隶变简体"/>
              </a:rPr>
              <a:t>用嘴咬着笔杆敲击键盘打字，用脚握住鼠标操作电脑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5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E10-25F5-4E5A-8011-77B2F0AA14C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5" name="Picture 4" descr="W0200402103576971875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9"/>
          <p:cNvGrpSpPr/>
          <p:nvPr/>
        </p:nvGrpSpPr>
        <p:grpSpPr>
          <a:xfrm>
            <a:off x="684360" y="4292640"/>
            <a:ext cx="7704000" cy="1423440"/>
            <a:chOff x="684360" y="4292640"/>
            <a:chExt cx="7704000" cy="1423440"/>
          </a:xfrm>
        </p:grpSpPr>
        <p:sp>
          <p:nvSpPr>
            <p:cNvPr id="107" name="Rectangle 6"/>
            <p:cNvSpPr/>
            <p:nvPr/>
          </p:nvSpPr>
          <p:spPr>
            <a:xfrm>
              <a:off x="684360" y="5012640"/>
              <a:ext cx="77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方正古隶简体"/>
                </a:rPr>
                <a:t>最困难之时就是离成功不远之日</a:t>
              </a:r>
              <a:endParaRPr b="1" lang="en-US" sz="40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900000" y="429264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方正卡通简体"/>
                </a:rPr>
                <a:t>相信：</a:t>
              </a:r>
              <a:endParaRPr b="1" lang="en-US" sz="44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109" name="Text Box 10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5FF-7CF3-4697-B315-05630B8768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11" name="Picture 5" descr="C:\Users\shisufang\Desktop\班会\2006年江苏省高考状元黄梦娜.jpg"/>
          <p:cNvPicPr/>
          <p:nvPr/>
        </p:nvPicPr>
        <p:blipFill>
          <a:blip r:embed="rId2"/>
          <a:stretch/>
        </p:blipFill>
        <p:spPr>
          <a:xfrm>
            <a:off x="571680" y="714240"/>
            <a:ext cx="7686360" cy="5929560"/>
          </a:xfrm>
          <a:prstGeom prst="rect">
            <a:avLst/>
          </a:prstGeom>
          <a:ln w="0">
            <a:noFill/>
          </a:ln>
        </p:spPr>
      </p:pic>
      <p:sp>
        <p:nvSpPr>
          <p:cNvPr id="112" name="矩形 5"/>
          <p:cNvSpPr/>
          <p:nvPr/>
        </p:nvSpPr>
        <p:spPr>
          <a:xfrm>
            <a:off x="857160" y="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</a:rPr>
              <a:t>2006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年江苏省高考状元黄梦娜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FE2-B264-46A2-AB9E-43506F88921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007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年江苏省高考状元汪天一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5" name="Picture 5" descr="C:\Users\shisufang\Desktop\班会\2007年江苏省高考状元汪天一.jpg"/>
          <p:cNvPicPr/>
          <p:nvPr/>
        </p:nvPicPr>
        <p:blipFill>
          <a:blip r:embed="rId2"/>
          <a:stretch/>
        </p:blipFill>
        <p:spPr>
          <a:xfrm>
            <a:off x="2143080" y="1428840"/>
            <a:ext cx="5165640" cy="47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5FA-E134-4091-8678-895640AC1E0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071960" y="714240"/>
            <a:ext cx="1008000" cy="792360"/>
          </a:xfrm>
          <a:prstGeom prst="leftArrow">
            <a:avLst>
              <a:gd name="adj1" fmla="val 50000"/>
              <a:gd name="adj2" fmla="val 3180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071960" y="4214880"/>
            <a:ext cx="1008000" cy="720720"/>
          </a:xfrm>
          <a:prstGeom prst="rightArrow">
            <a:avLst>
              <a:gd name="adj1" fmla="val 50000"/>
              <a:gd name="adj2" fmla="val 3496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20" name="Picture 10" descr="C:\Users\shisufang\Desktop\班会\2008年高考理科状元盐城中学祁明怡.jpg"/>
          <p:cNvPicPr/>
          <p:nvPr/>
        </p:nvPicPr>
        <p:blipFill>
          <a:blip r:embed="rId4"/>
          <a:stretch/>
        </p:blipFill>
        <p:spPr>
          <a:xfrm>
            <a:off x="0" y="7128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1"/>
          <p:cNvSpPr/>
          <p:nvPr/>
        </p:nvSpPr>
        <p:spPr>
          <a:xfrm>
            <a:off x="5000760" y="4287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年高考理科状元盐城中学祁明怡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22" name="Picture 11" descr="C:\Users\shisufang\Desktop\班会\2008年江苏省高考文科状元杨清嘉.jpg"/>
          <p:cNvPicPr/>
          <p:nvPr/>
        </p:nvPicPr>
        <p:blipFill>
          <a:blip r:embed="rId5"/>
          <a:stretch/>
        </p:blipFill>
        <p:spPr>
          <a:xfrm>
            <a:off x="5214960" y="2286000"/>
            <a:ext cx="3214800" cy="4275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13"/>
          <p:cNvSpPr/>
          <p:nvPr/>
        </p:nvSpPr>
        <p:spPr>
          <a:xfrm>
            <a:off x="0" y="3929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年江苏省高考文科状元杨清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4:39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4:29Z</dcterms:modified>
  <cp:revision>93</cp:revision>
  <dc:subject>主题班会课件(分28大类): http://shop62905894.taobao.com</dc:subject>
  <dc:title>主题班会课件(分28大类): http://shop62905894.taobao.com</dc:title>
</cp:coreProperties>
</file>