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CF9-BD25-4C4C-B117-53C5C950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97E-19C8-4964-971A-CAC6A644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853-1399-4B4B-8394-F477FF55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72E-D2F2-4301-811A-E7C7D2B3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9FD-C7B2-42EE-B276-EA5F99F4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2C3-01E1-48FF-9F46-4B84B98D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B5C-56CB-4221-A180-9D0452D4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AF8-5BEB-495F-B11E-506747CC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F80-55A0-42F1-B800-D0F2318F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987-9B8E-406B-9BB3-46A720D1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823-36B4-4AD3-B428-BA3A4DC0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00D-4EF1-479D-B555-6BE6AB32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6BD0-1593-44BC-A636-25E663FC1F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4915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好考试分析，把握黄金学习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4508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三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2602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学法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125360"/>
            <a:ext cx="8568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答疑动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同学第八节回顾全天所学，做作业从当天有答疑老师科目开始，及时发现问题，及时和老师交流。如果有许多问题，提前和老师预约，个人不要一次问太多题目，一方面自己无法消化吸收，另外也影响他人问问题。绝对不能别人问问题时，自己在楼道干等着，无所事事。教室内的同学要养成专心于自己的学习，不受楼道答疑和同学出出进进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62064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错题整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理并经常翻看错题集，想考一本的学生和尖子生要会变形题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213000"/>
            <a:ext cx="842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辅导书的利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跟住老师，高效完成课内作业，辅导书，整体平衡，一强科一弱科，齐头并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合理安排学习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34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抓住课堂：晚上学习一定不要影响第二天上课的听课质量，课堂是学习的主阵地，谁失去了课堂最终肯定一无所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213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会利用零散时间：早、晚到校立即进入自习状态，不要左顾右盼；课间及时请教老师、同学解决课上疑惑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157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早起和晚睡必须选择一个，中午要适当休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4046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要有良好的学习品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268280"/>
            <a:ext cx="871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要有恒心、信心；（高三刚刚开始，一切皆有可能，要有坚持不放弃的精神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要专心、静心；（有的同学这边学习，那边开着电脑或手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要有狠心；（拼了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要有爱心。（把眼界放的长远，帮助别人自己会取得更大的进步，学会合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不需要虚荣心。（要不耻下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40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有好身体才会有好成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484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日三餐要吃好（尤其住校的同学，一天三顿火烧可不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适当锻炼提高免疫力（备战高三是个持久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458136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有困难找组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4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班老师就是你们强大的后盾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71640" y="191628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要充满激情的度过黄金学习期，更要有黄金般的收获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680" y="4035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考试成绩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31040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一）学生个人对自身成绩进行分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13372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查看班级排名及年级排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查看是否全科及格，对比每个科目和班级、年级各科平均分的差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查看与自己相当的同学的各科成绩，确定自己的榜样以及下阶段需要赶超的科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2924280"/>
            <a:ext cx="8531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没？学会没？熟练没？变成自己的知识没（应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上高三了，你意识到了，别人也意识到了，你觉得很努力，是不是努力的效率不够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组发挥作用没？同桌同学发挥作用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以下时间你利用的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课、课间、晚自习，休息时间、回到家、周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0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视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05264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考后不反思等于白陪别人做了两天题；不怕考不好，就怕原因找不到，更怕找到改不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046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卷子下发后，写出本次考试的分析感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班级、年级名次，各科具体分数及其与班级、年级各科平均分的差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考前、考中、考后心理分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各科失分点、失分知识能力点分析。必须分科目以错题为依托逐个分析，并将错题本交给相关学科老师检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暑假补课期间的成功经验和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月月考前的学习计划，如何提高自己弱科的详细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二）对班级整体成绩进行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637000"/>
            <a:ext cx="7058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年级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年级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年级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年级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5560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各分数段情况统计：我们每个人都争取入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549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感  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50028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对进步的同学我要说“不到高考，就不能说你成功了，高考充满了变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73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对退步的同学我要说“幸亏这次不是高考，你还有机会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93614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773680"/>
            <a:ext cx="90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125360"/>
            <a:ext cx="7148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不要烦、不要急，对着错题细分析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不要慌、不要乱，认真收获每一天！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20640" y="189000"/>
            <a:ext cx="95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各科平均分情况统计分析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052640"/>
          <a:ext cx="8642520" cy="4213080"/>
        </p:xfrm>
        <a:graphic>
          <a:graphicData uri="http://schemas.openxmlformats.org/drawingml/2006/table">
            <a:tbl>
              <a:tblPr/>
              <a:tblGrid>
                <a:gridCol w="1152720"/>
                <a:gridCol w="1209600"/>
                <a:gridCol w="960480"/>
                <a:gridCol w="958680"/>
                <a:gridCol w="959040"/>
                <a:gridCol w="958680"/>
                <a:gridCol w="930240"/>
                <a:gridCol w="1513080"/>
              </a:tblGrid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.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.8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.7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平均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1.2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.4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.2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6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4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.05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.8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4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6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.9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9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.2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3.15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.6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9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.9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7.7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级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.0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2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.3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2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.1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7.54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95280" y="530208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同学们一定要坚定信心，继续努力，争取更大的进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47628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把握黄金提高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34136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金提高期的由来 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是进入高三的最佳状态，积极、高效、平稳学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学生的高三复习来讲，大部分学科进入一轮复习，相当一部份知识是高一所学，基础性强，高考当中所占比重较大，例如，地理学科，本阶段主要进行的是自然地理复习，是高考地理复习中的重点、也是难点。谁把握住本阶段的学习，谁后续复习效率就高。其他学科也应该也具有上述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7:19:4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12:19Z</dcterms:modified>
  <cp:revision>41</cp:revision>
  <dc:subject>主题班会课件(分28大类): http://shop62905894.taobao.com</dc:subject>
  <dc:title>主题班会课件(分28大类): http://shop62905894.taobao.com</dc:title>
</cp:coreProperties>
</file>