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4D1B-6C87-43CB-9847-596CB5AB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2785-E096-40AA-AE02-A4C2054E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2F7-4ED4-47A3-A796-5D79BB3C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67B7-27C9-48E5-8A72-4F70C05C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AFC2-165E-4C5D-8696-06C13667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30EE-41CA-49CB-80F7-BD1D323D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C569-F237-449E-B8E6-AC0126F7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0CD3-EBD0-4F7B-AD82-605771B6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23AA-EC7F-482F-9343-374A17DA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4A6E-E31C-43C6-B3E3-D36FD2E6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D5CD-7FF3-4657-BB0D-BEAE65A5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BEB-337B-4B96-A600-6BFCFBD7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B444-50FC-4CE5-99D4-C57CD1BE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C16C-695B-4900-85A4-E62E6BE6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E1CA-DB77-45A9-8E99-8E923FB0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A49F-550E-484C-A269-D1C68542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20D1-2C28-409B-AC2C-38FF3AF2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40A3-59BB-47BC-8B68-193AC588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7DD-8100-4511-BC1D-523919A6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4AFD-61AA-47CE-A684-6D65C487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5908-24DF-4EC2-BA2F-8C44DED1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5FF8-BEAF-47CF-97D5-C28C07A9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D06A-BAA6-428A-A9DB-57BF17A7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E10-6D2F-417A-955F-B65D4255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CD97-12F9-4E91-976E-A5DBCE67A01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C8F7-B76E-4A5B-9F0F-85242E4B325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Local%20Settings/Temp/Rar$DI01.234/&#22823;&#23398;.exe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izy.cn//travel_photo/c8f/51140.html" TargetMode="External"/><Relationship Id="rId2" Type="http://schemas.openxmlformats.org/officeDocument/2006/relationships/hyperlink" Target="http://www.izy.cn//travel_guide/302/0_0_4839_1_0_0.html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/Rar$DI01.234/&#25112;&#32988;&#33258;&#24049;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5545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 u="sng">
                <a:solidFill>
                  <a:srgbClr val="99ff66"/>
                </a:solidFill>
                <a:uFillTx/>
                <a:latin typeface="Arial Black"/>
                <a:hlinkClick r:id="rId2"/>
              </a:rPr>
              <a:t>我们的明天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1760" y="151920"/>
            <a:ext cx="83818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中午多留半小时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　出场人物：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陕西郭璐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　我每天中午多留半个小时学习。因为这个时候比较安静，气氛也很好，很适合加强记忆，这段时间很适合用来整理、记忆一上午学习的知识，尤其是一些琐碎的东西。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58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高三很少“开夜车”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　出场人物：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常州陈世耀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能取得好成绩最主要的原因是：我养成了一个良好的学习习惯。即使是在高三两个学期，我晚上睡觉的时间也都在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时到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时半左右，很少“开夜车”。“这可能得益于从小爸妈对我的严格要求，那就是当天的功课当天消化掉，做到每天都有收获，每天把知识点都巩固一下、掌握好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学习要掌握灵活的方法，将知识点联系起来思考，其实这是一件很有意思的事情，掌握了这些方法，学习起来很轻松。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151920"/>
            <a:ext cx="84582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小时候成绩不突出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　　出场人物：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徐州刘辉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　　“精神抖擞地学习，快快乐乐地玩”是我的学习准则。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我小时候成绩并不怎么突出，直到上初二下半学期时，才对学习产生了兴趣，之后便集中精力投入到学习中，但不是死学，而是精神抖擞地学习，以此来提高学习效率。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61760" y="228240"/>
            <a:ext cx="83818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考高分要有好心情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出场人物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重庆李田园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我的经验是，善于总结，重视基础知识的积累。特别是最后的复习要回归到教材，熟悉公式定理，整理一条把知识串起来的线索，然后找到规律和其中的区别，重点记忆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做错了题要思考，高三时我准备了一个本子，专门收集做错的题。考高分要有好心情，考前紧张很正常，其实这种紧张缘于你是否自信，还有如何对待考试成绩。平时没有努力，再紧张也没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 Black"/>
              </a:rPr>
              <a:t>我与我们班 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自我剖析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我给我们班造 成的一些不好影响，我们该怎么样弥补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发现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他的言行，为班级争光添彩，值得表扬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5472000" cy="2800440"/>
          </a:xfrm>
          <a:prstGeom prst="rect">
            <a:avLst/>
          </a:prstGeom>
          <a:noFill/>
          <a:ln w="76320">
            <a:solidFill>
              <a:srgbClr val="cc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 Black"/>
              </a:rPr>
              <a:t>立足现实</a:t>
            </a:r>
            <a:br>
              <a:rPr sz="9600"/>
            </a:br>
            <a:r>
              <a:rPr b="1" lang="zh-CN" sz="9600" spc="-1" strike="noStrike">
                <a:solidFill>
                  <a:srgbClr val="ff0000"/>
                </a:solidFill>
                <a:latin typeface="Arial Black"/>
              </a:rPr>
              <a:t>放眼未来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71360" y="2732040"/>
            <a:ext cx="8801280" cy="1387440"/>
            <a:chOff x="171360" y="2732040"/>
            <a:chExt cx="8801280" cy="1387440"/>
          </a:xfrm>
        </p:grpSpPr>
        <p:sp>
          <p:nvSpPr>
            <p:cNvPr id="121" name=""/>
            <p:cNvSpPr/>
            <p:nvPr/>
          </p:nvSpPr>
          <p:spPr>
            <a:xfrm>
              <a:off x="171360" y="2732040"/>
              <a:ext cx="8801280" cy="13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8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1360" y="2732040"/>
              <a:ext cx="8801280" cy="1387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2076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10680" cy="68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71360" y="2738520"/>
            <a:ext cx="8801280" cy="1371600"/>
            <a:chOff x="171360" y="2738520"/>
            <a:chExt cx="8801280" cy="1371600"/>
          </a:xfrm>
        </p:grpSpPr>
        <p:sp>
          <p:nvSpPr>
            <p:cNvPr id="127" name=""/>
            <p:cNvSpPr/>
            <p:nvPr/>
          </p:nvSpPr>
          <p:spPr>
            <a:xfrm>
              <a:off x="171360" y="2738520"/>
              <a:ext cx="8801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8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1360" y="2738520"/>
              <a:ext cx="8801280" cy="1371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9" name="" descr="清华校徽"/>
          <p:cNvPicPr/>
          <p:nvPr/>
        </p:nvPicPr>
        <p:blipFill>
          <a:blip r:embed="rId1"/>
          <a:stretch/>
        </p:blipFill>
        <p:spPr>
          <a:xfrm>
            <a:off x="762120" y="0"/>
            <a:ext cx="8381880" cy="640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076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1013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500" spc="-1" strike="noStrike">
                <a:solidFill>
                  <a:srgbClr val="ff3300"/>
                </a:solidFill>
                <a:latin typeface="Arial Black"/>
              </a:rPr>
              <a:t>大家一起谈</a:t>
            </a:r>
            <a:endParaRPr b="1" lang="en-US" sz="105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4514760" y="3429000"/>
            <a:ext cx="462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半期交流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1257480" y="2378160"/>
            <a:ext cx="6629400" cy="2057400"/>
            <a:chOff x="1257480" y="2378160"/>
            <a:chExt cx="6629400" cy="2057400"/>
          </a:xfrm>
        </p:grpSpPr>
        <p:sp>
          <p:nvSpPr>
            <p:cNvPr id="135" name=""/>
            <p:cNvSpPr/>
            <p:nvPr/>
          </p:nvSpPr>
          <p:spPr>
            <a:xfrm>
              <a:off x="1257480" y="2378160"/>
              <a:ext cx="6629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57480" y="2378160"/>
              <a:ext cx="662940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zh-CN" sz="129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7" name="" descr="中国人民大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1257480" y="2378160"/>
            <a:ext cx="6629400" cy="2057400"/>
            <a:chOff x="1257480" y="2378160"/>
            <a:chExt cx="6629400" cy="2057400"/>
          </a:xfrm>
        </p:grpSpPr>
        <p:sp>
          <p:nvSpPr>
            <p:cNvPr id="139" name=""/>
            <p:cNvSpPr/>
            <p:nvPr/>
          </p:nvSpPr>
          <p:spPr>
            <a:xfrm>
              <a:off x="1257480" y="2378160"/>
              <a:ext cx="6629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57480" y="2378160"/>
              <a:ext cx="662940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zh-CN" sz="129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-1143000" y="3009960"/>
            <a:ext cx="11430000" cy="838080"/>
            <a:chOff x="-1143000" y="3009960"/>
            <a:chExt cx="11430000" cy="838080"/>
          </a:xfrm>
        </p:grpSpPr>
        <p:sp>
          <p:nvSpPr>
            <p:cNvPr id="143" name=""/>
            <p:cNvSpPr/>
            <p:nvPr/>
          </p:nvSpPr>
          <p:spPr>
            <a:xfrm>
              <a:off x="-1143000" y="3009960"/>
              <a:ext cx="11430000" cy="83808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936720" y="3009960"/>
              <a:ext cx="11223720" cy="83808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 u="sng">
                  <a:solidFill>
                    <a:srgbClr val="99ff66"/>
                  </a:solidFill>
                  <a:uFillTx/>
                  <a:latin typeface="宋体"/>
                  <a:hlinkClick r:id="rId1"/>
                </a:rPr>
                <a:t>  </a:t>
              </a:r>
              <a:r>
                <a:rPr b="1" lang="zh-CN" sz="4900" spc="-1" strike="noStrike">
                  <a:solidFill>
                    <a:srgbClr val="40bc6e"/>
                  </a:solidFill>
                  <a:latin typeface="宋体"/>
                </a:rPr>
                <a:t> </a:t>
              </a:r>
              <a:r>
                <a:rPr b="1" lang="zh-CN" sz="900" spc="-1" strike="noStrike">
                  <a:solidFill>
                    <a:srgbClr val="40bc6e"/>
                  </a:solidFill>
                  <a:latin typeface="宋体"/>
                </a:rPr>
                <a:t>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-2894040" y="468360"/>
            <a:ext cx="14932080" cy="5730840"/>
            <a:chOff x="-2894040" y="468360"/>
            <a:chExt cx="14932080" cy="5730840"/>
          </a:xfrm>
        </p:grpSpPr>
        <p:sp>
          <p:nvSpPr>
            <p:cNvPr id="146" name=""/>
            <p:cNvSpPr/>
            <p:nvPr/>
          </p:nvSpPr>
          <p:spPr>
            <a:xfrm>
              <a:off x="-2894040" y="468360"/>
              <a:ext cx="883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-2894040" y="468360"/>
              <a:ext cx="14932080" cy="57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 u="sng">
                  <a:solidFill>
                    <a:srgbClr val="99ff66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zh-CN" sz="370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8" name="" descr="南京大学校园风光"/>
          <p:cNvPicPr/>
          <p:nvPr/>
        </p:nvPicPr>
        <p:blipFill>
          <a:blip r:embed="rId3"/>
          <a:stretch/>
        </p:blipFill>
        <p:spPr>
          <a:xfrm>
            <a:off x="0" y="-38088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06320"/>
            <a:ext cx="815328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下阶段的做法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、进一步增强凝聚力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、明确目标，寻找竞争对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、吃透一本复习资料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、抓关键学科及关键章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125360"/>
            <a:ext cx="84582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具体的做法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、落实计划和目标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、值日班干加强督查，尽力消除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干扰因素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、加强学习方法的探讨和交流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30120" y="765000"/>
            <a:ext cx="511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未来的路还很长，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未来的生活很精彩，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努力吧！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为我们美好的明天！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>
            <a:hlinkClick r:id="rId1"/>
          </p:cNvPr>
          <p:cNvSpPr/>
          <p:nvPr/>
        </p:nvSpPr>
        <p:spPr>
          <a:xfrm>
            <a:off x="6680520" y="5954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战胜自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 Black"/>
              </a:rPr>
              <a:t>总结与交流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31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我的总结：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谈谈自己以前各方面的得失，如：与同学相处，学习，感悟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大家交流学习经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主动交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要某同学介绍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 Black"/>
              </a:rPr>
              <a:t>总结与交流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38080" y="228600"/>
            <a:ext cx="80010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高考状元出场“传经送宝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ccecff"/>
                </a:solidFill>
                <a:latin typeface="宋体"/>
              </a:rPr>
              <a:t>据《青岛晚报》报道：任何一场考试，都是能力、知识、智慧乃至运气等必然因素和偶然因素交互作用的结果，高考更不例外。</a:t>
            </a:r>
            <a:br>
              <a:rPr sz="3600"/>
            </a:br>
            <a:r>
              <a:rPr b="1" lang="zh-CN" sz="36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ccecff"/>
                </a:solidFill>
                <a:latin typeface="宋体"/>
              </a:rPr>
              <a:t>充满“硝烟”的高考已经结束，高考过后，最令人瞩目的莫过于高考状元了。透过状元骄人的高分光环，我们更想了解的的是：他们的成绩是如何取得的？他们的学习有哪些“秘诀”？他们波澜不惊的平常心态是如何炼就的？</a:t>
            </a:r>
            <a:r>
              <a:rPr b="1" lang="zh-CN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814536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遇到难题我会放弃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ccecff"/>
                </a:solidFill>
                <a:latin typeface="宋体"/>
              </a:rPr>
              <a:t>出场人物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江苏盐城马荣荣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　　在学习上我没有什么诀窍，可能是我比别人更有恒心，比如节假日我还继续学习，晚上下自习后，我也和很多同学一样经常“开小灶”，但不是像书呆子那样死学，我不是那种学习比较疯狂的人，但不能放松，学习比较坚持有恒心。我的优势就是基础好，不喜欢钻牛角尖，遇到比较难的题目我会放弃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61760" y="0"/>
            <a:ext cx="8381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制定科学合理的计划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　出场人物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广州程琳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　应考少不了一份科学合理的计划。我的做法是，分阶段“消化”，有侧重点“强攻”，计划要切合自己的实际，注重基础知识，不要在基础薄弱的时候刻意抓偏题、怪题。其中，基础知识的积累是很关键的，对各个科目的均衡进步影响最大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0"/>
            <a:ext cx="838188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学习像看小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　出场人物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福建李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　我的学习其实毫无秘诀可言。我只是认真听课，并完成老师布置的作业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　只不过做题时，我愿意思考。我觉得每道题只是外表披着不同款式的衣服，里面的模型其实是一样的。这就好像看情节简单的小说一样，你看了头，就知道结局了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5280" y="357120"/>
            <a:ext cx="8748720" cy="58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0000"/>
                </a:solidFill>
                <a:latin typeface="宋体"/>
              </a:rPr>
              <a:t>天道只酬勤</a:t>
            </a:r>
            <a:r>
              <a:rPr b="0" lang="zh-CN" sz="37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3700" spc="-1" strike="noStrike">
                <a:solidFill>
                  <a:srgbClr val="ffffff"/>
                </a:solidFill>
                <a:latin typeface="宋体"/>
              </a:rPr>
              <a:t>出场人物：</a:t>
            </a:r>
            <a:r>
              <a:rPr b="0" lang="zh-CN" sz="3700" spc="-1" strike="noStrike">
                <a:solidFill>
                  <a:srgbClr val="ff0000"/>
                </a:solidFill>
                <a:latin typeface="宋体"/>
              </a:rPr>
              <a:t>福建吴诗士</a:t>
            </a:r>
            <a:r>
              <a:rPr b="0" lang="zh-CN" sz="37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700"/>
            </a:br>
            <a:r>
              <a:rPr b="0" lang="zh-CN" sz="3700" spc="-1" strike="noStrike">
                <a:solidFill>
                  <a:srgbClr val="ffffff"/>
                </a:solidFill>
                <a:latin typeface="宋体"/>
              </a:rPr>
              <a:t>　　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宋体"/>
              </a:rPr>
              <a:t>我惟一的读书诀窍就是“背”。对于老师布置的作业，我一般会在学校里完成。回到家中后，背诵成了我的主要“功课”。“对于一些该背的知识点，我会照单全收地背下来”。平时背诵时，一定要完整地背下来，在运用时，可以更加灵活些。</a:t>
            </a: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700" spc="-1" strike="noStrike">
                <a:solidFill>
                  <a:srgbClr val="ffffff"/>
                </a:solidFill>
                <a:latin typeface="宋体"/>
              </a:rPr>
              <a:t>平时，我还靠长跑、散步来调整学习状态。每天下午放学后，只要有时间，我都会和好友一起到操场跑几圈。</a:t>
            </a: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br>
              <a:rPr sz="3700"/>
            </a:b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0:17:1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00:32Z</dcterms:modified>
  <cp:revision>15</cp:revision>
  <dc:subject>主题班会课件(分28大类): http://shop62905894.taobao.com</dc:subject>
  <dc:title>主题班会课件(分28大类): http://shop62905894.taobao.com</dc:title>
</cp:coreProperties>
</file>