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3.gif" ContentType="image/gif"/>
  <Override PartName="/ppt/media/image1.jpeg" ContentType="image/jpeg"/>
  <Override PartName="/ppt/media/explode.wav" ContentType="audio/x-wav"/>
  <Override PartName="/ppt/media/image7.jpeg" ContentType="image/jpeg"/>
  <Override PartName="/ppt/media/image4.jpeg" ContentType="image/jpeg"/>
  <Override PartName="/ppt/media/image2.png" ContentType="image/pn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98A-0F6E-464F-8D61-037FBD28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621-5814-487A-A76A-F1BCD5AE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200-DC0C-4AD9-9A0E-9DE44393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DD1-0BB2-4526-9ADF-D56D8E8B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54D-574B-47BF-B559-69F22D3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99A-6B9E-4AA0-933A-9ECD3A2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9ED-A531-4B63-92EA-B8F2E3E7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C95-6124-4C01-AD25-CD420C51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AF3-4117-4046-945C-A5CCFF70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5D8-2610-448E-9094-29B1905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5F5-BE31-42EE-AB73-35CDDA5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3A7-468A-4795-B8B3-50F18F14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A26-DB2F-4D86-B33A-34834CAB8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qqtu.cn/pic_sort/804_9.htm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dianmeng.com/moban/fenleitupian/18787.s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dianmeng.com/moban/fenleitupian/19344_2.shtml" TargetMode="External"/><Relationship Id="rId2" Type="http://schemas.openxmlformats.org/officeDocument/2006/relationships/image" Target="../media/image12.gif"/><Relationship Id="rId3" Type="http://schemas.openxmlformats.org/officeDocument/2006/relationships/hyperlink" Target="http://photo.loveyd.com/2/200805/20-307.html" TargetMode="Externa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1676520"/>
            <a:ext cx="76960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迎接挑战，跃马高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724280" y="56386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06-4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班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2009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年三月主题班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549360"/>
            <a:ext cx="77644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、未能及时做好复习信息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反馈汇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中的错题、疑问、焦点、疏漏、遗缺等反馈错源信息都是很宝贵的增分“矿源”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针对错源信息进行自我补救式强化复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以把时间、精力用在刀刃上，防止做过多的无用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33336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五、不善于制订科学的小计划，时间安排不当，缺乏小计划，自我复习东一榔头西一锤，漫天撒网，没有阶段性复习目标。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者自我支配时间安排过紧，缺乏弹性、机动性，是小计划失败的通因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制订一份留有时间弹性的小计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每一位考生应切实考虑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52280"/>
            <a:ext cx="821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六</a:t>
            </a:r>
            <a:r>
              <a:rPr b="1" lang="zh-CN" sz="3200" spc="-1" strike="noStrike">
                <a:solidFill>
                  <a:srgbClr val="ff7c8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有养成每日自我暗示、自我调节进入成功自信、乐观向上的积极学习心态的好习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科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们做过这样一个实验：在演员大脑的特定部位贴上微电极，然后按内容不同要求演员们表演各种电影情节。当他们演出与灰色、无精打采、消极、沮丧、愤怒有关的情节时，实验监测仪显示脑啡肽的含量随之降低，当剧情进入欢乐、健康、愉快、喜悦、自信的内容时，脑啡肽的含量也随之上升。脑啡肽是调节学习心态的天然快乐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养成积极乐观的积极学习心态有利于大脑分泌脑啡肽的增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4046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七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精力分散，未能把精力长期十分专注于学习事务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学们的精力就像电灯光源。光源照得范围太广，则光线散乱，亮度暗淡。唯有把光线聚焦成光束，才能提高亮度，穿透黑暗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同学们把自己全部的精力像激光一样聚焦投注于学习中去，可以钻透各科学习中阻碍成绩提高的任何“瓶颈口”，顺利完成差科弱科的复习升级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47520"/>
            <a:ext cx="84582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　　八、自我设限，缺乏心灵上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自我激励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三分钟热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同学们复习中常犯的通病。每天应该随时用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自我想像、自我暗示、自我谈话、自我反省、自我激励、自我鞭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多种激发方法突破心理上的学习高度极限，焕发出心灵的巨大潜能，使自己每时每刻处于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心静如水激情似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自信学习状态。潜意识的学习潜能是无法想像的，哪怕是平时激发出一点点，也能迅速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</a:rPr>
              <a:t>优化你的学习状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685800"/>
            <a:ext cx="8137440" cy="301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九、忽视各科复习中的客观增分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绩的提高也是有规律可循的。例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各科记忆知识的梳理成网，分类解题收获的总结积累，复习过程注重知识反刍，注重思维方法的迁移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等。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遵循各科的增分规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用功复习，就等于找到开启成功之门的钥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476280"/>
            <a:ext cx="822168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十、高三复习中没有百分之百地下定决心全力以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是拼搏高考目标过程中百分之百的全力以赴呢？请记住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高考状元们还要专注两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高考状元们还要认真两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高考状元们还要努力两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高考状元们还要好学两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到这四点，你就一定能百分之百达成自己的高考目标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坚强的学习行动力永远是高考成功的第一要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反思学习外的不利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930760"/>
            <a:ext cx="81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部分学生性格内敛，不善表达，不善与老师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3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个别学生自傲自大且自以为是，不屑与老师、同学沟通，对老师的建议无动于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3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少部分学生学习压力大，睡眠质量差，有急躁心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3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个别学生对环境较挑剔，或敏感于某种现象，导致复习效率不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15560" y="34686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050"/>
                </a:solidFill>
                <a:latin typeface="Times New Roman"/>
                <a:ea typeface="隶书"/>
              </a:rPr>
              <a:t>永</a:t>
            </a:r>
            <a:r>
              <a:rPr b="1" lang="zh-CN" sz="9600" spc="-1" strike="noStrike">
                <a:solidFill>
                  <a:srgbClr val="333399"/>
                </a:solidFill>
                <a:latin typeface="Times New Roman"/>
                <a:ea typeface="隶书"/>
              </a:rPr>
              <a:t>不</a:t>
            </a:r>
            <a:r>
              <a:rPr b="1" lang="zh-CN" sz="9600" spc="-1" strike="noStrike">
                <a:solidFill>
                  <a:srgbClr val="cc0099"/>
                </a:solidFill>
                <a:latin typeface="Times New Roman"/>
                <a:ea typeface="隶书"/>
              </a:rPr>
              <a:t>言</a:t>
            </a:r>
            <a:r>
              <a:rPr b="1" lang="zh-CN" sz="9600" spc="-1" strike="noStrike">
                <a:solidFill>
                  <a:srgbClr val="33cc33"/>
                </a:solidFill>
                <a:latin typeface="Times New Roman"/>
                <a:ea typeface="隶书"/>
              </a:rPr>
              <a:t>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7560" y="8031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cc33"/>
                </a:solidFill>
                <a:latin typeface="Times New Roman"/>
                <a:ea typeface="隶书"/>
              </a:rPr>
              <a:t>完</a:t>
            </a:r>
            <a:r>
              <a:rPr b="1" lang="zh-CN" sz="9600" spc="-1" strike="noStrike">
                <a:solidFill>
                  <a:srgbClr val="cc0099"/>
                </a:solidFill>
                <a:latin typeface="Times New Roman"/>
                <a:ea typeface="隶书"/>
              </a:rPr>
              <a:t>善</a:t>
            </a:r>
            <a:r>
              <a:rPr b="1" lang="zh-CN" sz="9600" spc="-1" strike="noStrike">
                <a:solidFill>
                  <a:srgbClr val="0033cc"/>
                </a:solidFill>
                <a:latin typeface="Times New Roman"/>
                <a:ea typeface="隶书"/>
              </a:rPr>
              <a:t>自</a:t>
            </a:r>
            <a:r>
              <a:rPr b="1" lang="zh-CN" sz="9600" spc="-1" strike="noStrike">
                <a:solidFill>
                  <a:srgbClr val="ff5050"/>
                </a:solidFill>
                <a:latin typeface="Times New Roman"/>
                <a:ea typeface="隶书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1080" y="1066680"/>
            <a:ext cx="4569840" cy="3934440"/>
          </a:xfrm>
          <a:prstGeom prst="rect">
            <a:avLst/>
          </a:prstGeom>
          <a:noFill/>
          <a:ln cap="rnd" w="7632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苏联学者做了一个形象的比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个正常人如果发挥了自身的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能的一半，那么他将掌握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多种外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学完几十门大学的课程，可以将叠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来几人厚的全苏百科全书，背得滚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烂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00"/>
                </a:solidFill>
                <a:latin typeface="黑体"/>
                <a:ea typeface="黑体"/>
              </a:rPr>
              <a:t>距</a:t>
            </a:r>
            <a:r>
              <a:rPr b="1" lang="zh-CN" sz="9600" spc="-1" strike="noStrike">
                <a:solidFill>
                  <a:srgbClr val="006600"/>
                </a:solidFill>
                <a:latin typeface="黑体"/>
                <a:ea typeface="黑体"/>
              </a:rPr>
              <a:t>2009</a:t>
            </a:r>
            <a:r>
              <a:rPr b="1" lang="zh-CN" sz="9600" spc="-1" strike="noStrike">
                <a:solidFill>
                  <a:srgbClr val="006600"/>
                </a:solidFill>
                <a:latin typeface="黑体"/>
                <a:ea typeface="黑体"/>
              </a:rPr>
              <a:t>年高考还 有 </a:t>
            </a:r>
            <a:r>
              <a:rPr b="1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88</a:t>
            </a:r>
            <a:r>
              <a:rPr b="1" lang="zh-CN" sz="96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9600" spc="-1" strike="noStrike">
                <a:solidFill>
                  <a:srgbClr val="006600"/>
                </a:solidFill>
                <a:latin typeface="黑体"/>
                <a:ea typeface="黑体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4080" y="26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将一只跳蚤放进杯中。开始，跳蚤一下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能从杯中跳出来。然后，心理学家在杯上盖上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明盖，跳蚤仍然会往上跳，但碰了几次盖后，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疼了，慢慢就不跳那么高了。这时心理学家再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盖拿走，却发现那只跳蚤已经永远不能跳出杯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141720"/>
            <a:ext cx="797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 u="sng">
                <a:solidFill>
                  <a:srgbClr val="0000cc"/>
                </a:solidFill>
                <a:uFillTx/>
                <a:latin typeface="Arial"/>
                <a:ea typeface="华文新魏"/>
              </a:rPr>
              <a:t>因为它将目标定到了不及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cc"/>
                </a:solidFill>
                <a:uFillTx/>
                <a:latin typeface="Arial"/>
                <a:ea typeface="华文新魏"/>
              </a:rPr>
              <a:t>的高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7200" y="4581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们从中可以悟出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12760" y="5257800"/>
            <a:ext cx="50576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求上则可能居中，求中则可能居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1052640"/>
            <a:ext cx="7561440" cy="489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2980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260280"/>
            <a:ext cx="806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3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来几乎都不曾更改过自己的人生目标，他们始终朝着同一个方向不懈地努力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后，他们几乎都成了社会各界顶尖成功人士，他们中不乏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白手创业者、行业领袖、社会精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938240"/>
            <a:ext cx="806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1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大都生活在社会的中上层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们的共同特点是，那些短期目标不断地被达到，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生活质量稳步上升。他们成为各行各业不可缺少的专业人士，如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医生、律师、工程师、高级主管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676680"/>
            <a:ext cx="806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几乎都生活在社会的中下层面。他们能安稳地生活与工作，但都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没有什么特别的成绩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653000"/>
            <a:ext cx="806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剩下的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27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他们几乎都生活在社会的最底层，他们的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生活都过得很不如意，常常失业，靠社会救济，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98100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位日本马拉松长跑运动员，他的身体条件并不比其他国家的运动员更具优势，但他取得了最后的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852640"/>
            <a:ext cx="820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我没有什么秘诀，我只是将整个赛程以明显的建筑物标志分成若干个小目标，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黑体"/>
              </a:rPr>
              <a:t>对于每个小目标，我都以百米冲刺的激情去跑完它，同时又以同样的激情去冲刺下一个目标，直到终点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89000"/>
            <a:ext cx="8569080" cy="20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清晨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的费罗伦斯从卡塔林纳岛开始了横游卡塔林纳的尝试。那天早晨，雾很大，海水特别凉，她连护送她的船都几乎看不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小时之后，她又冷又累，就叫人拉她上船，别人告诉她离海岸很近了，让她坚持下去</a:t>
            </a:r>
            <a:r>
              <a:rPr b="1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但她朝海岸方向望去，除了浓雾什么也看不到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之后，她被拉上船，而此地离加州海岸只有半英里！费罗伦斯后悔万分</a:t>
            </a:r>
            <a:r>
              <a:rPr b="1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说实在的，我不是为自己找借口，如果当时我看见陆地，也许我能坚持下来。”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653000"/>
            <a:ext cx="6300720" cy="1873080"/>
          </a:xfrm>
          <a:prstGeom prst="cloudCallout">
            <a:avLst>
              <a:gd name="adj1" fmla="val 54486"/>
              <a:gd name="adj2" fmla="val -6491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Comic Sans MS"/>
                <a:ea typeface="华文新魏"/>
              </a:rPr>
              <a:t>她为什么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Comic Sans MS"/>
                <a:ea typeface="华文新魏"/>
              </a:rPr>
              <a:t>达到目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260280"/>
            <a:ext cx="8569080" cy="30801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国早期的乒乓球运动员韩玉珍，在国内屡战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胜。一次，代表国家队参加世界锦标赛，临赛前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晚上，她患得患失，承受不了心理压力，用刀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手腕割破，谎称有人行刺她后跑了。结果这件事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查出来了，成为这国际上一大丑闻，为此，国家队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她开除出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但在随后的国内的比赛中，她又屡战屡胜，为了给她机会，又重新召她回国家队。在一佼次国际重大比赛中，对方的日本运动员，以前没有赢过她。开始，韩玉珍连赢两局，第三局对方赶上几分后，韩玉珍信心开始动摇，结果连输三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5445000"/>
            <a:ext cx="549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外电评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韩玉珍不是输在技术上，而是输在信心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40000" y="1052640"/>
            <a:ext cx="33130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924280"/>
            <a:ext cx="828036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只要放弃了，就没有成功的机会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坚持不懈，就会拥有成功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7280"/>
            <a:ext cx="842472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班是一个团结友爱的集体，其中每一个成员都很聪明，虽然大家在学习方面成绩有差异，但并不能说明谁行谁不行，只能说成绩好的同学走在前面了，大家要向他（她）看齐，奋起直追。暂时落后的，说明学习方法要改进，学习要比以前更用功，向跑在前面的同学学习经验，看他们是怎么样学习的，取长补短，每天进步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%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，就是卓越、成功的开始！方法总比困难多，只要肯用心，没有什么困难不能克服的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，你们一定要明确自己的目标：考上大学！考上重点大学！！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考大学并不难，难的只是目标不明确！当你感到迷茫时，你就要对自己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一定要考上大学！我一定要成功！我是最棒的！我一定要努力超过某某某！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这样，你就可以给自己打气，同学们，不妨把这几个字写下来，当作自己的动力源，鼓励自己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843280" y="692280"/>
            <a:ext cx="33130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42100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要上大学，而且是一定要上大学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95640" y="4627440"/>
            <a:ext cx="4464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动不如行动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的时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画画时画完一小部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就会停下来把画拿的远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观察整幅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我们就会知道刚才画的好不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画的不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就会修改并会尽量避免刚才的那种情况发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我们最终都会得到一幅另人满意的画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789360"/>
            <a:ext cx="6840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实画画和考试是一样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失败中反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步中思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样我们就会取得满意的成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倒计时的意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76201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考征途中一个新的起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考征途中一个加油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考征途中一次重要转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清自己前进的征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紧迫，任重道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这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倒计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时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热血沸腾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心潮澎湃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更要把壮志雄心来展现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304920"/>
            <a:ext cx="883944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黑体"/>
              </a:rPr>
              <a:t>为了爱我们的人和我们所爱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我们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    </a:t>
            </a:r>
            <a:r>
              <a:rPr b="1" i="1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点燃斗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珍惜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9144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解读高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762120"/>
            <a:ext cx="8991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考是一次磨砺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花香自苦寒来，宝剑锋從磨砺出，而参加高考，就是为意志的磨练及毅力的锻造做了首场洗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考是一个舞台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几年磨一剑，锋刃未曾试，高考为展现最美丽的自己提供了舞台，只有经历过才知道其丰富多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考是一次挑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投入的是努力、汗水，收获的是进入高等学府接受更深层次教育的机会和条件；即使失败，也并非一无所获，将得到丰富的知识及一段难忘的人生经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考是一次角逐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败者淘汰出局，成功者将开始新的征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2528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考还是一个转折点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中，第一次如此真切地感受到命运就把握在自己手中，无论成败，经过它，我们都将踏进一个全新的人生旅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实，高考并不神秘，它不再是独木桥，大学生也不再是天之骄子，条条大路通罗马，只要是问心无愧地过好每一天，就会拥有属于自己的一片天空。高考更多的只是一次来证明自己价值的宝贵机会，不论最终结果如何，奋斗的过程才是最美好的！因为目标不仅仅是大学。高考和大学都只是人生路上的一个起点，而不是终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自己梦想的鼓舞下，去拼搏去努力吧！心有多大，舞台就有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期盼的决胜时刻仅剩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天了，这是千米赛跑到了最后冲刺的时刻！同学们：希望我们以积极的态度跨越这最后的征程，提升自已的实力，以过硬的本领去闯关夺冠、梦圆高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调整心态，激发潜力，培养冲刺精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对高考这关系到人生前途和命运的重要时刻，我们既要用激情去拼搏，也不能过分亢奋。在顺境中要看到问题，找出不足；在逆境中要看到希望，找到方向。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天，我们除了要有激情，更要沉着冷静，以平常心对待可能出现的挫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备考复习阶段，知识量大，难度和综合性强，心态波动也会加大，高考试题有一定的长度、广度、梯度，许多同学会有怯场心理。所以最后复习阶段保持积极稳定、紧张有度的心境极为重要。高考前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天，可以说是冲刺时间，既是同学们智力大开发的时间，这时期的有模拟考，学生心理压力大，甚至会影响到身体的健康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要正确看待考试和成绩。要重成绩，但不能过分，只要认真学习，有足够的投入，考试时能正常发挥就行了，不能苛求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绩好的给予表扬鼓励，对尚未达理想成绩的给予打气激励，各个分数层次的同学都要不甘落后，都要有拼搏冲刺的精神，都要有沉着应考的那般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）要有“我能成功，我必成功”的坚定信心和豪迈气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然这种自信和豪气，并不是心灵空虚者的狂妄，也不是毫无根据的盲目乐观，而是建立在勤奋拼搏基础上的守望，是基于对自已客观评价之上所激发出来的热情和拼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）要有“高考未完，奋斗不息”的顽强意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关键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中，不管遇到什么困难，不管遭受什么挫折，不管测试成绩是优还是劣，我们都要以积极的态度对待，要从挫折中取得经验，从失误中找准努力方向。高考未完、奋斗不止，永不言败！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个月后我们将面临最大的一次考试—高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取得高考的胜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可以借鉴一些经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论是成功的还是失败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）要有“依靠自已，战胜自己，超越自己”的自强不息精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）要坚持积极和务实的作风，既不可急躁、也不能随便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二） 及时同科任老师交流，发扬科任老师的优良备考资源，在老师的指导下，掌握适合自己的学习方法，提高学习效率，懂得怎样备考，变学会为会学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法的掌握，是提高学习效率的关键。要明白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前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天，可以说是冲刺时间，也是同学们智力大开发的时间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短暂，但是如果我们目标明确，精力高度集中，身心完全投入，又注意科学的学习方法，那么这八十天的收获和提高可能超过高中三年的总和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一日胜十天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已经是被许多学子用实践证明了的事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讲究方法，提高效率要做到以下几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要充分利用早读、晚读时间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声朗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提高语言表达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较差的同学，一定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重视掌握概念，理解规律，分析问题时要认真审题，建立情景模型，寻找解决问题的切入口，训练要足量到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复习过程中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善于总结，自我归纳，及时反馈及时纠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各科建立错题档案，可以把周日下午七八节课作为专用的改错时间，将习题中的错题重做一遍，并汇集成本，分析做错的原因，提高复习效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6108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）是要科学安排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堂上紧跟老师教学进度与思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课后根据个人实际，将自由支配的时间主要用在薄弱学科，薄弱知识点的攻克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）是要重视知识的归纳梳理，比较辨析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为每个学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编织知识网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系统掌握知识；要注重知识的比较辨析，同中鉴异，异中求同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揭示知识规律与原因；要归纳各种题型的解题思路、方法、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）是要重视练后考后的分析和反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建立和使用好错题本，力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种错误不要重复出现第二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）要做到当天发现的疑问当天解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）是要增强团队合作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乐于与同学相互切磋、激发思维、相互促进，还要密切配合老师的复习要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）是要张驰有度，加强锻炼，认真跑步，使自已每天保持充沛的精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是防止因非智力因素失分，养成解题规范，书写工整，卷面整洁的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强调惜时、快节奏、高效率，抓好自习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抓好早、晚自习，提高自习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）要特别重视第二卷答题能力的提升，强化文字表达的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准确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精练性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美观性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）本学期要特别重视背书和强化记忆，学习时间适当向语文及综文倾斜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我们的誓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95280"/>
            <a:ext cx="9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珍惜时间，驾驭时间，作时间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133720"/>
            <a:ext cx="8915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时间在于积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学习要有针对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学习要有目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把握现在应惜时如金，应执著不懈，应笑迎痛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99"/>
                </a:solidFill>
                <a:latin typeface="Arial"/>
                <a:ea typeface="华文楷体"/>
              </a:rPr>
              <a:t>老师寄语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143000"/>
            <a:ext cx="5334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好身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强心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</a:t>
            </a: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优课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</a:t>
            </a: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重课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</a:t>
            </a: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勤学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990720"/>
            <a:ext cx="419112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四自”原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自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自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自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自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25448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9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609480"/>
            <a:ext cx="87631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宣誓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要做一个有良知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将无愧于父母的养育之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将无愧老师的良苦用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要通过百倍的努力改变人生，创造辉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自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我大学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06880" y="0"/>
            <a:ext cx="22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06-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班誓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990720" y="0"/>
            <a:ext cx="71625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同学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金榜题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0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功者的经验可以模仿借鉴，失败者的教训也是一笔难得的财富。如果没有关注思考过落榜者为何失败，也就有可能重蹈失败者的旧路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高考成功者的经验大多缤纷多彩，但失败的教训原因多有雷同相似之处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将高考失败者一些典型常见的教训汇总罗列出来，也是一面镜子供同学们反照自己，提醒警示自己，折射出高考复习中有待改进完善的地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85800"/>
            <a:ext cx="78483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纵观往年的考生，大多只是生搬硬套大量零散知识，并没有形成体系，也没有形成能力，更别说达到一定境界。更危险的是，有些考生得了一种高三学生流行的病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8769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黑体"/>
              </a:rPr>
              <a:t>启思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260280"/>
            <a:ext cx="8458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忽略基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过于浮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片面强调复习效率和短期内追求总分大幅提高易使同学们心浮气躁，追求短线行为，一会儿翻这本参考书，一会儿看看那本习题集，一晚做几十道题还嫌少，……其实都是蜻蜒点水，流于表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复习是一个潜移默化的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厚积薄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过程，成绩的提高和能力的形成不是立竿见影式的。再说衡量复习效率的高低也不是以看书多少做题多少为标准。伤其十指不如断其一指，只要掌握“真谛”，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精做一道题胜过泛做十题，精透一页知识胜过粗翻一本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6868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主线复习进度未能紧跟领悟老师的复习战略意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高三总复习中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完全撇开老师的复习安排独立搞自己的复习计划是最容易多走弯路、步入歧路的短视行为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方面惨重失败的教训是屡见不鲜的。就连自学能力极强，思维素质扎实全面的高考状元们以亲身的教训再三告诫同学们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自己的复习小计划一定要服从老师的大计划，千万不要甩开老师另搞自己的一套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76280"/>
            <a:ext cx="8610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眼高手低，不愿意亲自动手进行各科复习内容的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imes New Roman"/>
              </a:rPr>
              <a:t>自我整理、自我归纳、自我梳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许多同学总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以参考资料上面已系统化整理好复习内容为借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愿意动手做扎实细致繁重的复习内容系统化的整理笔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纸上得来终觉浅，要知此事须躬行”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己动手整理的系统化知识笔记是自己的脑力思维结晶，深扎在大脑深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与大脑神经元记忆系统钩链成网，潜意识对其有感性的“亲切”的熟知感，岂止是看参考书上他人代劳整理出来的内容所能与之相提并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8:10Z</dcterms:modified>
  <cp:revision>2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