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4DB-5F53-4738-99D9-E82BBD7F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820-274F-4CFF-A99E-FF10C5E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75B-C986-4565-8E21-A783E7B1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D8E-8D05-4B28-8170-065B941B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64D-8E3D-476E-9B98-9F028050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3A3F-C8F1-43D5-BF3F-4D06C2F3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F1FC-AEA2-4417-A265-D19F0F79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8BE-9E26-4079-BAE8-F0D752AB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48C-0125-479F-B2FB-3B462349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8902-26D7-4A4B-85EA-DA1F3AA4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D58E-BFA7-4F7D-BE0C-10CAAC3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E8E-2830-4527-AE82-3AA1B636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9DCF-AE0C-4559-AB95-A5778F0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424E-7482-45B5-B1B6-9009525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3D54-C737-43F7-8865-70F588E4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C974-F629-448D-B189-FD21B60E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12C8-CBD4-46B9-88B4-9F54A61C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AC8-1588-438D-99CE-0D46C43B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103-E220-41E5-B761-9A24D324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CD3-3F77-4461-AD4D-242F5EA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87F-ECB5-4B01-B787-7172526D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C1A-D91D-4483-975E-5CACAB9D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00B-806E-4A3F-8D76-A4C93CE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471-300B-4A18-9366-87A663F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FB5A-4404-43D9-B566-B7331E7E45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030-9D1F-4B46-A755-728B6DB3862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186920" y="1557360"/>
            <a:ext cx="7620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期末联考而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93840" y="3043080"/>
            <a:ext cx="61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-----</a:t>
            </a:r>
            <a:r>
              <a:rPr b="1" i="1" lang="zh-CN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高三</a:t>
            </a:r>
            <a:r>
              <a:rPr b="1" i="1" lang="en-US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(9)</a:t>
            </a:r>
            <a:r>
              <a:rPr b="1" i="1" lang="zh-CN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班期末考前复习主题班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33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一、仔细制定一个考前复习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1052640"/>
            <a:ext cx="7199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到这时，有些同学就感到焦头烂额，不知道该怎么复习、复习哪门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高考，肯定比你有经验，要参照老师的计划安排，结合自身情况制订一个既与老师计划一致又符合自己实际的计划来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在自己支配的学习时间内，要认真安排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765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安排学习任务时，要轻重缓急得当。学习时间十分有限，要在这有限的时间内分清“重和急”、“轻和缓”。“重和急”指的是自己尚未复习或只要投入时间就可以掌握的重点内容和学科，对这部分要重点“扫荡”。“轻和缓”指的是非重点，难度小，占分不多的部分，也可以是自己掌握得比较好的部分，或者，虽然重要但在短时间内已无法掌握的内容，这部分少用时间，敢于大胆舍弃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临考前，时间也许是最让你焦虑不安的了，总希望能多一天时间复习，但时间是根本无法延伸的。解决的途径只有一个，即克服拖沓现象，提高时间的利用率。 复习前要明确复习的任务，确定完成任务的最后期限，做到“日事日毕，日清日高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6920" y="907920"/>
            <a:ext cx="762012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有效利用复习时间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学习好与差的一个重要区别就在于有无计划。有适用的复习计划，能统筹兼顾地安排好各科学习，这就是学习优良者的共同点。有的同学认为，学校和老师自然会为大家安排复习计划，用不着自己在费事，跟着老师走、按着学校的要求办就可以了。这种想法不对。学校和老师的计划主要是从教的角度，针对全体同学订的，除了遵照执行以外，还应针对自己的情况，从学的角度更具体地制订出个人的复习计划。两方面互相照应配合，才能收到更好的复习效果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692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了复习计划，就要有效地利用时间。离期末考试只有一周多一点的时间了，时间对于我们来说相当重要，所以我们要以迎接期末考试的复习为重心。那么怎样才能在有限的时间内做更多的事情？我认为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依靠学习技能，可以提高学习效率，这样就能完成更多的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充分利用往往被浪费或认为无足轻重的小块时间，这样就能获得比别人更多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期末考试近在眼前，要求同学们一切以复习迎考为中心，把必须要做的事情和可做可不做的事情清楚地分开，安排一个切实可行的复习计划并且利用好复习时间，真正钻进去，发扬埋头苦干的精神。当然，我们还要注意休息，劳逸结合，均衡进餐，保持充沛的精力，以最佳的应试状态迎接期末考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76500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讲究复习方法，提高复习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何讲究复习方法，在复习中要突出“四要”和“三练”。“四要”就是：第一，对面知识和概念的来龙去脉要搞清楚。既要注重结果，更要注重过程，以能力立意的试题往往是知识和概念的迁移，只有把过程搞清楚，才能在知识迁移中融会贯通，举一反三。第二，对知识和概念的易混点也就是难点要归纳类比。即要辩别易混点的区别与内在联系，建议同学们尽量找出自己的疑难问题，记录在册，及时找老师和同学解决。第三，对知识和概念的重要问题也就是主干知识要构建学科知识体系。即要归纳总结，经常对知识进行疏理，使学科知识结构网络逐步清晰。第四，对知识和概念的运用要依据学科思维方式去思考和分析，掌握学科的思维方式和思想方法，考试答题规范有序，避免不合符规范而扣分，该得的分没有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练”就是：一练“审题”与“破题”的方法。要善于在以能力立意的问题中捕捉隐含条件，找到解决问题的关健。二练“开放性”与“多角度”的思维方法，一个问题要善于从多角度多侧面去分析，使知识“迁移”和“再生”。三练“经典题例”，课本上或课堂上老师讲到的典型题例往往是经典的题目，是重难点的剖析，应特别注意分析的思路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在回扣复习阶段一定要注意各科时间上的合理分配，要齐头并进。一花独秀不是春，百花齐放春满园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效率第一，适可而止。效率是成功的关键，追求一定时间内的效率是学习的目标，尤其是课堂效率，课堂是学习的主战场，效率是学习的主线。能一节课完成的任务，决不拖到下一节。能一分钟做完的事决不用两分钟。但劳累决不能过度，决不能学到自己头疼时还学。只要是学到感觉要疼，脑子要管了，就要大胆休息，或变换学习科目及方式</a:t>
            </a:r>
            <a:r>
              <a:rPr b="0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互帮互学，共同受益。学习是一个自我完善的过程，也应是一种集体协作的过程。所谓水涨船高，个人成绩的取得，实际上是集体共同进步的结果。好问能使人受益匪浅，多向老师请教，多与同学交流，整天把自己局限于个人狭小的思维空间上，得不偿失。多鼓励同学，鼓舞别人的过程自己也受到了鼓励。高兴了，与同学共享，一个人的快乐变成两个人的快乐；痛苦了，与朋友说说，两个人承担一个痛苦要轻松得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63640" y="62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任何单一的活动持续时间过长，都会引起人的厌倦疲劳，注意力分散，从而降低学习效率。所以要不断变化学习内容和学习方式，避免单科独进，方法单一，使各科内容的交替进行，耳眼口手脑并用，听说读写算并进，学习方式多样化。换新的方式学习新的内容时，对原有的学习来说实质上就是一种休息，这样高效地利用时间，可以更快更好地获取知识。 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4762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友情提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距离</a:t>
            </a: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扬州市期末联考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仅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720" y="334152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捌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619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、集中精力，心无旁骛。我们都学过荀子的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劝学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，其中说到：“蚓无爪牙之利，筋骨之强，上食埃土，下饮黄泉，用心一也。”这里讲的就是学习要专心致志的道理。考前时间不很多了，别在计较那些小事，别把心思用在学习之外的事情上，生气、打架、谈恋爱，都没时间。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同学们，考试不难，关键在技巧，技巧不多，关键把握好，发挥技巧，心态更重要，心态好就必须吃好、睡好、玩好、信心好、心情好。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476280"/>
            <a:ext cx="26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36572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老师我最大的骄傲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是我默默关注的目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549360"/>
            <a:ext cx="788508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九最棒     自信向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团结自强   共创辉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3933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范中三九班班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33240" y="20448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成功无捷径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295280"/>
            <a:ext cx="7467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如果我兢兢业业工作一个月，我能转正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657600"/>
            <a:ext cx="762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老板答道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你的问题让我想到一个冰冷房间里的温度计，你用热手捂着它，能使表上显示温度上升，不过房间一点也不觉得温暖。”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05120" y="8380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今天的成就是因为昨天的积累，明天的成功则有赖于今天的努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华文隶书"/>
              </a:rPr>
              <a:t>因为你有选择，你主宰自己的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8526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学习中。这要靠我们的意志，但更重要的是建立一个良好的生活习惯和学习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找　问　题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14300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故事：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124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这个故事有什么问题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657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答：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兔子不会爬树。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11480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一只兔子不可能同时砸晕三只猎狗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648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还有没有问题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1814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是还有一个问题，你们都没有提到，“土拨鼠哪里去了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705720" y="62485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19520" y="2438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9600" y="96840"/>
            <a:ext cx="77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土拨鼠，也叫旱獭，生活在北美洲和欧亚大陆广大的山林中。它们喜群居，善掘土，所挖地道深达数米，内有铺草的居室，非常舒适。它们不贮存食物，而是在夏天往体内贮存脂肪以便冬季在洞内冬眠。它们每年一般要在地洞或空心树干内蛰伏半年，有的甚至长达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月之久。冬季最冷的时候，冬眠中的土拨鼠心跳可由活跃期的每分钟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降至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，体温下降，呼吸频率减到每分钟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。这是它们新陈代谢的最低点。如果气温降得太低，它们体内的神经系统便会唤醒自己，使它起来活动数小时以产生热力，然后再恢复冬眠状态。土拨鼠非常机警，不仅经常察看周围情况，还专门有负责放哨的，一遇敌情，警号便发出，全体火速钻入地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010280" y="6095880"/>
            <a:ext cx="1311480" cy="300240"/>
          </a:xfrm>
          <a:prstGeom prst="leftArrow">
            <a:avLst>
              <a:gd name="adj1" fmla="val 37500"/>
              <a:gd name="adj2" fmla="val 21068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76360" y="26028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期末考试还有八天的时间，现在进入到考前的回扣复习阶段，我们从来没有象今天这样体会到时间的宝贵。“宝贵”有两层含义，一则是指时间的有限性，它要求我们必须倍加珍惜，二则是时间的有用性，就是说这段考前的时间很有用，很关键，要求我们必须充分利用。考试专家分析，如果这十几天的复习都能科学有效的话，结果能使你总成绩再提高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！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好吓人，让人梦想！但仔细分析起来并不奇怪，也并非不可能。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分到语数外，每科只有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，如果通过回扣复习，巩固了基础，加强了审题、书写规范的训练，理清了知识体系，弄通了几个重要模糊点，想通了几个与高考相仿的题目，每科提高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7——1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，是完全有可能的。因此，在今天的班会上，我要向同学们喊出一个口号，那就是“为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而战！”，这就是我们考前的任务和目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57200"/>
            <a:ext cx="80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4419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己心目中的目标哪去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71640" y="475920"/>
            <a:ext cx="770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中学生保持积极的情绪是学习好、生活好的前提和条件。要保持积极的情绪首先应对自己、对他人期望不要过高。如果对自己要求过分苛刻，把目标定得太高，超出了自己的能力，无法达到，自己便会垂头丧气。　　其次，掌握调节情绪的方法。一般来说，积极的思维都是与积极的情感、积极的行为联系在一起的，反之则相反。例如，考试失败了如果你用“我天生就笨，我永远也学不好”这样的思维方法，则你将会产生自卑、消沉、烦闷等消极情绪，在学习上也会表现出不认真学习、甚至做出违反课堂纪律等消极行为。相反，如果你用“我是不是不够用功？是不是学习方法有问题？还是由于基础太差？”等思维方法，找出考试失败原因，你将会产生振作、向上等积极情绪，在行为上也会表现出更加用功和刻苦。　　最后，学会笑口常开。现在的学习越来越具竞争性，面对与自己并肩作战的同学应以谦虚和自信来要求自己，同时应学会开怀地笑，会心地笑，放声地笑，使自己的生活充满笑声。总之，在过渡时期，要调整好精神状态，争取以乐观和实事求是的态度来面对变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666880" y="5716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727704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一个简单道理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眼间，连鱼带汤就被他吃了个精光，不久，他便饿死在空空的鱼篓旁。另一个人则提着鱼杆继续忍饥挨饿，一步步艰难地向海边走去，可当他已经看到不远处那片蔚蓝色的大海时，他浑身的最后一点力气也使完了，他也只能眼巴巴地带着无尽的遗憾撒手人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449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　　又有两个饥饿的人，他们同样得到了长者恩赐的一根鱼杆和一篓鱼。只是经过谈判，他们并没有各奔东西，而是商定共同去找寻大海，他俩每次饥饿时，只煮一条鱼。他们经过遥远的跋涉，终于来到了海边，从此，两人开始了捕鱼为生的日子，几年后，他们盖起了房子，有了各自的家庭、子女，有了自己建造的渔船，过上了幸福安康的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066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 ，输－－赢的想法，只是一方得到的短暂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743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的想法，才有可能双方得到长久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5720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时候，一个简单的道理，却足以给人意味悠长的生命启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有两位武士不约而同的走入森林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一位武士在树下看到金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二位武士在同一棵树下看到了银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金盾牌、银盾牌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个人为此争吵不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气得两人拔出剑来准备一决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人整整撕杀了几天都分不出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当两人累得坐在地上喘息时才发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冲　　　突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648320"/>
            <a:ext cx="6019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盾牌的正面是金色，反面是银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原来这是一个双面盾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79132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坚持己见者将会失去通融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34320" y="2819520"/>
            <a:ext cx="2209680" cy="2819160"/>
            <a:chOff x="6934320" y="2819520"/>
            <a:chExt cx="2209680" cy="2819160"/>
          </a:xfrm>
        </p:grpSpPr>
        <p:sp>
          <p:nvSpPr>
            <p:cNvPr id="177" name=""/>
            <p:cNvSpPr/>
            <p:nvPr/>
          </p:nvSpPr>
          <p:spPr>
            <a:xfrm>
              <a:off x="6934320" y="2819520"/>
              <a:ext cx="2209680" cy="2819160"/>
            </a:xfrm>
            <a:prstGeom prst="irregularSeal2">
              <a:avLst/>
            </a:prstGeom>
            <a:solidFill>
              <a:srgbClr val="66ff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3505320"/>
              <a:ext cx="22096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减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没有必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的争斗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运用智慧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06668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英国皇家海军有一次招考雇员，口试题目为：在一个大风雪的夜晚，你开着一辆车，经过一个车站，有三个人在等车。一位是快病死的老太太、一位是救过你命的医生、一位是你梦寐以求的情人。你会载哪一位？说明你的理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情人，因为可能一辈子再也碰不到！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答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“把车钥匙给医生，让他载着老太太去医院，自己留下来陪情人等车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2811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老太太，因为救人第一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3526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医生，因为知恩图报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83808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几乎每个人都认为这是最好的答案，但是居然没人能事先说出同样的答案。是因为我们思维习惯受限制？还是因为我们坚持原有的利益，不愿放手（没想过要放弃自己的车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在很多时候，人应该学会放弃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确的认识和积极的态度最重要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前中国男足教练米卢用他的“态度决定一切”带领中国首次冲进世界杯，我想，态度的力量也可以帮我们全力以赴冲刺期末。看到同学们信心十足，干劲冲天，走起路来抬头挺胸，步伐快捷而稳当，老师心中高兴，老师相信自己，也相信同学们，上次其中考试证明，我们一定会取得好成绩，扎实的复习预示着我们一定会取得成功。如果有人说：“老师，我受不了了，我想放弃”。我送给你一句话：“放弃就是背叛”。请看奥运会上运动员拼搏的身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师从大师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83808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一位音乐系的学生走进练习室，钢琴上，摆着一份全新的乐谱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超高难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他翻动着，喃喃自语，感觉自己对弹奏钢琴的信心似乎跌到了谷底，消磨殆尽。已经三个月了！自从跟了这位新的指导教授之后，他不知道，为什么教授要以这种方式整人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勉强打起精神。他开始用十只手指头奋战、奋战、奋战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琴间盖住了练习室外教授走来的脚步声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指导教授是个极有名的钢琴大师。授课第一天，他给自己的新学生一份乐谱。“试试看吧！”他说。乐谱难度颇高，学生弹得生涩僵滞，错误百出。“还不熟，回去好好练习！”教授在下课时，如此叮嘱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学生练了一个星期，第二周上课时正准备让教授验收，没想到教授又给了他一份难度更高的乐谱。“试试看吧”！上星期的课，教授提也没提。学生再次挣扎于更高难度的技巧挑战。第三周，更难的乐谱又出现了。同样的情形持续着，学生每次在课堂上都被一份新的乐谱所困扰，然后把它带回练习，接着再回到课堂上，重新面临两倍难度的乐谱，却怎么样都追不上进度，一点也没有因为上周的练习而有驾轻就熟的感觉。学生感到越来越不安、沮丧和气馁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走进练习室。学生再也忍不住了。他必须向钢琴大师提出这三个月来何以不断折磨自己的质疑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没开口，他抽出了最早的第一份乐谱，交给学生。“弹奏吧！”他以坚定的眼神望着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不可思议的结果发生了，连学生自已都惊讶万分，他居然可以将这首曲子弹奏得如此美妙，如此精湛！教授又让学生试了第二堂课的乐谱，学生依然呈现超高水准的表现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演奏结束，学生怔怔地看着老师，说不出话来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如果，我任由你表现最擅长的部分，可能你还在练习最早的那份乐谱，就不会有现在这样的程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钢琴大师缓缓地说。</a:t>
            </a:r>
            <a:r>
              <a:rPr b="1" lang="zh-CN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人，往往习惯于表现自己所熟悉、所擅长的领域。但如果我们愿意回首，细细检视，将会恍然大悟：面对紧锣密鼓的工作挑战，难度渐升的工作压力，持续提升自我，不也就在不知不觉间养成了今日的诸般能力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352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，人，确实有无限的潜力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4343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了这层体悟与认识，会让我们更欣然乐意地面对未来更多的难题，不断磨练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44800" y="1628640"/>
            <a:ext cx="619920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03280" y="1052640"/>
            <a:ext cx="741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同学在学习的时候，一点主动权都没有，有的甚至把学习看作是一种负担，感到苦恼，觉得厌烦。但有的同学就不是这样，他们在学习中，结合自己的生活方式妥善安排时间，合理利用时间，并且时刻注意运用科学的学习方法，运用自己的聪明智慧去寻求最好的效果。他们就象游泳运动员，在知识的海洋里从容自如地畅游，完全获得了主动，成为了学习的主人。针对这些现象，结合期末迎考，我想提几点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4:55Z</dcterms:modified>
  <cp:revision>83</cp:revision>
  <dc:subject>主题班会课件(分28大类): http://shop62905894.taobao.com</dc:subject>
  <dc:title>主题班会课件(分28大类): http://shop62905894.taobao.com</dc:title>
</cp:coreProperties>
</file>