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90B-6A7D-4462-8BA9-A7FC14CD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AAE-D80C-4F64-88A6-6125734C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FF5-7144-4A66-AC90-E2BEC314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400-F057-459D-BCFE-BBAD9F5E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EBF4-0C0C-4594-85DF-7E19E262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7246-91F3-4404-98E0-723655A5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5DE4-9D00-4B00-B547-D8EBC4B7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28DC-A991-4C9A-A8A0-4C3D3B18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26FF-3A9C-414B-B8E7-46EA3F6C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C76C-ED7D-4B71-90A2-4F796364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D37B-3703-442B-9B8F-1E6D5B8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32E-5FEE-402C-AE95-A947810F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0A20-0991-4B56-AF77-CE4DD258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8F6B-4374-460B-A16E-6F766268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5C56-7995-489C-BACB-A9AA33DE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528-553F-4E55-BFBB-879AC323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21A5-151A-4226-9C34-7017F80C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D77-45B1-4202-86FF-ED500C5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7F7-39B3-42C8-9894-57DE4BC9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6BA-6589-4A9C-BE23-E5D37A89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455-6FEE-49A9-BBC8-28FE0EDA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33C-E67E-41CB-9694-29200697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445-AB02-4246-804A-856C04D0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458-63EE-46D6-9097-B373672D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552E-6E58-440D-8470-ECD943DA37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930-81E3-4448-9F78-A9F4B69ED70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71480" y="4581360"/>
            <a:ext cx="217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4363920"/>
            <a:ext cx="8640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参加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12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79640" y="170028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44800" y="1628640"/>
            <a:ext cx="6199200" cy="522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89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03280" y="105264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同学在学习的时候，一点主动权都没有，有的甚至把学习看作是一种负担，感到苦恼，觉得厌烦。但有的同学就不是这样，他们在学习中，结合自己的生活方式妥善安排时间，合理利用时间，并且时刻注意运用科学的学习方法，运用自己的聪明智慧去寻求最好的效果。他们就象游泳运动员，在知识的海洋里从容自如地畅游，完全获得了主动，成为了学习的主人。针对这些现象，结合期末迎考，我想提几点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92360" y="33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一、仔细制定一个考前复习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1052640"/>
            <a:ext cx="7199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到这时，有些同学就感到焦头烂额，不知道该怎么复习、复习哪科好。我提醒你首先要制定一个临考复习计划，有了这个计划，后期复习任务的完成，才有了具体的时间和空间，也就可以结束忙乱无序的紧张心态，使你的心情平静下来。如果复习没计划，西打一捶，东打一棒，肯定事倍功半。在安排计划时，要考虑以下几个问题：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科老师都有计划，老师经历过很多次考试，肯定比你有经验，要参照老师的计划安排，结合自身情况制订一个既与老师计划一致又符合自己实际的计划来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划时要把时间划分好。临考前的时间大致分为两部分：一部分归教师支配，一部分归自己支配。在跟着老师复习的时间内一定要力争学会，把它看成是考前的“最后一次”见面，不要再寄希望于以后自己再找时间复习，因为事实上已没有这个“时间”了。在自己支配的学习时间内，要认真安排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6920" y="907920"/>
            <a:ext cx="762012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有效利用复习时间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恩格斯说：“没有计划的学习简直就是荒唐。”学习好与差的一个重要区别就在于有无计划。有适用的复习计划，能统筹兼顾地安排好各科学习，这就是学习优良者的共同点。有的同学认为，学校和老师自然会为大家安排复习计划，用不着自己在费事，跟着老师走、按着学校的要求办就可以了。这种想法不对。学校和老师的计划主要是从教的角度，针对全体同学订的，除了遵照执行以外，还应针对自己的情况，从学的角度更具体地制订出个人的复习计划。两方面互相照应配合，才能收到更好的复习效果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692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了复习计划，就要有效地利用时间。离期末考试只有一周多一点的时间了，时间对于我们来说相当重要，所以我们要以迎接期末考试的复习为重心。那么怎样才能在有限的时间内做更多的事情？我认为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依靠学习技能，可以提高学习效率，这样就能完成更多的任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充分利用往往被浪费或认为无足轻重的小块时间，这样就能获得比别人更多的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通过自我控制，养成好习惯，改掉坏习惯。平时，同学们浪费时间的现象非常普遍。如：聊天、没有节制地玩、无目的的东张西望、无目的的看与学习无关的书、为崇拜的人分散精力、看或写不必要的东西等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期末考试近在眼前，要求同学们一切以复习迎考为中心，把必须要做的事情和可做可不做的事情清楚地分开，安排一个切实可行的复习计划并且利用好复习时间，真正钻进去，发扬埋头苦干的精神。当然，我们还要注意休息，劳逸结合，均衡进餐，保持充沛的精力，以最佳的应试状态迎接期末考试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765000"/>
            <a:ext cx="78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讲究复习方法，提高复习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讲究复习方法，在复习中要突出“四要”和“三练”。“四要”就是：第一，对面知识和概念的来龙去脉要搞清楚。既要注重结果，更要注重过程，以能力立意的试题往往是知识和概念的迁移，只有把过程搞清楚，才能在知识迁移中融会贯通，举一反三。第二，对知识和概念的易混点也就是难点要归纳类比。即要辩别易混点的区别与内在联系，建议同学们尽量找出自己的疑难问题，记录在册，及时找老师和同学解决。第三，对知识和概念的重要问题也就是主干知识要构建学科知识体系。即要归纳总结，经常对知识进行疏理，使学科知识结构网络逐步清晰。第四，对知识和概念的运用要依据学科思维方式去思考和分析，掌握学科的思维方式和思想方法，考试答题规范有序，避免不合符规范而扣分，该得的分没有得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练”就是：一练“审题”与“破题”的方法。要善于在以能力立意的问题中捕捉隐含条件，找到解决问题的关健。二练“开放性”与“多角度”的思维方法，一个问题要善于从多角度多侧面去分析，使知识“迁移”和“再生”。三练“经典题例”，课本上或课堂上老师讲到的典型题例往往是经典的题目，是重难点的剖析，应特别注意分析的思路和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特别提醒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8560" y="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、在复习阶段一定要注意各科时间上的合理分配，要齐头并进。一花独秀不是春，百花齐放春满园。各科要均衡发展，每门功课都要复习到位，不能对优势学科掉以轻心，也不能对薄弱学科失去信心。只是不同层次的功课，对你要求各不相同，复习的目标和策略做到相应变化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、效率第一，适可而止。效率是成功的关键，追求一定时间内的效率是学习的目标，尤其是课堂效率，课堂是学习的主战场，效率是学习的主线。能一节课完成的任务，决不拖到下一节。能一分钟做完的事决不用两分钟。但劳累决不能过度，决不能学到自己头疼时还学。只要是学到感觉要疼，脑子要管了，就要大胆休息，或变换学习科目及方式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互帮互学，共同受益。学习是一个自我完善的过程，也应是一种集体协作的过程。所谓水涨船高，个人成绩的取得，实际上是集体共同进步的结果。好问能使人受益匪浅，多向老师请教，多与同学交流，整天把自己局限于个人狭小的思维空间上，得不偿失。多鼓励同学，鼓舞别人的过程自己也受到了鼓励。高兴了，与同学共享，一个人的快乐变成两个人的快乐；痛苦了，与朋友说说，两个人承担一个痛苦要轻松得多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620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期末市统考而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335772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华文行楷"/>
                <a:ea typeface="华文行楷"/>
              </a:rPr>
              <a:t>-----</a:t>
            </a:r>
            <a:r>
              <a:rPr b="1" i="1" lang="zh-CN" sz="3600" spc="-1" strike="noStrike">
                <a:solidFill>
                  <a:srgbClr val="66ff33"/>
                </a:solidFill>
                <a:latin typeface="华文行楷"/>
                <a:ea typeface="华文行楷"/>
              </a:rPr>
              <a:t>高一（</a:t>
            </a:r>
            <a:r>
              <a:rPr b="1" i="1" lang="en-US" sz="3600" spc="-1" strike="noStrike">
                <a:solidFill>
                  <a:srgbClr val="66ff33"/>
                </a:solidFill>
                <a:latin typeface="华文行楷"/>
                <a:ea typeface="华文行楷"/>
              </a:rPr>
              <a:t>6</a:t>
            </a:r>
            <a:r>
              <a:rPr b="1" i="1" lang="zh-CN" sz="3600" spc="-1" strike="noStrike">
                <a:solidFill>
                  <a:srgbClr val="66ff33"/>
                </a:solidFill>
                <a:latin typeface="华文行楷"/>
                <a:ea typeface="华文行楷"/>
              </a:rPr>
              <a:t>）班期末考前复习动员主题班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4797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李春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63640" y="620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任何单一的活动持续时间过长，都会引起人的厌倦疲劳，注意力分散，从而降低学习效率。所以要不断变化学习内容和学习方式，避免单科独进，方法单一，使各科内容的交替进行，耳眼口手脑并用，听说读写算并进，学习方式多样化。换新的方式学习新的内容时，对原有的学习来说实质上就是一种休息，这样高效地利用时间，可以更快更好地获取知识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心静如水，别浮躁，贵在坚持。要立志把凳子坐穿。我要说，谁坐到最后，谁就会胜利，谁坚持到最后，谁就会成功。快到考试了，连凳子都坐不住，还想得高分？要有任外边翻江蹈海，我自岿然不动的气魄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32000" y="549360"/>
            <a:ext cx="76197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集中精力，心无旁骛。我们都学过荀子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劝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其中说到：“蚓无爪牙之利，筋骨之强，上食埃土，下饮黄泉，用心一也。”这里讲的就是学习要专心致志的道理。考前时间不很多了，别在计较那些小事，别把心思用在学习之外的事情上，生气、打架、谈恋爱，都没时间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学们，考试不难，关键在技巧，技巧不多，关键把握好，发挥技巧，心态更重要，心态好就必须吃好、睡好、玩好、信心好、心情好。当前到了最关键的时刻，一切都在显示我们已进入到考前备战状态。关键的时刻每个同学都要相信自己，顶得住，站得稳，按照学校部署，稳扎稳打，用实际行动去争取本来属于自己的成功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228600"/>
            <a:ext cx="5029200" cy="3200400"/>
          </a:xfrm>
          <a:prstGeom prst="cloudCallout">
            <a:avLst>
              <a:gd name="adj1" fmla="val 45800"/>
              <a:gd name="adj2" fmla="val 51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52280"/>
            <a:ext cx="4419720" cy="3505320"/>
          </a:xfrm>
          <a:prstGeom prst="cloudCallout">
            <a:avLst>
              <a:gd name="adj1" fmla="val 67203"/>
              <a:gd name="adj2" fmla="val 60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同学们：成功在向我们招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加油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4360" y="33336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4365720"/>
            <a:ext cx="7489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你的进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是家长和老师最大的骄傲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2060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你拼搏的身后是我们默默关注的目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16360" y="836640"/>
            <a:ext cx="532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骏马就要驰骋千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304920"/>
            <a:ext cx="7885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我们最棒    自信向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 </a:t>
            </a: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团结自强   共创辉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9880" y="609480"/>
            <a:ext cx="49514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恰巧读到几个故事，希望和大家分享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成功无捷径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7524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一个青年职员平时工作懒懒散散，在转正前一个月他问老板：“如果我兢兢业业工作一个月，我能转正吗？”老板答道：“你的问题让我想到一个冷房间的温度计，你用热手捂着它，能使表上显示温度上升，不过房间一点也不会温暖。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205000"/>
            <a:ext cx="6248520" cy="180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的成就是因为昨天的积累，明天的成功则有赖于今天的努力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实真正的成功是一个过程，是将勤奋和努力融入每天的生活中，融入每天的工作中。这要靠我们的意志，但更重要的是建立一个良好的生活习惯和工作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培训中有一句话：“因为你有选择，你主载自己的人生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606744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Be pro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找　问　题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14300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　　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故事：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有三只猎狗追一只土拨鼠，土拨鼠钻进了一个树洞。这只树洞只有一个出口，可不一会儿，从树洞里钻出一只兔子。兔子飞快地向前跑，并爬上一棵大树。兔子在树上，仓皇中没站稳，掉了下来，砸晕了正仰头看的三只猎狗，最后，兔子终于逃脱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1240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问：“这个故事有什么问题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657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答：（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）“兔子不会爬树。”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411480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）“一只兔子不可能同时砸晕三只猎狗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648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问：“还有没有问题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51814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是还有一个问题，你们都没有提到，“土拨鼠哪里去了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705720" y="62485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在追求人生目标的过程中，我们有时也会被途中的细枝末节和一些毫无意义的琐事分散精力，扰乱视线，以至中途停顿下来，或是走上岔路，而放弃了自己原先追求的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457200"/>
            <a:ext cx="80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要忘了时刻提醒自己，土拨鼠哪去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4419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己心目中的目标哪去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47640" y="47628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友情提醒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184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今天距离</a:t>
            </a:r>
            <a:r>
              <a:rPr b="1" lang="zh-CN" sz="5400" spc="-1" strike="noStrike">
                <a:solidFill>
                  <a:srgbClr val="cc0066"/>
                </a:solidFill>
                <a:latin typeface="华文行楷"/>
                <a:ea typeface="华文行楷"/>
              </a:rPr>
              <a:t>南平市期末统考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仅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3357720"/>
            <a:ext cx="59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微软简综艺"/>
                <a:ea typeface="微软简综艺"/>
              </a:rPr>
              <a:t>1</a:t>
            </a:r>
            <a:r>
              <a:rPr b="1" lang="en-US" sz="9600" spc="-1" strike="noStrike">
                <a:solidFill>
                  <a:srgbClr val="ff3300"/>
                </a:solidFill>
                <a:latin typeface="微软简综艺"/>
                <a:ea typeface="微软简综艺"/>
              </a:rPr>
              <a:t>1</a:t>
            </a:r>
            <a:r>
              <a:rPr b="1" lang="zh-CN" sz="9600" spc="-1" strike="noStrike">
                <a:solidFill>
                  <a:srgbClr val="ff3300"/>
                </a:solidFill>
                <a:latin typeface="微软简综艺"/>
                <a:ea typeface="微软简综艺"/>
              </a:rPr>
              <a:t>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3500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8410"/>
                </a:moveTo>
                <a:lnTo>
                  <a:pt x="8224" y="8410"/>
                </a:lnTo>
                <a:lnTo>
                  <a:pt x="12645" y="3797"/>
                </a:lnTo>
                <a:lnTo>
                  <a:pt x="12645" y="17810"/>
                </a:lnTo>
                <a:lnTo>
                  <a:pt x="8224" y="13197"/>
                </a:lnTo>
                <a:lnTo>
                  <a:pt x="3794" y="1319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17806" y="10804"/>
                </a:lnTo>
              </a:path>
              <a:path fill="darken" w="21600" h="21607">
                <a:moveTo>
                  <a:pt x="14299" y="8410"/>
                </a:moveTo>
                <a:lnTo>
                  <a:pt x="17806" y="5642"/>
                </a:lnTo>
              </a:path>
              <a:path fill="darken" w="21600" h="21607">
                <a:moveTo>
                  <a:pt x="14299" y="13197"/>
                </a:moveTo>
                <a:lnTo>
                  <a:pt x="17806" y="15965"/>
                </a:ln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52480" y="599112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Put first things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527040"/>
            <a:ext cx="58672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一个简单道理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523880"/>
            <a:ext cx="7467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　　　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从前，有两个饥饿的人得到了一位长者的恩赐：一根鱼杆和一篓鲜活硕大的鱼。经过谈判，其中，一个人得到了一篓鱼，另一个得到了一根鱼杆。得到鱼的人原地就用干柴搭起篝火煮起了鱼，他狼吞虎咽，还没有品出鲜鱼的肉香，转眼间，连鱼带汤就被他吃了个精光，不久，他便饿死在空空的鱼篓旁。另一个人则提着鱼杆继续忍饥挨饿，一步步艰难地向海边走去，可当他已经看到不远处那片蔚蓝色的大海时，他浑身的最后一点力气也使完了，他也只能眼巴巴地带着无尽的遗憾撒手人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71600" y="449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　　又有两个饥饿的人，他们同样得到了长者恩赐的一根鱼杆和一篓鱼。只是经过谈判，他们并没有各奔东西，而是商定共同去找寻大海，他俩每次饥饿时，只煮一条鱼。他们经过遥远的跋涉，终于来到了海边，从此，两人开始了捕鱼为生的日子，几年后，他们盖起了房子，有了各自的家庭、子女，有了自己建造的渔船，过上了幸福安康的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10666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赢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 ，输－－赢的想法，只是一方得到的短暂的快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27432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赢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赢的想法，才有可能双方得到长久的快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5720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时候，一个简单的道理，却足以给人意味悠长的生命启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有两位武士不约而同的走入森林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第一位武士在树下看到金色的盾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第二位武士在同一棵树下看到了银色的盾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金盾牌、银盾牌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两个人为此争吵不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气得两人拔出剑来准备一决胜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两人整整撕杀了几天都分不出胜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当两人累得坐在地上喘息时才发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冲　　　突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648320"/>
            <a:ext cx="6019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盾牌的正面是金色，反面是银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原来这是一个双面盾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579132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坚持己见者将会失去通融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934320" y="2819520"/>
            <a:ext cx="2209680" cy="2819160"/>
            <a:chOff x="6934320" y="2819520"/>
            <a:chExt cx="2209680" cy="2819160"/>
          </a:xfrm>
        </p:grpSpPr>
        <p:sp>
          <p:nvSpPr>
            <p:cNvPr id="176" name=""/>
            <p:cNvSpPr/>
            <p:nvPr/>
          </p:nvSpPr>
          <p:spPr>
            <a:xfrm>
              <a:off x="6934320" y="2819520"/>
              <a:ext cx="2209680" cy="2819160"/>
            </a:xfrm>
            <a:prstGeom prst="irregularSeal2">
              <a:avLst/>
            </a:prstGeom>
            <a:solidFill>
              <a:srgbClr val="66ff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34320" y="3505320"/>
              <a:ext cx="22096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减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没有必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的争斗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运用智慧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06668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　　英国皇家海军有一次招考雇员，口试题目为：在一个大风雪的夜晚，你开着一辆车，经过一个车站，有三个人在等车。一位是快病死的老太太、一位是救过你命的医生、一位是你梦寐以求的情人。你会载哪一位？说明你的理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3962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情人，因为可能一辈子再也碰不到！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724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答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“把车钥匙给医生，让他载着老太太去医院，自己留下来陪情人等车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2811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老太太，因为救人第一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33526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医生，因为知恩图报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838080"/>
            <a:ext cx="7391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几乎每个人都认为这是最好的答案，但是居然没人能事先说出同样的答案。是因为我们思维习惯受限制？还是因为我们坚持原有的利益，不愿放手（没想过要放弃自己的车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41972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在很多时候，人应该学会放弃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83808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419720"/>
            <a:ext cx="81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8900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学们，青春是需要激情的！大海浩瀚，潭水千尺，光荣永远只青睐在艰难中依旧保持激情的生命。江水奔流向前，雨季就一定会来到；瀑布向天空敞开胸怀，它生命的高度就从此铸就。在艰难的时刻保持激情，这才是英雄本色。希望这向期末考试发出冲刺的最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，能锤炼你们的骨骼，磨砺你们的心灵，让你们青春的生命焕发出动人的光彩。老师希望，当期末考试你走出考场的时候，回顾你这学期所走过的青春岁月，你能有着没有虚度年华的从容和自豪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458136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泰戈尔说：天空没有留下我的痕迹，但是我已经飞过！我们说，这一学期我们不但走过了，我们还要留下我们青春的脚印。千淘万漉虽辛苦，吹尽狂沙始见金。让我们把这最后几天变成金子，让我们期待同学们在期末考试中有金子般沉甸甸的收获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2602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期末考试只有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天的时间，现在进入到考前的复习阶段，我们从来没有象今天这样体会到时间的宝贵。“宝贵”有两层含义，一则是指时间的有限性，它要求我们必须倍加珍惜，二则是时间的有用性，就是说这段考前的时间很有用，很关键，要求我们必须充分利用。考试专家分析，如果这十几天的复习都能科学有效的话，结果能使你总成绩再提高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！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好吓人，让人梦想！但仔细分析起来并不奇怪，也并非不可能。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到九科，每科只有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-6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如果通过复习，巩固了基础，加强了审题、书写规范的训练，理清了知识体系，弄通了几个重要模糊点，想通了几个与考试相仿的题目，每科提高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——1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是完全有可能的。因此，在今天的班会上，我要向同学们喊出一个口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685800"/>
            <a:ext cx="792468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黑体"/>
                <a:ea typeface="黑体"/>
              </a:rPr>
              <a:t>为</a:t>
            </a:r>
            <a:r>
              <a:rPr b="1" lang="en-US" sz="9600" spc="-1" strike="noStrike">
                <a:solidFill>
                  <a:srgbClr val="ff3300"/>
                </a:solidFill>
                <a:latin typeface="黑体"/>
                <a:ea typeface="黑体"/>
              </a:rPr>
              <a:t>50</a:t>
            </a:r>
            <a:r>
              <a:rPr b="1" lang="zh-CN" sz="9600" spc="-1" strike="noStrike">
                <a:solidFill>
                  <a:srgbClr val="ff3300"/>
                </a:solidFill>
                <a:latin typeface="黑体"/>
                <a:ea typeface="黑体"/>
              </a:rPr>
              <a:t>分而战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这就是我们考前的任务和目标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确的认识和积极的态度最重要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1197000"/>
            <a:ext cx="727236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中国男足教练米卢用他的“态度决定一切”带领中国首次冲进世界杯，我想，态度的力量也可以帮我们全力以赴冲刺期末。看到同学们信心十足，干劲冲天，走起路来抬头挺胸，步伐快捷而稳当，老师心中高兴，老师相信自己，也相信同学们，上次期中考试证明，我们一定会取得好成绩，扎实的复习预示着我们一定会取得成功。如果有人说：“老师，我受不了了，我想放弃”。我送给你一句话：“放弃就是背叛”。请看奥运会上运动员拼搏的身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7:24:3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5:43Z</dcterms:modified>
  <cp:revision>92</cp:revision>
  <dc:subject>主题班会课件(分28大类): http://shop62905894.taobao.com</dc:subject>
  <dc:title>主题班会课件(分28大类): http://shop62905894.taobao.com</dc:title>
</cp:coreProperties>
</file>