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9799-B030-40D0-AF6F-9BE8B03DCC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3F6C-2B27-4232-9BCD-7811951FC6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3AA2-9433-49FB-9B05-0C668E5D7F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368-E480-4AFA-9E93-09F4A2DBED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531D-35BE-4241-8696-6F50C775B6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F09A-787E-4EBF-AB0A-9DC1E7A726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DBE6-56FC-4188-A5FA-6494B400A2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35C-BC34-4B2E-91C6-C1654175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386-E438-43C6-8D2B-C958CAB2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57D-7FCF-4DDF-B368-3EDAE9C3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454-02C0-4966-A49B-C30DEED6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2C5-F083-44D7-B0FD-A4F2B67C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152-BDE8-4488-AF0D-4C4418C6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CA6-89A3-4B86-826C-33821D5A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01A-9E4C-4CBD-B51B-A64CA84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177-B8AD-4FB0-9483-0E016ECB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F4D-04CD-41CF-B4C1-521AF3F6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ED1-58D8-439F-8FEF-A6DB69E3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255-30D6-4DB2-A372-8924497B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998A-5A8E-47A9-B116-9A686C2CB5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8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高一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班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00360" y="234936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段考动员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所以，总是要保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积极、乐观！</a:t>
            </a:r>
            <a:r>
              <a:rPr b="0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 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43640" y="4076640"/>
            <a:ext cx="2397240" cy="2222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2637000"/>
            <a:ext cx="693432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任何时候，都要相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我行</a:t>
            </a:r>
            <a:r>
              <a:rPr b="1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我一定能做到！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期中考到了，我应该做些什么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信自己，找到学习的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.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合理安排，做时间的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方法，有效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227000" y="304920"/>
            <a:ext cx="13993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我是不是经常在浪费时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619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6094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66"/>
                </a:solidFill>
                <a:latin typeface="Times New Roman"/>
              </a:rPr>
              <a:t>怎样订一份好计划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2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、根据自己的实际情况来制订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352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、包括内容和目标两个方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419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、一定要安排奖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562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、要有灵活机动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期中考到了，我应该做些什么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信自己，找到学习的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理安排，做时间的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方法，有效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2760" y="857160"/>
            <a:ext cx="481356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一定意义上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是一种带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性特征的学习风格。学习方法因人而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但正确的学习方法应该遵循以下几个原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、熟读精思、自求自得、博约结合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60" y="4348080"/>
            <a:ext cx="22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WHAT</a:t>
            </a:r>
            <a:r>
              <a:rPr b="1" i="1" lang="en-US" sz="3600" spc="-1" strike="noStrike">
                <a:solidFill>
                  <a:srgbClr val="003399"/>
                </a:solidFill>
                <a:latin typeface="Monotype Corsiva"/>
              </a:rPr>
              <a:t>…</a:t>
            </a:r>
            <a:r>
              <a:rPr b="1" i="1" lang="zh-CN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2760" y="857160"/>
            <a:ext cx="481356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一定意义上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是一种带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性特征的学习风格。学习方法因人而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但正确的学习方法应该遵循以下几个原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、熟读精思、自求自得、博约结合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160" y="4348080"/>
            <a:ext cx="22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WHAT</a:t>
            </a:r>
            <a:r>
              <a:rPr b="1" i="1" lang="en-US" sz="3600" spc="-1" strike="noStrike">
                <a:solidFill>
                  <a:srgbClr val="003399"/>
                </a:solidFill>
                <a:latin typeface="Monotype Corsiva"/>
              </a:rPr>
              <a:t>…</a:t>
            </a:r>
            <a:r>
              <a:rPr b="1" i="1" lang="zh-CN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54320" y="1773360"/>
            <a:ext cx="5057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”──就是人们按照学科的知识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系和自身的智能条件，系统而有步骤地进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习。它要求人们应注重基础，切忌好高骛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急于求成。循序渐进的原则体现为：一要打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基础。二要由易到难。三要量力而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97040" y="522360"/>
            <a:ext cx="59184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熟读精思”──就是要根据记忆和理解的辩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记忆与理解紧密结合起来，两者不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偏废。我们知道记忆与理解是密切联系、相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相成的。一方面，只有在记忆的基础上进行理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解才能透彻；另一方面，只有在理解的参与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进行记忆，记忆才会牢固，“熟读”，要做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三到”：心到、眼到、口到。“精思”，要善于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出问题和解决问题，用“自我诘难法”和“众说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难法”去质疑问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12600" y="476280"/>
            <a:ext cx="5301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求自得”──就是要充分发挥学习的主动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积极性，尽可能挖掘自我内在的学习潜力，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养和提高自学能力。自求自得的原则要求不要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读书而读书，应当把所学的知识加以消化吸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变成自己的东西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青蛙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300720" y="3284640"/>
            <a:ext cx="2448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01440" y="476280"/>
            <a:ext cx="5301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博约结合”──就是要根据广搏和精研的辩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广博和精研结合起来，众所周知，博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约的关系是在博的基础上去约，在约的指导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博，博约结合，相互促进。坚持博约结合，一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要广泛阅读。二是精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93440" y="644400"/>
            <a:ext cx="5517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”──就是要根据认识与实践的辩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学习和实践结合起来，切忌学而不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者行之始，行者知之成”，以知为指导的行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能行之有效，脱离知的行则是盲动。同样，以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验证的知才是真知灼见，脱离行的知则是空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因此，知行统一要注重实践：一是要善于在实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学习，边实践、边学习、边积累。二是躬行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践，即把学习得来的知识，用在实际工作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解决实际问题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33920" y="-360"/>
            <a:ext cx="2209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1268280"/>
            <a:ext cx="74678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有三只猎狗追一只土拨鼠，土拨鼠钻进了一个树洞。这只树洞只有一个出口，可不一会儿，从树洞里钻出一只兔子。兔子飞快地向前跑，并爬上一棵大树。兔子在树上，仓皇中没站稳，掉了下来，砸晕了正仰头看的三只猎狗，最后，兔子终于逃脱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429000"/>
            <a:ext cx="6781680" cy="703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在追求人生目标的过程中，我们有时也会被途中的细枝末节和一些毫无意义的琐事分散精力，扰乱视线，以至中途停顿下来，或是走上岔路，而放弃了自己原先追求的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不要忘了时刻提醒自己，土拨鼠哪去了？自己心目中的目标哪去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308916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Join us!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40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跑步大动员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971640" y="404640"/>
            <a:ext cx="5718240" cy="1127160"/>
            <a:chOff x="971640" y="404640"/>
            <a:chExt cx="5718240" cy="112716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71640" y="404640"/>
              <a:ext cx="10591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5629320" y="404640"/>
              <a:ext cx="106056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1460520" y="633240"/>
              <a:ext cx="108144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2324160" y="63324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3332520" y="63324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4340520" y="633240"/>
              <a:ext cx="1081080" cy="89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5616720" y="1484280"/>
            <a:ext cx="3527280" cy="5183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从前，有一群青蛙组织了一场攀爬比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比賽的终点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一個非常高的铁塔的塔顶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777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华文行楷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一大群青蛙围着铁塔看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比賽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給它们加油 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         比賽开始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27640" y="1700280"/>
            <a:ext cx="4494240" cy="1739880"/>
            <a:chOff x="4427640" y="1700280"/>
            <a:chExt cx="4494240" cy="173988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7439040" y="1700280"/>
              <a:ext cx="1482840" cy="15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4427640" y="1700280"/>
              <a:ext cx="3151080" cy="1739880"/>
              <a:chOff x="4427640" y="1700280"/>
              <a:chExt cx="3151080" cy="1739880"/>
            </a:xfrm>
          </p:grpSpPr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7680" y="1700280"/>
                <a:ext cx="1481040" cy="15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27640" y="1928880"/>
                <a:ext cx="1511280" cy="1511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8" name=""/>
          <p:cNvGrpSpPr/>
          <p:nvPr/>
        </p:nvGrpSpPr>
        <p:grpSpPr>
          <a:xfrm>
            <a:off x="1143000" y="5162400"/>
            <a:ext cx="6857280" cy="1361880"/>
            <a:chOff x="1143000" y="5162400"/>
            <a:chExt cx="6857280" cy="1361880"/>
          </a:xfrm>
        </p:grpSpPr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114300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6"/>
            <a:stretch/>
          </p:blipFill>
          <p:spPr>
            <a:xfrm>
              <a:off x="677484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228564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334584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448884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0"/>
            <a:stretch/>
          </p:blipFill>
          <p:spPr>
            <a:xfrm>
              <a:off x="563220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实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群蛙中沒有谁相信這些小小的青蛙会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塔顶，他们都在议论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“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這太难了！！它们肯定到不了塔頂！”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“它们绝不可能成功的，塔太高了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到這些，一只接一只的青蛙开始泄气了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除了那些情绪高涨的几只还在往上爬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群蛙继续喊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“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這太难了！！沒有谁能爬上顶的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9880" y="2895480"/>
            <a:ext cx="218916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304920"/>
            <a:ext cx="799128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越來越多的青蛙累坏了，退出了比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但，有一隻卻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越爬越高，一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沒有放弃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442200" y="1090440"/>
            <a:ext cx="2233440" cy="898560"/>
            <a:chOff x="6442200" y="1090440"/>
            <a:chExt cx="2233440" cy="89856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6442200" y="109044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7594560" y="1090440"/>
              <a:ext cx="1081080" cy="89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596360" y="5516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0" y="2060640"/>
            <a:ext cx="1625760" cy="1299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3470400"/>
            <a:ext cx="81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最后，其他所有的青蛙都退出了比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除了一只，它費了很大的劲，终于成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唯一一只到达塔顶的胜利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0000" y="333360"/>
            <a:ext cx="74883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很自然，其他所有的青蛙都想知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怎么成功的 </a:t>
            </a:r>
            <a:br>
              <a:rPr sz="44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只青蛙跑上前去采访那只胜利者：它哪來那么大的力气跑完全程？</a:t>
            </a: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27400" y="4572000"/>
            <a:ext cx="1206720" cy="1208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07840" y="29718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這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只青蛙是</a:t>
            </a:r>
            <a:r>
              <a:rPr b="1" lang="zh-TW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個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聋</a:t>
            </a:r>
            <a:r>
              <a:rPr b="1" lang="zh-TW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子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115920"/>
            <a:ext cx="31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它发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1345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永远不要听信那些习惯消极悲观看问题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是记住你听到的充满力量的话语，因为所有你听到的或读到的话语都会影响你的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28680" cy="108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6:28:1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0:43Z</dcterms:modified>
  <cp:revision>11</cp:revision>
  <dc:subject>主题班会课件(分28大类): http://shop62905894.taobao.com</dc:subject>
  <dc:title>主题班会课件(分28大类): http://shop62905894.taobao.com</dc:title>
</cp:coreProperties>
</file>