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5FE-514A-4998-B4C5-C0E4876C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109-D64C-443C-B040-0437576E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F05-897C-4C97-8C7D-C117F5F6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516-F70A-48AC-A485-05388FD8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3083-2876-4224-9C80-37D0050D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EDBF-2990-4E43-9561-ACD93C37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2888-F032-4076-82A2-14DBC521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D599-704F-4B1C-B2D0-42642901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DA48-0E9A-4308-8EF3-A5EA2AC2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F11F-E932-4973-9811-7A0567ED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DDC9-23B7-4D16-A712-0B3B7CA9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885-C053-4A3D-8ED4-3770A0A2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2D37-9567-458C-8D0A-67231407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FB7C-DBA4-48A9-A01F-4780AE3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FE08-AAEE-4249-9A0C-5B90198C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7ACC-9A2D-4B52-97F7-F5F5A4F9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72AD-9D96-4015-9908-F69D5136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D446-3E4A-4830-A870-8F1ED01D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93C3-EECA-4BB1-BA55-FD95CB27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7186C-741A-43E0-9FE1-30129E8E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C406-05EF-46C4-8C7B-F68A7992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65D2-C375-41DE-BAC1-FE1F1900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8A3-7930-4BDC-BCFC-F1C1E45E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40E9-C527-4814-9694-4AEC9E44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0A71-3FC6-46FA-AF76-B74D1B46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357E-769E-4E23-AF91-67DBD022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D73D-39C5-42D8-A497-D97F6AA8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B503-F257-406E-9D09-58152062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10CA-ACB3-4ED4-B21B-70B1E333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2C48-AC51-4B97-8ACE-ED7B7E96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F4E-A8F2-48AD-8103-FC0AECFD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101-A8D8-4646-BB38-968BA98C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5C1-4B18-488D-B781-D864D7F6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4D2-DE9D-4DB4-88E5-5D559CAE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CDF-B972-4AB1-A145-7AC25FF4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6C6-9C85-4A83-AA24-D066557C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511E-C334-44C3-9B12-36CD28218D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8078-8F6F-4263-B0C7-8D4D464F09E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0B12-7053-4205-A5D1-966AFCAA6AF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9280" y="907920"/>
            <a:ext cx="937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勤奋号客轮驶向丰收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71840" y="2349360"/>
            <a:ext cx="459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为期末考试加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6680" y="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高二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班主题班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9160" y="838080"/>
            <a:ext cx="109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对搞科学的人来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勤奋就是成功之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73280" y="3352680"/>
            <a:ext cx="268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竺可桢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袁隆平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邓稼先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茅以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57913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98640" y="57150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ungsuh"/>
                <a:ea typeface="Gungsuh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2120" y="6094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社会主义制度的建立给我们       开辟了一条到达理想境界的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路，而理想境界的实现还要靠我们的辛勤劳动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14960" y="3733920"/>
            <a:ext cx="239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毛泽东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邓小平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江泽民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胡锦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57913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67760" y="571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ungsuhChe"/>
                <a:ea typeface="GungsuhChe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314800" y="422280"/>
            <a:ext cx="4874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人的天赋就像火花，它既可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熄灭，也可以燃烧起来，而迫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它燃成熊熊大火的方法只有一个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就是劳动，再劳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70880" y="3341520"/>
            <a:ext cx="239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列宁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普希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高尔基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托尔斯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57913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31400" y="571500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ungsuh"/>
                <a:ea typeface="Gungsuh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0" t="3035" r="0" b="0"/>
          <a:stretch/>
        </p:blipFill>
        <p:spPr>
          <a:xfrm>
            <a:off x="152280" y="1981080"/>
            <a:ext cx="8763120" cy="4876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276720" y="2133720"/>
            <a:ext cx="2666880" cy="685800"/>
          </a:xfrm>
          <a:prstGeom prst="flowChartPredefined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中华勤学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0"/>
            <a:ext cx="1905120" cy="1143000"/>
          </a:xfrm>
          <a:prstGeom prst="horizontalScroll">
            <a:avLst>
              <a:gd name="adj" fmla="val 125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重温典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隶书"/>
              </a:rPr>
              <a:t>勤学是中华民族的传统美德，许多勤学的典故流传至今。以下典故你能不能说一说呢？只要把古人读书的情态描绘出来就有奖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9907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苏秦，战国初期洛阳人。他自幼勤学苦读，当他读书读到昏昏欲睡时，就拿锥子扎自己的大腿，用疼痛来提醒自己继续读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685800"/>
            <a:ext cx="5105160" cy="152388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苏秦锥刺股苦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2971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孙敬，字文宝，汉代信都人。据说，他晚上念书时把头发用带子系到房梁上，一打瞌睡，头一低，揪得头皮疼，他就醒过来了，继续念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762120"/>
            <a:ext cx="5105160" cy="152388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孙敬“头悬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3124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幼圆"/>
              </a:rPr>
              <a:t>西汉有个叫匡衡的人，他小时侯家境贫寒，连灯也没有。晚上为了读书，他凿通了邻居家的墙，借着偷来的一屡烛光读书，后来终于有所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8800" y="685800"/>
            <a:ext cx="5105520" cy="152388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匡衡凿壁偷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3048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990033"/>
                </a:solidFill>
                <a:latin typeface="华文中宋"/>
                <a:ea typeface="华文中宋"/>
              </a:rPr>
              <a:t>传说李白小时侯不用功。有一天，他在路上看见一位老奶奶在磨铁棒说要把它磨成针。李白深受感动，从此发奋苦读，成为千古诗</a:t>
            </a:r>
            <a:r>
              <a:rPr b="1" lang="zh-CN" sz="3600" spc="-1" strike="noStrike">
                <a:solidFill>
                  <a:srgbClr val="990033"/>
                </a:solidFill>
                <a:latin typeface="宋体"/>
              </a:rPr>
              <a:t>仙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609480"/>
            <a:ext cx="6172200" cy="152424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李白“铁杵磨成针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38080" y="2590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隶书"/>
              </a:rPr>
              <a:t>晋代的车胤自幼家贫，没钱买灯油，而又想晚上读书，便在夏天的晚上抓一把萤火虫放进袋子里，利用萤火虫的微弱灯光来读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762120"/>
            <a:ext cx="5105160" cy="137160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车胤囊萤照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066680" y="2971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孙康，南朝人，家贫穷，夜晚没有照明的工具，他就跑到寒冷的屋外，利用雪地反射的光亮坚持夜读，后来成为名重一时的大学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838080"/>
            <a:ext cx="5105520" cy="137160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孙康雪地夜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126040" y="1981080"/>
            <a:ext cx="401796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438280" y="533520"/>
            <a:ext cx="5867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牛顿的忘我境界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00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0"/>
            <a:ext cx="1752480" cy="1752480"/>
          </a:xfrm>
          <a:prstGeom prst="irregularSeal1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40402"/>
                </a:solidFill>
                <a:latin typeface="Times New Roman"/>
                <a:ea typeface="方正舒体"/>
              </a:rPr>
              <a:t>听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038480"/>
            <a:ext cx="480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宋体-方正超大字符集"/>
              </a:rPr>
              <a:t>表演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宋体-方正超大字符集"/>
              </a:rPr>
              <a:t>        </a:t>
            </a: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宋体-方正超大字符集"/>
              </a:rPr>
              <a:t>周敬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53352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谈谈你的期末考目标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-619560" y="533520"/>
            <a:ext cx="2191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9966"/>
                </a:solidFill>
                <a:latin typeface="Times New Roman"/>
                <a:ea typeface="华文行楷"/>
              </a:rPr>
              <a:t>老师来说几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907360" y="457200"/>
            <a:ext cx="3868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把握生命里的每一分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和亲爱的朋友热情相拥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不经历风雨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怎么见彩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没有人能随随便便成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79440" y="108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52280"/>
            <a:ext cx="1447920" cy="1295640"/>
          </a:xfrm>
          <a:prstGeom prst="flowChartMagneticTape">
            <a:avLst/>
          </a:prstGeom>
          <a:solidFill>
            <a:srgbClr val="d2a5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小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9320" y="990720"/>
            <a:ext cx="48765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老板的测试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"/>
          <p:cNvSpPr/>
          <p:nvPr/>
        </p:nvSpPr>
        <p:spPr>
          <a:xfrm>
            <a:off x="593640" y="3909960"/>
            <a:ext cx="7483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编剧</a:t>
            </a: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导演：周靖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表演：罗钊辉  何剑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黄羽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旁白：周靖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228600"/>
            <a:ext cx="2133720" cy="1143000"/>
          </a:xfrm>
          <a:prstGeom prst="cloudCallout">
            <a:avLst>
              <a:gd name="adj1" fmla="val -73662"/>
              <a:gd name="adj2" fmla="val 9402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2096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古今中外，许多名人说过很多关于“勤奋”的金玉良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这些话语至今仍然熠熠发光，激励着一代又一代的后来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你知道以下的名言出自谁人之口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41008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注意：要在主持人说了“开始抢答”之后才       能举手，抢先举手的作废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01520" y="892080"/>
            <a:ext cx="5389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天才是百分之一的灵感加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百分之九十九的汗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89560" y="2838600"/>
            <a:ext cx="258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爱迪生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爱因斯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牛顿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诺贝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58672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0760" y="576432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761560" y="968400"/>
            <a:ext cx="109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业精于勤，荒于嬉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行成于思，毁于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96840" y="3111480"/>
            <a:ext cx="243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柳宗元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苏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韩愈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王安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57913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98240" y="574056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1600200"/>
            <a:ext cx="1099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黑发不知勤学早，白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方悔读书迟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43560" y="3645000"/>
            <a:ext cx="239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王羲之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颜真卿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陶渊明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58672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02320" y="5791320"/>
            <a:ext cx="54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77200" y="728640"/>
            <a:ext cx="2617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勤能补拙是良训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分辛劳一分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70160" y="2730600"/>
            <a:ext cx="214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苏步青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华罗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陈景润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陈建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57150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480" y="5638680"/>
            <a:ext cx="6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205520" y="990720"/>
            <a:ext cx="95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天资的充分发挥和个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勤学苦练是成正比例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39840" y="2971800"/>
            <a:ext cx="243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茅盾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巴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老舍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郭沫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53341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08040" y="5181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ngsuhChe"/>
                <a:ea typeface="GungsuhChe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4:38:3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7:03Z</dcterms:modified>
  <cp:revision>2</cp:revision>
  <dc:subject>主题班会课件(分28大类): http://shop62905894.taobao.com</dc:subject>
  <dc:title>主题班会课件(分28大类): http://shop62905894.taobao.com</dc:title>
</cp:coreProperties>
</file>